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0D6AE-EC79-42F7-A9D9-FB9B5EBCAF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657E1-6C91-473C-8F5C-4581B154D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E7109-EB4C-4440-92E1-7AB6E3F30F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LWHAs are worried about stigma and discrimination, they may also delay seeking early treatment (e.g., cotrimoxazole prophylaxis, TB diagnosis) because they worry about facing stigma in the health set-up. Seeking treatment at later stages of illness places more financial and care burden on the family and the individual. It also makes treating OIs more difficul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0CC9-A7A4-4EBF-90A9-CDFCF2A3C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stigma and discrimination, then the community might not engage in prevention activities.  The ICTC is often the first encounter site for PLWHAs with the health system. It is our attitudes here that will convince them whether to get tested or not, and whether to get treated or no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8DF03-C96B-49DB-8D40-16B116954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ome of you have pointed out, some reasons why discrimination and stigma occur is because people are naturally afraid of getting HIV infection themselves. They don’t know how badly stigma affects the stigmatised person. Also they may have many misconcep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D0F92-305B-481C-A91E-2875DF0A7E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ff in hospitals may wrongly believe that by labelling the PLWHA they will be able to take special precautions against getting infected themselves. But this is not going to be an effective solution because among the patients in the wards and out-patient departments, there might be people who are in the window period - that is people who were recently infected but who have not developed antibodies yet. The only way to be sure that we are keeping ourselves safe from infection is to practise the same biosafety measures with ALL clients. This is called Universal Safety Precautions. We will not be talking about this in detail in this workshop. But we recommend that you consult your workshop materials for more informa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457F1-762E-4503-A41B-4B5032FB0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CTC Operational Guidelines require the following precautions in the blood collection room and the laboratory – 2 places where a Health Care Personnel may be exposed to HIV-infected blood: gloves, using disposable syringes, hand-washing and safe disposal of sharps, e.g., discard disposable syringes in a puncture-resistant container after disinfection with bleach solu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AE572-D09B-4A8D-8430-8E309B810B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CTC Operational Guidelines also give some information about disinfection and sterilisation of instruments, and of waste management. Each ICTC should also receive a supply of kits for safe delivery of HIV-positive pregnant wom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FEE28-8B8B-4FE3-83BB-A0DA4BDE7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s of the supplies for Universal Safety Precautions such as gloves and pregnancy kits should also be maintained in the Stock register by the testing personne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E1949-2CAC-4F74-B946-5C21661DC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despite the best of efforts, health care personnel get exposed to infection in the course of their duty. While there is no vaccine against AIDS, there is a possibility of reducing the likelihood of being infected after exposure. This is called Post-Exposure Prophylaxis.  Basically it consists of taking anti-retroviral drugs in a specific combination within 2 hours of exposure. The upper limit is 72 hour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31EFD-D62A-4255-920A-3BEE572FD6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steps in the NACO Policy on PEP. It includes first aid, counselling and laboratory investigations. It is important to note who is in charge of Post-Exposure Prophylaxis in your centre. Do you know who it is? If you do, please note their name in your list of Common Contacts in your handbook. If you do not know, you should find out. You can also display this information on your ICTC noticeboard so that it is easy to locat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A111F-4CDF-4082-A6AD-F830EB6493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ajor problems related to HIV/AIDS is stigma and discrimination. This is related to the fact that HIV/AIDS was first observed among groups whose behaviours we traditionally stigmatise or look down on such as gay people. From treating people as different from us, it is easy to blame them for their own behaviour, and to justify when we treat them in unfair way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58770-A673-4A3F-B034-8DAE96AFF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gma related to HIV/AIDS means setting PLWHAs apart from our communities because of this negative characteristic, that is because they have AIDS. We also associate PLWHAs with indiscriminate sex and irresponsible or immoral behaviour. We believe they are different from u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5E835-6909-43F1-905A-1349940E2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rimination or treating PLWHAs unfairly or differently is the next step. Once we set people aside, it is easy to treat them differently. It is important to note that even if a person feels stigma towards another, she /he can decide to not act in a way that is unfair or discrimina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way of remembering these concepts is Stigma is our attitude, our mental thought pattern, and discrimination is our behaviou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C581-EF68-45CC-BB32-E2D60DFC31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examples of stigma and discrimination in the hospital. When we think of discrimination, we think of people being fired from a job. But discrimination is of two types. Some are specific discriminatory actions like firing someone because they test positive for HIV on a routine workplace health check-up. Some are omissions such as delay in treating a person with HIV infection or changing a planned surgery when the person tests positive for HIV infection. Besides the things mentioned on this table, have you heard of any oth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4E7C7-F91B-4FA5-8BD1-86CFC94FEC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lace where Health Care Personnel at the ICTC might display discriminatory behaviour is in the matter of obtaining informed consent. Here are the conditions for informed consent as noted in the Operational Guidel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trainees time to read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at it is important to make sure that clients at the ICTC understand what the test is about and the testing process, before obtaining consent – that is Consent or saying Yes is informed or fully explained and understoo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D79BC-8A15-4264-8E85-5163165814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mmon question is how does provider initiated testing and counselling differ from mandatory testing of all patients in a health facility such as before surgery?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ow time for trainees to give the answ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Mandatory or universal testing for screening purposes is a stigmatizing and discriminatory practice of universal HIV testing. For instance, we may ask all pre-surgery patients to be tested for HIV not so much to provide clinical services to the patient but to take extra protective actions such as double gloving or to deny services. There is a difference between such testing and Provider-initiated test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iority of Provider-initiated testing is to ensure that people who are most at risk have a chance to find out their sero-status. Universal testing for screening is done for the convenience of physicians who may falsely believe that they can protect themselves and their staff by taking special precautions with HIV-positive patients, or even denying services to HIV-positive patients. HCP may become more relaxed with HIV-negative patients not realizing that the person may be in the window period.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Such universal testing for the purposes of screening violates the principle of informed consent because such testing does not respect the patient’s right to “opt-out” from the testing process. Often it is unaccompanied by counselling and informed consent. Also, it will overwhelm the testing facilities and might mean that people who are actually infected experience a delay in knowing they are HIV infected, and in then seeking treatment. Apart from this is the legal and ethical issue of subjecting people to unnecessary medical procedur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ontrast, Provider-initiated testing involves a routine offer to test, and offers the option to say no to being tested. It is not mandato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Mandatory testing for the purposes of screening will involve testing all patients. The mandate of the ICTC is NOT to test all people in the population. Provider-initiated testing and counselling involves a routine offer of counselling to people who are more vulnerable to HIV or who practise risk behaviou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CO does not promote nor approve mandatory or compulsory testing  of HIV.</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9B629-9B40-433B-A390-7B66F3550C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seen this slide before. It shows that there is a relation between prevention and care activities. There is a connection or a continuum between them. Prevention activities reduce the number of people infected and in turn reduce the need for future care. On the other hand, knowing that there are care and support activities, on the other hand, make HIV/AIDS visible in the community. Communities become more aware of the disease and individuals become more likely to take protective and preventive behaviour, as well as to go for testing.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94535-7040-438A-9837-40EDA066F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en there is stigma and discrimination, this affects this continuum. For instance, when there is a stigma associated with the illness, people who have risk behaviour try to avoid their personal worry by pointing to “other” groups instead of examining their own risky activities. They may delay going for an HIV test and this will lead to a delay in protective behaviours such as using a condom in all sexual encounters. These delays put the individual (and their sexual partners) at greater risk.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AD01C-0D99-4370-8893-EC38ED6F2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83FD3-C6FF-4B8D-9CF2-BE6E82B51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8AFD5-6036-4295-AAD7-4E6E63E0E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EDC93-8015-4747-8FF5-1556953AE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CEDF44-C84C-4F21-8338-DABEF09A19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54D99F-E81D-4E7A-A3A5-2AE09EEBA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E7DD71-E65B-418D-BB78-580C2DB3D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E2C6A-9C59-4BD0-A561-BFEB811A6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45945-19F8-4C60-A1F0-7A421C9E0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3794E-6F56-4F3C-AE7D-75EEED08D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6A1DA-C4C3-4295-AE08-389AA12E0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DEBAF-BE96-467E-9AE7-D423E50FA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CB3D9-D4F0-498B-8D72-ED254CAD8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B0D6C-2220-4041-B734-6CBCA4B97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975A0-5012-4C09-9682-0012B2F09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4CC6F1-D133-48FE-B1A7-49AF986872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54042A-141D-40BC-9B00-E4199B953E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601D4-C1CE-4D0B-BCC3-6D85E2EAD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439C8-EC98-48A2-90E1-3D88AAEAF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A5FA3-220E-48E0-9DA6-B956025D0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32F07-71FE-495A-9BF7-E84BD7C88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030B6-A450-4801-9851-D3C87A26B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7C02A-DA44-4BDA-A52C-2C4E8AEE8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7B541-A3FE-428C-AC6E-56E1F99FB2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AutoShape 8"/>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CTC Team Training</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6B48A-D801-49F4-8F4E-10DD881894A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CTC Team Training</a:t>
            </a:r>
            <a:endParaRPr b="0" lang="en-US" sz="1400" spc="-1" strike="noStrike">
              <a:solidFill>
                <a:srgbClr val="000000"/>
              </a:solidFill>
              <a:latin typeface="Times New Roman"/>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FB326-A286-4916-8E7F-5507F1930FC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0"/>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03" name="Rectangle 11"/>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347FC-024A-4CB1-A698-A0C82FD4C10B}"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04"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derstanding Stigma and Discrimination</a:t>
            </a:r>
            <a:r>
              <a:rPr b="1" lang="en-US" sz="3600" spc="-1" strike="noStrike">
                <a:solidFill>
                  <a:srgbClr val="000000"/>
                </a:solidFill>
                <a:latin typeface="Arial"/>
              </a:rPr>
              <a:t> </a:t>
            </a:r>
            <a:endParaRPr b="1" lang="en-US" sz="3600" spc="-1" strike="noStrike">
              <a:solidFill>
                <a:srgbClr val="9900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3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2C88E-24BF-46AC-A2CA-5F7821B2A52C}"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ontinuum between Care and Prevention – Effect of Stigma</a:t>
            </a:r>
            <a:endParaRPr b="1" lang="en-US" sz="3200" spc="-1" strike="noStrike">
              <a:solidFill>
                <a:srgbClr val="9900cc"/>
              </a:solidFill>
              <a:latin typeface="Arial"/>
            </a:endParaRPr>
          </a:p>
        </p:txBody>
      </p:sp>
      <p:pic>
        <p:nvPicPr>
          <p:cNvPr id="138" name="Picture 23" descr="cont-stig2"/>
          <p:cNvPicPr/>
          <p:nvPr/>
        </p:nvPicPr>
        <p:blipFill>
          <a:blip r:embed="rId1"/>
          <a:stretch/>
        </p:blipFill>
        <p:spPr>
          <a:xfrm>
            <a:off x="2819520" y="1981080"/>
            <a:ext cx="4800600" cy="391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4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DABDA-1992-4C0C-9602-E070F9AF112D}"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4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ontinuum between Care and Prevention – Effect of Stigma</a:t>
            </a:r>
            <a:endParaRPr b="1" lang="en-US" sz="3200" spc="-1" strike="noStrike">
              <a:solidFill>
                <a:srgbClr val="9900cc"/>
              </a:solidFill>
              <a:latin typeface="Arial"/>
            </a:endParaRPr>
          </a:p>
        </p:txBody>
      </p:sp>
      <p:pic>
        <p:nvPicPr>
          <p:cNvPr id="142" name="Picture 24" descr="cont-stig3"/>
          <p:cNvPicPr/>
          <p:nvPr/>
        </p:nvPicPr>
        <p:blipFill>
          <a:blip r:embed="rId1"/>
          <a:stretch/>
        </p:blipFill>
        <p:spPr>
          <a:xfrm>
            <a:off x="2514600" y="1981080"/>
            <a:ext cx="5065560" cy="413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4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F390F-26F2-41D1-A322-21956772F46B}"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4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Arial"/>
              </a:rPr>
              <a:t>Why do we stigmatise and discriminate?</a:t>
            </a:r>
            <a:endParaRPr b="1" lang="en-US" sz="3200" spc="-1" strike="noStrike">
              <a:solidFill>
                <a:srgbClr val="9900cc"/>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awareness of how stigma affects People Living with HIV/AID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of human beings of being infected from ordinary contact with people already infected with HIV</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ing people with HIV with behaviours that are immor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4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BEE22-D63E-4CFF-9CB2-0ECD23F3B76F}"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4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Universal Safety Precautions</a:t>
            </a:r>
            <a:endParaRPr b="1" lang="en-US" sz="3200" spc="-1" strike="noStrike">
              <a:solidFill>
                <a:srgbClr val="9900cc"/>
              </a:solidFill>
              <a:latin typeface="Arial"/>
            </a:endParaRPr>
          </a:p>
        </p:txBody>
      </p:sp>
      <p:sp>
        <p:nvSpPr>
          <p:cNvPr id="15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reduction measure at the workplac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sing Universal Safety Precautions means applying blood and body-fluid precautions universally to all persons regardless of their presumed infectious statu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5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0D92B-2DEE-40C2-910B-E85CA045E0AD}"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5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Universal Safety Precautions</a:t>
            </a:r>
            <a:endParaRPr b="1" lang="en-US" sz="3200" spc="-1" strike="noStrike">
              <a:solidFill>
                <a:srgbClr val="9900cc"/>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anchor="t">
            <a:normAutofit/>
          </a:bodyPr>
          <a:p>
            <a:pPr marL="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working in the blood collection room and laboratory should observe the following precautions:</a:t>
            </a:r>
            <a:endParaRPr b="0" lang="en-US" sz="2400" spc="-1" strike="noStrike">
              <a:solidFill>
                <a:srgbClr val="000000"/>
              </a:solidFill>
              <a:latin typeface="Arial"/>
            </a:endParaRPr>
          </a:p>
          <a:p>
            <a:pPr marL="3240" indent="-324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gloves when handling blood samples</a:t>
            </a:r>
            <a:endParaRPr b="0" lang="en-US" sz="2400" spc="-1" strike="noStrike">
              <a:solidFill>
                <a:srgbClr val="000000"/>
              </a:solidFill>
              <a:latin typeface="Arial"/>
            </a:endParaRPr>
          </a:p>
          <a:p>
            <a:pPr marL="3240" indent="-324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isposable needles and syringes for drawing blood</a:t>
            </a:r>
            <a:endParaRPr b="0" lang="en-US" sz="2400" spc="-1" strike="noStrike">
              <a:solidFill>
                <a:srgbClr val="000000"/>
              </a:solidFill>
              <a:latin typeface="Arial"/>
            </a:endParaRPr>
          </a:p>
          <a:p>
            <a:pPr marL="3240" indent="-324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sing routine hand-washing before and after any contact with blood samples</a:t>
            </a:r>
            <a:endParaRPr b="0" lang="en-US" sz="2400" spc="-1" strike="noStrike">
              <a:solidFill>
                <a:srgbClr val="000000"/>
              </a:solidFill>
              <a:latin typeface="Arial"/>
            </a:endParaRPr>
          </a:p>
          <a:p>
            <a:pPr marL="3240" indent="-324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sing of sharp instruments safely as per procedure, e.g., discard disposable syringes in a puncture-resistant container after disinfection with bleach solu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5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689DC-52C3-4090-BF2A-38E3D9A98A47}"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5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Universal Safety Precautions</a:t>
            </a:r>
            <a:endParaRPr b="1" lang="en-US" sz="3200" spc="-1" strike="noStrike">
              <a:solidFill>
                <a:srgbClr val="9900cc"/>
              </a:solidFill>
              <a:latin typeface="Arial"/>
            </a:endParaRPr>
          </a:p>
        </p:txBody>
      </p:sp>
      <p:sp>
        <p:nvSpPr>
          <p:cNvPr id="15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infection and sterilisation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ts for safe delivery of HIV-positive pregnant female patient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te manage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60"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7E1DD-551A-475E-A984-C1929FC71E28}"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pic>
        <p:nvPicPr>
          <p:cNvPr id="161" name="Picture 5" descr="Stock Register for ICTC"/>
          <p:cNvPicPr/>
          <p:nvPr/>
        </p:nvPicPr>
        <p:blipFill>
          <a:blip r:embed="rId1"/>
          <a:stretch/>
        </p:blipFill>
        <p:spPr>
          <a:xfrm>
            <a:off x="1447920" y="304920"/>
            <a:ext cx="4705200" cy="608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6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563DD-BF8B-4369-B26E-AF93C452545E}"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Post Exposure Prophylaxis (PEP)</a:t>
            </a:r>
            <a:endParaRPr b="1" lang="en-US" sz="3200" spc="-1" strike="noStrike">
              <a:solidFill>
                <a:srgbClr val="9900cc"/>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hensive medical management to minimise the risk of infection among HCP following potential exposure to blood-borne pathogens (HIV, HBV, HCV).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counselling, risk assessment, relevant laboratory investigations, first aid and provision of antiretroviral dru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NACO Policy on Post Exposure Prophylaxis (PEP)</a:t>
            </a:r>
            <a:endParaRPr b="1" lang="en-US" sz="3200" spc="-1" strike="noStrike">
              <a:solidFill>
                <a:srgbClr val="9900cc"/>
              </a:solidFill>
              <a:latin typeface="Arial"/>
            </a:endParaRPr>
          </a:p>
        </p:txBody>
      </p:sp>
      <p:sp>
        <p:nvSpPr>
          <p:cNvPr id="167" name=""/>
          <p:cNvSpPr txBox="1"/>
          <p:nvPr/>
        </p:nvSpPr>
        <p:spPr>
          <a:xfrm>
            <a:off x="837720" y="2361960"/>
            <a:ext cx="3770280" cy="3724200"/>
          </a:xfrm>
          <a:prstGeom prst="rect">
            <a:avLst/>
          </a:prstGeom>
          <a:noFill/>
          <a:ln w="0">
            <a:noFill/>
          </a:ln>
        </p:spPr>
        <p:txBody>
          <a:bodyPr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a:t>
            </a:r>
            <a:r>
              <a:rPr b="0" lang="en-US" sz="2000" spc="-1" strike="noStrike">
                <a:solidFill>
                  <a:srgbClr val="000000"/>
                </a:solidFill>
                <a:latin typeface="Arial"/>
              </a:rPr>
              <a:t>: First aid in management of exposure </a:t>
            </a:r>
            <a:endParaRPr b="0" lang="en-US" sz="2000" spc="-1" strike="noStrike">
              <a:solidFill>
                <a:srgbClr val="000000"/>
              </a:solidFill>
              <a:latin typeface="Arial"/>
            </a:endParaRPr>
          </a:p>
          <a:p>
            <a:pPr lvl="1" marL="743040" indent="-28584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kin</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eye</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mouth</a:t>
            </a:r>
            <a:endParaRPr b="0" lang="en-US" sz="1800" spc="-1" strike="noStrike">
              <a:solidFill>
                <a:srgbClr val="000000"/>
              </a:solidFill>
              <a:latin typeface="Arial"/>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a:t>
            </a:r>
            <a:r>
              <a:rPr b="0" lang="en-US" sz="2000" spc="-1" strike="noStrike">
                <a:solidFill>
                  <a:srgbClr val="000000"/>
                </a:solidFill>
                <a:latin typeface="Arial"/>
              </a:rPr>
              <a:t>: Establish eligibility for PEP</a:t>
            </a:r>
            <a:endParaRPr b="0" lang="en-US" sz="2000" spc="-1" strike="noStrike">
              <a:solidFill>
                <a:srgbClr val="000000"/>
              </a:solidFill>
              <a:latin typeface="Arial"/>
            </a:endParaRPr>
          </a:p>
          <a:p>
            <a:pPr lvl="1" marL="743040" indent="-28584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PEP dose within 72 hours</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risk of transmission</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 exposed individual</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txBox="1"/>
          <p:nvPr/>
        </p:nvSpPr>
        <p:spPr>
          <a:xfrm>
            <a:off x="4760640" y="2361960"/>
            <a:ext cx="3770280" cy="3724200"/>
          </a:xfrm>
          <a:prstGeom prst="rect">
            <a:avLst/>
          </a:prstGeom>
          <a:noFill/>
          <a:ln w="0">
            <a:noFill/>
          </a:ln>
        </p:spPr>
        <p:txBody>
          <a:bodyPr anchor="t">
            <a:normAutofit fontScale="99000"/>
          </a:bodyPr>
          <a:p>
            <a:pPr marL="339480" indent="-3394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3</a:t>
            </a:r>
            <a:r>
              <a:rPr b="0" lang="en-US" sz="2000" spc="-1" strike="noStrike">
                <a:solidFill>
                  <a:srgbClr val="000000"/>
                </a:solidFill>
                <a:latin typeface="Arial"/>
              </a:rPr>
              <a:t>: Counselling for PEP</a:t>
            </a:r>
            <a:endParaRPr b="0" lang="en-US" sz="2000" spc="-1" strike="noStrike">
              <a:solidFill>
                <a:srgbClr val="000000"/>
              </a:solidFill>
              <a:latin typeface="Arial"/>
            </a:endParaRPr>
          </a:p>
          <a:p>
            <a:pPr lvl="1" marL="735480" indent="-28296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ychological support</a:t>
            </a:r>
            <a:endParaRPr b="0" lang="en-US" sz="1800" spc="-1" strike="noStrike">
              <a:solidFill>
                <a:srgbClr val="000000"/>
              </a:solidFill>
              <a:latin typeface="Arial"/>
            </a:endParaRPr>
          </a:p>
          <a:p>
            <a:pPr lvl="1" marL="735480" indent="-28296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exposure </a:t>
            </a:r>
            <a:endParaRPr b="0" lang="en-US" sz="1800" spc="-1" strike="noStrike">
              <a:solidFill>
                <a:srgbClr val="000000"/>
              </a:solidFill>
              <a:latin typeface="Arial"/>
            </a:endParaRPr>
          </a:p>
          <a:p>
            <a:pPr lvl="1" marL="735480" indent="-28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4</a:t>
            </a:r>
            <a:r>
              <a:rPr b="0" lang="en-US" sz="2000" spc="-1" strike="noStrike">
                <a:solidFill>
                  <a:srgbClr val="000000"/>
                </a:solidFill>
                <a:latin typeface="Arial"/>
              </a:rPr>
              <a:t>: Prescribe PEP</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5</a:t>
            </a:r>
            <a:r>
              <a:rPr b="0" lang="en-US" sz="2000" spc="-1" strike="noStrike">
                <a:solidFill>
                  <a:srgbClr val="000000"/>
                </a:solidFill>
                <a:latin typeface="Arial"/>
              </a:rPr>
              <a:t>: HIV chemoprophylaxis</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6</a:t>
            </a:r>
            <a:r>
              <a:rPr b="0" lang="en-US" sz="2000" spc="-1" strike="noStrike">
                <a:solidFill>
                  <a:srgbClr val="000000"/>
                </a:solidFill>
                <a:latin typeface="Arial"/>
              </a:rPr>
              <a:t>:  Follow-up of an exposed person </a:t>
            </a:r>
            <a:endParaRPr b="0" lang="en-US" sz="2000" spc="-1" strike="noStrike">
              <a:solidFill>
                <a:srgbClr val="000000"/>
              </a:solidFill>
              <a:latin typeface="Arial"/>
            </a:endParaRPr>
          </a:p>
          <a:p>
            <a:pPr lvl="1" marL="735480" indent="-28296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al follow-up</a:t>
            </a:r>
            <a:endParaRPr b="0" lang="en-US" sz="1800" spc="-1" strike="noStrike">
              <a:solidFill>
                <a:srgbClr val="000000"/>
              </a:solidFill>
              <a:latin typeface="Arial"/>
            </a:endParaRPr>
          </a:p>
          <a:p>
            <a:pPr lvl="1" marL="735480" indent="-28296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y follow-up</a:t>
            </a:r>
            <a:endParaRPr b="0" lang="en-US" sz="1800" spc="-1" strike="noStrike">
              <a:solidFill>
                <a:srgbClr val="000000"/>
              </a:solidFill>
              <a:latin typeface="Arial"/>
            </a:endParaRPr>
          </a:p>
        </p:txBody>
      </p:sp>
      <p:sp>
        <p:nvSpPr>
          <p:cNvPr id="169"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7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FC4CD-AD01-480C-A484-74487FBC4D77}"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0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19191-34C0-4656-A242-1D944E74479F}"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lvl="1" marL="236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often view AIDS as something that can affect other people, people who are different from us, people who lead perverted or sinful lives. </a:t>
            </a:r>
            <a:endParaRPr b="0" lang="en-US" sz="2800" spc="-1" strike="noStrike">
              <a:solidFill>
                <a:srgbClr val="000000"/>
              </a:solidFill>
              <a:latin typeface="Arial"/>
            </a:endParaRPr>
          </a:p>
          <a:p>
            <a:pPr lvl="1" marL="236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36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here it is a short step to blaming People with AIDS for their own condition.</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0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A6E8D-2D94-46D9-8ECB-72C1D215F166}"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tigma</a:t>
            </a:r>
            <a:endParaRPr b="1" lang="en-US" sz="3600" spc="-1" strike="noStrike">
              <a:solidFill>
                <a:srgbClr val="9900cc"/>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fontScale="96000"/>
          </a:bodyPr>
          <a:p>
            <a:pPr marL="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etting aside certain persons or groups from the normal social order because they have some negative characteristic.”</a:t>
            </a:r>
            <a:endParaRPr b="0" lang="en-US" sz="2800" spc="-1" strike="noStrike">
              <a:solidFill>
                <a:srgbClr val="000000"/>
              </a:solidFill>
              <a:latin typeface="Arial"/>
            </a:endParaRPr>
          </a:p>
          <a:p>
            <a:pPr marL="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 indent="-28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devalue them </a:t>
            </a:r>
            <a:endParaRPr b="0" lang="en-US" sz="2800" spc="-1" strike="noStrike">
              <a:solidFill>
                <a:srgbClr val="000000"/>
              </a:solidFill>
              <a:latin typeface="Arial"/>
            </a:endParaRPr>
          </a:p>
          <a:p>
            <a:pPr marL="2880" indent="-28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do this because we believe they are very different from u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1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55B1E-B4C3-4816-9BA1-377A3618F43F}"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Discrimination </a:t>
            </a:r>
            <a:endParaRPr b="1" lang="en-US" sz="3600" spc="-1" strike="noStrike">
              <a:solidFill>
                <a:srgbClr val="9900cc"/>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unfair and unjust treatment of an individual based on his or her real or perceived HIV status.” </a:t>
            </a:r>
            <a:endParaRPr b="0" lang="en-US" sz="2400" spc="-1" strike="noStrike">
              <a:solidFill>
                <a:srgbClr val="000000"/>
              </a:solidFill>
              <a:latin typeface="Arial"/>
            </a:endParaRPr>
          </a:p>
          <a:p>
            <a:pPr marL="3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32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et aside people or stigmatise them, it is easier to treat them differently. </a:t>
            </a:r>
            <a:endParaRPr b="0" lang="en-US" sz="2400" spc="-1" strike="noStrike">
              <a:solidFill>
                <a:srgbClr val="000000"/>
              </a:solidFill>
              <a:latin typeface="Arial"/>
            </a:endParaRPr>
          </a:p>
          <a:p>
            <a:pPr marL="3240" indent="-32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erson feels stigma towards another, she /he can decide to not act in a way that is unfair or discriminatory.</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1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7AE6D-A8C6-4152-84C7-EBF837E37604}"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graphicFrame>
        <p:nvGraphicFramePr>
          <p:cNvPr id="118" name=""/>
          <p:cNvGraphicFramePr/>
          <p:nvPr/>
        </p:nvGraphicFramePr>
        <p:xfrm>
          <a:off x="838080" y="838080"/>
          <a:ext cx="7693200" cy="5715000"/>
        </p:xfrm>
        <a:graphic>
          <a:graphicData uri="http://schemas.openxmlformats.org/drawingml/2006/table">
            <a:tbl>
              <a:tblPr/>
              <a:tblGrid>
                <a:gridCol w="3846600"/>
                <a:gridCol w="3846600"/>
              </a:tblGrid>
              <a:tr h="954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DISCRIMINA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DDEN DISCRIMIN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60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usal to provide treatment for HIV/AIDS-related illness</a:t>
                      </a:r>
                      <a:endParaRPr b="0" lang="en-US" sz="1200" spc="-1" strike="noStrike">
                        <a:solidFill>
                          <a:srgbClr val="000000"/>
                        </a:solidFill>
                        <a:latin typeface="Arial"/>
                      </a:endParaRPr>
                    </a:p>
                    <a:p>
                      <a:pPr>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usal to admit for hospital care/treatment</a:t>
                      </a:r>
                      <a:endParaRPr b="0" lang="en-US" sz="1200" spc="-1" strike="noStrike">
                        <a:solidFill>
                          <a:srgbClr val="000000"/>
                        </a:solidFill>
                        <a:latin typeface="Arial"/>
                      </a:endParaRPr>
                    </a:p>
                    <a:p>
                      <a:pPr>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usal to operate or assist in clinical procedures</a:t>
                      </a:r>
                      <a:endParaRPr b="0" lang="en-US" sz="1200" spc="-1" strike="noStrike">
                        <a:solidFill>
                          <a:srgbClr val="000000"/>
                        </a:solidFill>
                        <a:latin typeface="Arial"/>
                      </a:endParaRPr>
                    </a:p>
                    <a:p>
                      <a:pPr>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ricted access to facilities like toilets and common eating and drinking utensils</a:t>
                      </a:r>
                      <a:endParaRPr b="0" lang="en-US" sz="1200" spc="-1" strike="noStrike">
                        <a:solidFill>
                          <a:srgbClr val="000000"/>
                        </a:solidFill>
                        <a:latin typeface="Arial"/>
                      </a:endParaRPr>
                    </a:p>
                    <a:p>
                      <a:pPr>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isolation in the ward (e.g. separate arrangements for a bed outside the ward in a gallery or corridor)</a:t>
                      </a:r>
                      <a:endParaRPr b="0" lang="en-US" sz="1200" spc="-1" strike="noStrike">
                        <a:solidFill>
                          <a:srgbClr val="000000"/>
                        </a:solidFill>
                        <a:latin typeface="Arial"/>
                      </a:endParaRPr>
                    </a:p>
                    <a:p>
                      <a:pPr>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ping ongoing treatment</a:t>
                      </a:r>
                      <a:endParaRPr b="0" lang="en-US" sz="1200" spc="-1" strike="noStrike">
                        <a:solidFill>
                          <a:srgbClr val="000000"/>
                        </a:solidFill>
                        <a:latin typeface="Arial"/>
                      </a:endParaRPr>
                    </a:p>
                    <a:p>
                      <a:pPr>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discharge from hospital</a:t>
                      </a:r>
                      <a:endParaRPr b="0" lang="en-US" sz="1200" spc="-1" strike="noStrike">
                        <a:solidFill>
                          <a:srgbClr val="000000"/>
                        </a:solidFill>
                        <a:latin typeface="Arial"/>
                      </a:endParaRPr>
                    </a:p>
                    <a:p>
                      <a:pPr>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atory testing for HIV before surgery and during pregnancy</a:t>
                      </a:r>
                      <a:endParaRPr b="0" lang="en-US" sz="1200" spc="-1" strike="noStrike">
                        <a:solidFill>
                          <a:srgbClr val="000000"/>
                        </a:solidFill>
                        <a:latin typeface="Arial"/>
                      </a:endParaRPr>
                    </a:p>
                    <a:p>
                      <a:pPr>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rictions on movement around the ward or room</a:t>
                      </a:r>
                      <a:endParaRPr b="0" lang="en-US" sz="1200" spc="-1" strike="noStrike">
                        <a:solidFill>
                          <a:srgbClr val="000000"/>
                        </a:solidFill>
                        <a:latin typeface="Arial"/>
                      </a:endParaRPr>
                    </a:p>
                    <a:p>
                      <a:pPr>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necessary use of protective gear (gowns, masks, etc.) by health care staff</a:t>
                      </a:r>
                      <a:endParaRPr b="0" lang="en-US" sz="1200" spc="-1" strike="noStrike">
                        <a:solidFill>
                          <a:srgbClr val="000000"/>
                        </a:solidFill>
                        <a:latin typeface="Arial"/>
                      </a:endParaRPr>
                    </a:p>
                    <a:p>
                      <a:pPr>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usal to lift or touch the dead body of an HIV-positive person</a:t>
                      </a:r>
                      <a:endParaRPr b="0" lang="en-US" sz="1200" spc="-1" strike="noStrike">
                        <a:solidFill>
                          <a:srgbClr val="000000"/>
                        </a:solidFill>
                        <a:latin typeface="Arial"/>
                      </a:endParaRPr>
                    </a:p>
                    <a:p>
                      <a:pPr>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plastic sheeting to wrap the dead body</a:t>
                      </a:r>
                      <a:endParaRPr b="0" lang="en-US" sz="1200" spc="-1" strike="noStrike">
                        <a:solidFill>
                          <a:srgbClr val="000000"/>
                        </a:solidFill>
                        <a:latin typeface="Arial"/>
                      </a:endParaRPr>
                    </a:p>
                    <a:p>
                      <a:pPr>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uctance to provide transport for the bod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s in treatment; slow service (e.g. made to wait in queues, asked to come again)</a:t>
                      </a:r>
                      <a:endParaRPr b="0" lang="en-US" sz="1200" spc="-1" strike="noStrike">
                        <a:solidFill>
                          <a:srgbClr val="000000"/>
                        </a:solidFill>
                        <a:latin typeface="Arial"/>
                      </a:endParaRPr>
                    </a:p>
                    <a:p>
                      <a:pPr>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uses or explanations given for non-admission (but admission not directly refused)</a:t>
                      </a:r>
                      <a:endParaRPr b="0" lang="en-US" sz="1200" spc="-1" strike="noStrike">
                        <a:solidFill>
                          <a:srgbClr val="000000"/>
                        </a:solidFill>
                        <a:latin typeface="Arial"/>
                      </a:endParaRPr>
                    </a:p>
                    <a:p>
                      <a:pPr>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unting patient between wards/doctors/hospitals</a:t>
                      </a:r>
                      <a:endParaRPr b="0" lang="en-US" sz="1200" spc="-1" strike="noStrike">
                        <a:solidFill>
                          <a:srgbClr val="000000"/>
                        </a:solidFill>
                        <a:latin typeface="Arial"/>
                      </a:endParaRPr>
                    </a:p>
                    <a:p>
                      <a:pPr>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patient under observation without any treatment plan</a:t>
                      </a:r>
                      <a:endParaRPr b="0" lang="en-US" sz="1200" spc="-1" strike="noStrike">
                        <a:solidFill>
                          <a:srgbClr val="000000"/>
                        </a:solidFill>
                        <a:latin typeface="Arial"/>
                      </a:endParaRPr>
                    </a:p>
                    <a:p>
                      <a:pPr>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poned treatment or operations</a:t>
                      </a:r>
                      <a:endParaRPr b="0" lang="en-US" sz="1200" spc="-1" strike="noStrike">
                        <a:solidFill>
                          <a:srgbClr val="000000"/>
                        </a:solidFill>
                        <a:latin typeface="Arial"/>
                      </a:endParaRPr>
                    </a:p>
                    <a:p>
                      <a:pPr>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necessarily repeated HIV tests </a:t>
                      </a:r>
                      <a:endParaRPr b="0" lang="en-US" sz="1200" spc="-1" strike="noStrike">
                        <a:solidFill>
                          <a:srgbClr val="000000"/>
                        </a:solidFill>
                        <a:latin typeface="Arial"/>
                      </a:endParaRPr>
                    </a:p>
                    <a:p>
                      <a:pPr>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al treatment (e.g. only on the condition that the patient will come for follow up or join a drug trial programm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2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C9490-3235-4FFD-A7D2-AB01E8F94D0F}"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2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Informed Consent for HIV Testing</a:t>
            </a:r>
            <a:endParaRPr b="1" lang="en-US" sz="3600" spc="-1" strike="noStrike">
              <a:solidFill>
                <a:srgbClr val="9900cc"/>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anchor="t">
            <a:normAutofit fontScale="89000"/>
          </a:bodyPr>
          <a:p>
            <a:pPr marL="305280" indent="-3052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ient agrees to HIV testing through giving his/ her informed consent.</a:t>
            </a:r>
            <a:endParaRPr b="0" lang="en-US" sz="2400" spc="-1" strike="noStrike">
              <a:solidFill>
                <a:srgbClr val="000000"/>
              </a:solidFill>
              <a:latin typeface="Arial"/>
            </a:endParaRPr>
          </a:p>
          <a:p>
            <a:pPr marL="305280" indent="-3052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ed consent is a deliberate and autonomous permission given by a client to a health-care provider to proceed with the proposed HIV test procedure. This permission is based on adequate understanding of the advantages, risks, potential consequences and implications of an HIV test result, which could be both positive and negative.</a:t>
            </a:r>
            <a:endParaRPr b="0" lang="en-US" sz="2400" spc="-1" strike="noStrike">
              <a:solidFill>
                <a:srgbClr val="000000"/>
              </a:solidFill>
              <a:latin typeface="Arial"/>
            </a:endParaRPr>
          </a:p>
          <a:p>
            <a:pPr marL="305280" indent="-3052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ermission is entirely the choice of the client and can never be implied or presumed.</a:t>
            </a:r>
            <a:endParaRPr b="0" lang="en-US" sz="2400" spc="-1" strike="noStrike">
              <a:solidFill>
                <a:srgbClr val="000000"/>
              </a:solidFill>
              <a:latin typeface="Arial"/>
            </a:endParaRPr>
          </a:p>
          <a:p>
            <a:pPr marL="3052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ICTC Operational Guidelin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2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68092-43B4-469D-B5E4-5C03A5528EB7}"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Discussion Question</a:t>
            </a:r>
            <a:endParaRPr b="1" lang="en-US" sz="3600" spc="-1" strike="noStrike">
              <a:solidFill>
                <a:srgbClr val="9900cc"/>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mandatory testing for HIV before surgery and during pregnancy is described here as a discriminatory practice, then what about provider-initiated testing and counsell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2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B5DDD-69A6-49DB-B12E-4B72B037FB2C}"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ontinuum between Care and Prevention</a:t>
            </a:r>
            <a:endParaRPr b="1" lang="en-US" sz="3200" spc="-1" strike="noStrike">
              <a:solidFill>
                <a:srgbClr val="9900cc"/>
              </a:solidFill>
              <a:latin typeface="Arial"/>
            </a:endParaRPr>
          </a:p>
        </p:txBody>
      </p:sp>
      <p:pic>
        <p:nvPicPr>
          <p:cNvPr id="130" name="Picture 25" descr="continuum"/>
          <p:cNvPicPr/>
          <p:nvPr/>
        </p:nvPicPr>
        <p:blipFill>
          <a:blip r:embed="rId1"/>
          <a:stretch/>
        </p:blipFill>
        <p:spPr>
          <a:xfrm>
            <a:off x="2286000" y="1981080"/>
            <a:ext cx="5334120" cy="435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3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19863-FF67-4FCF-9F0F-03FB4FAA8C9E}"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ontinuum between Care and Prevention – Effect of Stigma</a:t>
            </a:r>
            <a:endParaRPr b="1" lang="en-US" sz="3200" spc="-1" strike="noStrike">
              <a:solidFill>
                <a:srgbClr val="9900cc"/>
              </a:solidFill>
              <a:latin typeface="Arial"/>
            </a:endParaRPr>
          </a:p>
        </p:txBody>
      </p:sp>
      <p:pic>
        <p:nvPicPr>
          <p:cNvPr id="134" name="Picture 22" descr="cont-stig1"/>
          <p:cNvPicPr/>
          <p:nvPr/>
        </p:nvPicPr>
        <p:blipFill>
          <a:blip r:embed="rId1"/>
          <a:stretch/>
        </p:blipFill>
        <p:spPr>
          <a:xfrm>
            <a:off x="2286000" y="1905120"/>
            <a:ext cx="5294160" cy="431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07:35:40Z</dcterms:created>
  <dc:creator>melita</dc:creator>
  <dc:description/>
  <dc:language>en-US</dc:language>
  <cp:lastModifiedBy>GUEST OFFICE</cp:lastModifiedBy>
  <dcterms:modified xsi:type="dcterms:W3CDTF">2010-11-04T23:31:27Z</dcterms:modified>
  <cp:revision>23</cp:revision>
  <dc:subject/>
  <dc:title>Why do patients need counselling? </dc:title>
</cp:coreProperties>
</file>