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0E8B-8CBE-4CF4-BC47-F982EAC55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700A-26E2-4F77-A0D6-5EEEC32D8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P III mentions that out of an estimated 27 million pregnancies in India, 189,000 occur in HIV + mothers leading to an estimated cohort of 56,700 infected babies. Though India’s Prevention of Parent to Child Transmission (PPTCT) programme using Nevirapine was initiated in 2001, by 2004 only 3.94% of all pregnant women had received HIV counselling and testing and only 2.35% of pregnant women infected with HIV received antiretroviral prophylaxis. Thus there is still a vast unmet need and we need to push hard to increase people’s access to these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4 main prongs of the PPTCT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4C42-C60B-4E1D-AEA9-225DEF108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infection cannot be passed on to children if their parents are not infected with HIV. So this first prong consists of promoting safer and responsible sexual behaviours in adults. It includes, where appropriate, delaying the onset of sexual activity, practising sexual abstinence, reducing the number of sexual partners and using condoms. The strategies here include condom provision, early diagnosis and treatment of STIs, HIV counselling and testing, and suitable counselling to remain HIV negative for those who are as yet uninfected.</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4CAC-987F-4915-8CDC-BEED06616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vention of unintended pregnancies is the second prong. At the ICTC, post-test counselling should cover this information if the client is in a position to absorb it. Inform sero-positive clients that they are capable of transmitting HIV to others including to spouses and, in the case of women, any future children they might bear. Then they should be informed that a counsellor can help them to reduce the risk of transmission, and invite them to come back for more information when they are ready. With appropriate support, women who are aware of being sero-positive can plan when to get pregnant, and therefore reduce the possibility of passing on the virus to their future children. The strategies here include high-quality reproductive health counselling and providing effective family planning measures such as effective contraception, and early and safe abortion in case the woman decides to end the pregnanc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1363-E6CD-417B-9301-413A00C71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prong consists of specific interventions to reduce transmission from a woman living with HIV to her child. This includes HIV counselling and testing, ARV prophylaxis and treatment, safe delivery practices, and safer infant feeding practices. </a:t>
            </a: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5AAF-B7C5-4E2D-8283-45EB0E7CF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elements of the fourth prong includes prevention and treatment of OIs in women and children living with HIV, ARV treatment, palliative (pain-reducing) and non-ARV care, nutritional support, reproductive health care and psychosocial support.</a:t>
            </a: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999B-09E2-49FD-A3A8-533B36357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ICTC HCP can interact with pregnant patients and educate them about the advantages of knowing their status. So they must actively generate referrals and build linkages with private and public maternity services. They must explain to these service providers as well the advantages of testing pregnant women. Women must also be counselled about the advantages of knowing their sero-status. Male clients must also be educated about these services and encouraged to bring their female partners for testing and follow-up. However, as always patients referred for testing and counselling have the right to refuse testing, that is they can opt out. </a:t>
            </a:r>
            <a:r>
              <a:rPr b="0" lang="en-US" sz="1200" spc="-1" strike="noStrike">
                <a:solidFill>
                  <a:srgbClr val="000000"/>
                </a:solidFill>
                <a:latin typeface="Arial"/>
              </a:rPr>
              <a:t>Service providers should respect this right to opt out and for female clients who refuse to be tested HCP must follow the protocol used for delivering HIV-positiv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4DCD-2A41-4633-B719-06310C475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advantages of the PPTCT programme to mother and child. It basically links them to a range of services.</a:t>
            </a: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6922-3A0C-46E3-8446-44D363223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package of routine antenatal care services. It is a very comprehensive package. In this training programme, we will not discuss all of them in detail. But it is important for ICTC team members to be familiar with them. So we urge you to read your training materials, as well as to look at other NACO materials on PPTCT.</a:t>
            </a: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257F-F384-4259-A486-93BE90815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rops or syrups containing vitamins, mineral supplements, or medic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D282-D7E3-40D1-A4CB-02A7FBDF8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essential package of services, there are some aspects that are critical to HIV-infected women.</a:t>
            </a: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4593-8A27-4C9F-821B-4738EC934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V Testing:</a:t>
            </a:r>
            <a:r>
              <a:rPr b="0" lang="en-US" sz="800" spc="-1" strike="noStrike">
                <a:solidFill>
                  <a:srgbClr val="000000"/>
                </a:solidFill>
                <a:latin typeface="Arial"/>
              </a:rPr>
              <a:t> Determining the woman’s sero-status is the first step. Rapid testing makes it possible for her to receive her test results that very da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venting Opportunistic Infection:</a:t>
            </a:r>
            <a:r>
              <a:rPr b="0" lang="en-US" sz="800" spc="-1" strike="noStrike">
                <a:solidFill>
                  <a:srgbClr val="000000"/>
                </a:solidFill>
                <a:latin typeface="Arial"/>
              </a:rPr>
              <a:t> By preventing opportunistic infections like TB, HCP can reduce the rates of illness and death among HIV-infected pregnant women. This can also reduce the risk of adverse pregnancy outcomes such as pre-term labour and childbirth which can increase the chances of transmission of HIV to the infa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936A-F997-4D5D-BFA0-4DDD16FF2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nd Management of HIV-related illnesses:</a:t>
            </a:r>
            <a:r>
              <a:rPr b="0" lang="en-US" sz="1200" spc="-1" strike="noStrike">
                <a:solidFill>
                  <a:srgbClr val="000000"/>
                </a:solidFill>
                <a:latin typeface="Arial"/>
              </a:rPr>
              <a:t> Pregnant women who are HIV-positive should be monitored for signs and symptoms of HIV-related illnesses. These can increase the risk of transmission. Where necessary, antiretroviral treatment should be started after the necessary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rrent or Chronic Infection: </a:t>
            </a:r>
            <a:r>
              <a:rPr b="0" lang="en-US" sz="1200" spc="-1" strike="noStrike">
                <a:solidFill>
                  <a:srgbClr val="000000"/>
                </a:solidFill>
                <a:latin typeface="Arial"/>
              </a:rPr>
              <a:t>HIV-infected women are susceptible to other infections that also need attention such as STIs, especially syphillis, Urinary tract infections, Respiratory infections, Recurrent diarrhea, Recurrent vaginal candidiasis</a:t>
            </a: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4432-FED3-471C-AC2C-2F61041D9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STIs during pregnancy may reduce the risk of transmitting infection to the infant. Routine syphillis testing of pregnant women is an essential component of good antenatal care. Early diagnosis and treatment of STIs during pregnancy is also important because it may reduce the risk of transmitting infection to the infant. It may be necessary before, during or after pregnancy. Further, at each antenatal visit, it is important to directly ask the pregnant woman about any symptoms that might indicate STIs, such as lower abdominal pain, abnormal vaginal discharge or ulcers in the vaginal area. Where feasible, the clinical services should include a genital examination and appropriate laboratory investigations at the first antenatal visit, and at any time she reports an STI complaint. Where laboratory tests are not possible, a syndromic diagnosis should be condu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social and Community Support:</a:t>
            </a:r>
            <a:r>
              <a:rPr b="0" lang="en-US" sz="1200" spc="-1" strike="noStrike">
                <a:solidFill>
                  <a:srgbClr val="000000"/>
                </a:solidFill>
                <a:latin typeface="Arial"/>
              </a:rPr>
              <a:t> Pregnancy is marked with unique stressors. HCP should be sensitive to their concerns and should assess the support they may expect from family and other people in their circle. They should link them up with available resources from where they may derive additional support. </a:t>
            </a: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E964-F9A0-4C9C-8619-78A6AAB4B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th partners should be made aware of the need to practise safe sex throughout the nine months of the pregnancy, and the period of breastfeed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th partners should be tested and counselled about HIV</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th partners should be counselling about the services available to them through the PPTCT programme.</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it is important to encourage male involvement even when they are unaccompanied by the spouses. Where men are coming for testing to ICTC, counselling personnel should probe whether they are married, and if their wives or female partners are pregnant and educate them about PPTCT.</a:t>
            </a: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83AE-7D29-4DD1-8922-9D6440FEC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V prophylaxis consists of drugs to prevent primary infection in the infant while ARV treatment consists of drugs to limit the effect of HIV in the woman. ARV prophylaxis does not provide long-term protection for the infant. While a pregnant woman diagnosed with HIV who is eligible for ARVs should begin ARV treatment as early as possible, treatment should not begin until after the first trimester. The reason for this is that the foetus is susceptible to the iatrogenic effects of drugs during the first 10 weeks of gestation. However, when the woman is severely ill, the benefits of early treatment outweigh any potential risks to the foet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5E3F-C959-489B-AC63-B98D75FDE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which prophylactic regimen to support at the national level is based on feasibility, efficacy, acceptability, and cost. NACO supports a regimen consisting of a single dose of nevirapine to the pregnant woman at the onset of labour, and a single dose to the infant soon after bi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6BC1-8229-4D25-A324-80A1E2467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every 100 babies born to HIV-positive women, 10 to 20 will be infected during labour and delivery. This number can be reduced by limiting foetal exposure to maternal blood and body fluids. To this end, the HCP should minimise cervical examinations, avoid prolonged labour, avoid prolonged membrane rupture, avoid unnecessary trauma during childbirth, and minimise the risk of postpartum haemorrhage. These guidelines also apply to women whose HIV status is unknown such as those who come too late for an HIV test to be conducted, or who opt out from HIV counselling. ICTCs are provided with kits for managing a safe delivery in women with a positive sero-status and those with an unknown status. These kits contain plastic disposable gowns, disposable goggles to protect the eyes, face masks, disposable shoe covers, and two pairs of long glo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A212-AF36-46AA-AC08-07DD643D1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 Feeding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ling for HIV-infected mothers during pregnancy should cover infant-feeding choices to enable them to make an informed decision. After delivery, they should be counselled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breast feeding of the newborn should be advised to all HIV positive mothers for first six months of life unless replacement feeding is Acceptable, feasible, Affordable, Sustainable, and Safe (AF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oman opts to exclusively breast feed the bay, it should be stopped at 6 month (early cessation) followed by adequate add timely w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C3A1-5787-4F29-9E83-07B73D79F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ossibility of breastmilk being the means for passing on HIV from mother to child. However the possibility of transmission of HIV through breastmilk is lowered 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her is healt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her is on ART, if elig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 ONLY gets breastmilk for as long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infections are prevented and treated right awa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ush (white spots, yeast) in the baby’s mouth is treated right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ling for infant-feeding provides support to women to select the choice that suits their circumstances. Mothers who decide to breast feed should be alerted that they should not give the infant any other liquids or foods. They should be educated that breastmilk contains all the nutrients needed by the child. Other liquids and foods cause inflammation of the intestines of the child and increase the risk of HIV transmission. The protection conferred by breast milk is reduced when the infant is given water or any other substance during exclusive breast-f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 reaches the age of six months or earlier, breast-feeding should be stopped within two weeks while ensuring the comfort level of both mother and infant. At the same time, good quality complementary foods should be introduced, ensuring adequate amounts of energy proteins and micronutrients. </a:t>
            </a:r>
            <a:endParaRPr b="0" lang="en-US"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2064-FD82-435E-98CA-855018065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ups come in different designs and colours which can be used to stimulate mental growth in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B77A-5CFA-4777-A63F-E3BE51A9D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ment feeding or bottle feeding is recommended only when AFASS conditions are met, that is when replacement feeding is acceptable, feasible, affordable, sustainable, and sa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able</a:t>
            </a:r>
            <a:r>
              <a:rPr b="0" lang="en-US" sz="1200" spc="-1" strike="noStrike">
                <a:solidFill>
                  <a:srgbClr val="000000"/>
                </a:solidFill>
                <a:latin typeface="Arial"/>
              </a:rPr>
              <a:t> means the mother perceives no barrier in choosing a feeding option for cultural or social reasons, or fear of stigma and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sible </a:t>
            </a:r>
            <a:r>
              <a:rPr b="0" lang="en-US" sz="1200" spc="-1" strike="noStrike">
                <a:solidFill>
                  <a:srgbClr val="000000"/>
                </a:solidFill>
                <a:latin typeface="Arial"/>
              </a:rPr>
              <a:t>means the mother has adequate time, knowledge, skill, and other resources to prepare feedings and to feed her infant, and the support to cope with family, community, and social pres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ordable </a:t>
            </a:r>
            <a:r>
              <a:rPr b="0" lang="en-US" sz="1200" spc="-1" strike="noStrike">
                <a:solidFill>
                  <a:srgbClr val="000000"/>
                </a:solidFill>
                <a:latin typeface="Arial"/>
              </a:rPr>
              <a:t>means the mother and family, with available community, and/ or health system support, can pay for the costs of the feeding option’s purchase, production, preparation, and use - including all ingredients, fuel, and clean water – without compromising the family’s health and nutrition sp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able </a:t>
            </a:r>
            <a:r>
              <a:rPr b="0" lang="en-US" sz="1200" spc="-1" strike="noStrike">
                <a:solidFill>
                  <a:srgbClr val="000000"/>
                </a:solidFill>
                <a:latin typeface="Arial"/>
              </a:rPr>
              <a:t>means the mother has access to a continuous and uninterrupted supply of all ingredients and commodities needed to implement the feeding option safely for as long as the infant need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fe </a:t>
            </a:r>
            <a:r>
              <a:rPr b="0" lang="en-US" sz="1200" spc="-1" strike="noStrike">
                <a:solidFill>
                  <a:srgbClr val="000000"/>
                </a:solidFill>
                <a:latin typeface="Arial"/>
              </a:rPr>
              <a:t>means replacement foods are correctly and hygienically stored and prepared in nutritionally adequate quantities; infants are fed with clean hands using clean utensils, preferably with cups.</a:t>
            </a:r>
            <a:endParaRPr b="0" lang="en-US"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C985-B8CE-4813-9D09-5863CB3D6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V infection follows a more aggressive course among infants and children. Once infected, the child faces a high chance of illness and death, unless given timely medical treatment. Early Infant Diagnosis slows the progress of HIV infection. HIV testing of new born babies is not a one-step procedure because they carry antibodies from their mother. In the case of an infant born to an HIV-positive woman, the rapid tests used at the ICTC are not specific enough to differentiate between the mother’s and the child’s own antibodies. Maternal antibodies take about 18 months to clear from the child’s syst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establish if the infant has acquired HIV infection, the DNA of the virus has to be detected in the infant’s blood through the PCR test using 2 sample collection methods: Dried Blood Spot (DBS) and Whole Blood (WB). The testing is done according to the age of the chil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points to no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or third test is applicable only if the child is found positive at the first test,</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hild who tests positive on DBS should be confirmed with the DNA PCR WB test.</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B sample will be collected only in ART centre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nimum time period of one month is needed from the date of sample collection for the DNA PCR test resul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is mandatory to establish a definite diagnosis at 18 months by HIV antibod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All babies born to HIV positive women are called ‘Exposed Babies,’ until they are no longer breastfed and it has been established that the child is not infected. It is important to identify HIV-infected babies among the exposed babies as soon as possible. HIV-infected children usually grow more slowly than uninfected ones, and have a higher frequency of disease related morbidity. Regular growth monitoring and clinical assessment can lead to early detection of HIV infection. </a:t>
            </a: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8359-7208-4CBB-89F0-E122FB22F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Cotrimoxazole should be given from 6 weeks of life onwards according to the weight of the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The tablet can be dispersed in expressed breast milk on a clean table spoon and fed to the infant once a day if the child is still breastfeeding. If the child is not being breastfed, 1-2 table spoons of boiled water is used instead of the breast milk. The mother or caregiver should receive enough cotrimoxazole to last till the next scheduled vi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Cotrimoxazole should be given till the HIV infection has been excluded.</a:t>
            </a: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AF10-00BF-4BBC-8B43-7805B939B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Childhood illnesses can be avoided through vaccines and good nutrition. Most routine vaccines are safe for children living with HIV and are strongly recommended along with Vitamin A supplementation. Iron folic supplementation should be given to anaemic children. Immunisation Recommendations from WHO: All HIV-exposed children should be fully immunized according to their age. Because most HIV-infected children do not have severe immune suppression during the first year of life, immunization should occur as early as possible after the recommended age to optimize the immun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89A2-45C5-4407-B28E-25B202F7F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forms that are to be maintained for pregnant women. This is the ICTC register for ANC clients. The purpose of this register is to collect in a single record all information related to an ANC client. It is separate from the general register.  Each client is registered as per a number called Patient Identification Digit (PID) which is unique for the ICTC and has a flag indicating an ANC case. This is a unique number assigned to each individual and helps identify the client and the centre where the client is tested and is mentioned in Column 2. The other columns contain a brief history of the client. In Column 4, the counsellor must mention whether the patient came at the time of delivery or whether she received antenatal services. </a:t>
            </a: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5368-C39B-42AF-B7E8-43DBCD800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lumn 11, the counsellor mentions during which month of pregnancy, the mother registered at the ICTC.</a:t>
            </a: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D0C5-3806-4CC7-AE93-F14650DC8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19 to 21 mention the result of testing the partner’s status. As already mentioned, it is important to involve the patient’s partner.</a:t>
            </a:r>
            <a:endParaRPr b="0" lang="en-US" sz="1200" spc="-1" strike="noStrike">
              <a:solidFill>
                <a:srgbClr val="000000"/>
              </a:solidFill>
              <a:latin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A204-C7E0-4B7A-8F68-0B793E0F7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urther details to be mentioned are when the pregnant woman was referred to the ART centre for a CD4 test, and the result of that test. Also, noted are how the pregnancy ended, that is columns 27 and 28. </a:t>
            </a: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60B0-7041-41E0-9F29-1AA1061F3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improve her child’s future job pro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5F6-21CC-4FFE-AC86-30E208B0C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29 and 30 require information about the new-born. Columns 32 and 33 contain details of the administration of ARV prophylaxis. Column 34 refers to the infant feeding option selected – whether it is exclusive breast-feeding or any other option. Column 36 refers to the follow-up register. As you may have noted, this register contains very different details from the general register maintained for general clients of the ICTC. </a:t>
            </a:r>
            <a:endParaRPr b="0" lang="en-US" sz="1200" spc="-1" strike="noStrike">
              <a:solidFill>
                <a:srgbClr val="000000"/>
              </a:solidFill>
              <a:latin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DBD1-1FBA-4CFD-8B7E-72721FD72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register, the following information is extracted for the monthly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women who register at the AN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enatal women who receive pre-test counsell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enatal women who receive post-test counsel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o-status of the ANC cli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of ANC including parity, Expected Date of Delivery, plan of delive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ling and testing of women directly coming in labo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use or partners counselled, tested and their HIV stat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women who delivered and received NV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registered ANC women accessing HIV serv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als to and from TB and details regarding the s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als to other care and support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 of NVP, kits and condoms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CTC Post-natal follow-up register is essentially mother-baby follow-up. It derives some details from the register for pregnant women. The infant child is assigned a number as well. </a:t>
            </a:r>
            <a:endParaRPr b="0" lang="en-US" sz="1200" spc="-1" strike="noStrike">
              <a:solidFill>
                <a:srgbClr val="000000"/>
              </a:solidFill>
              <a:latin typeface="Arial"/>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96E5-88DC-4A61-B547-3BFEDB159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up register, information about the status of babies with PCR testing and administration of treatment including cotrimoxazole is noted. </a:t>
            </a: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E7F4-65B5-49B2-AB1A-8D2BC32E5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selling including feeding practices for babies are recorded in this register. Finally, if the child was referred to the ART centre, these details are also recorded. </a:t>
            </a: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E592-096C-4308-9880-FBA70C7DB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HIV antibody test (ELISA or a rapid test) conducted at 18 months afte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HIV antigen test like the PCR test 6 weeks afte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007E-8ECF-44AB-9221-4443B76CF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Starting a new job during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257C-45F2-40AA-AFD4-88C4267DB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otal number of children infected through the parental route without any type of intervention is 25 to 40. The PPTCT programme aims to reduce this number.</a:t>
            </a:r>
            <a:endParaRPr b="0" lang="en-US" sz="8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1D51-1268-45FD-A7AF-ED153434F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of the factors that increase the risk of HIV transmission. They include viral, maternal, obstetrical, foetal and infant-related factors. The most important risk factor is the viral load in the mother’s system (the amount of virus). The risk is greatest when the viral load is high, and this occurs just after infection has occurred, and also when the HIV disease is at an advanced stage.</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03A3-3B08-4523-AA1D-FCAEE6465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1C5A2-569A-45CC-845A-2C46657F2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B0481-1D7C-4780-A12A-2025F6D1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FAF3A-95E5-4B63-A685-5D3E58302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695F6-39D4-4570-90EC-8F8F02E96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E1012-9984-4903-B553-39DB8CA63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EA7FE-1AC6-4D48-9C53-A5E4D73E9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C5D55-7E2A-4ABA-A26E-2FE9542A0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08C61-94F0-498E-B79E-9A13C2AA6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B4898-F460-4278-96CC-B4E11267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625A1-18B3-4E9F-94A7-9C82A40BE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3B7DF-294B-4DB2-A161-906F08019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06C0D-05E2-4CE8-86B5-DBD7C5C3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30FF9-2C9C-491C-ACA3-F97B71597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86987-4CF1-4C1C-B204-258345031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514C4-B344-4D5C-8386-022966C1D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21018-C0E0-4DE6-8648-FCBE19441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D46D3-3C68-45EE-8E2E-331D00EEF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6D379-13CE-4C4E-BB69-51D0E517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5C574-A4AB-4576-8C75-61F0E9305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A4DA0-58AB-45AA-BC0C-3E84A13A7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55D6C-0EC7-4E51-95B7-8A1B1E8EF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9F5B-8AB5-45BF-89D6-A289E50D1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88F73-85CC-40F6-887B-EF2C540F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B42D-E26E-4278-A74E-4F8C32D77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TC Team Trainin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A83D-8301-4655-BFAE-0508623DF7E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TC Team Trainin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CE8B-194A-42B9-AAC7-C2A6D560A23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0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3C15-DCB8-420F-B132-3A95CD51F74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0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arent to Child Transmission (PPTCT)</a:t>
            </a:r>
            <a:endParaRPr b="1" lang="en-US" sz="3600" spc="-1" strike="noStrike">
              <a:solidFill>
                <a:srgbClr val="9900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fcr 3"/>
          <p:cNvPicPr/>
          <p:nvPr/>
        </p:nvPicPr>
        <p:blipFill>
          <a:blip r:embed="rId1"/>
          <a:stretch/>
        </p:blipFill>
        <p:spPr>
          <a:xfrm>
            <a:off x="1824120" y="681120"/>
            <a:ext cx="5495760" cy="549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cr 4"/>
          <p:cNvPicPr/>
          <p:nvPr/>
        </p:nvPicPr>
        <p:blipFill>
          <a:blip r:embed="rId1"/>
          <a:stretch/>
        </p:blipFill>
        <p:spPr>
          <a:xfrm>
            <a:off x="1814400" y="681120"/>
            <a:ext cx="5515200" cy="54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DCB7-4B03-420B-9D3D-2F6F003AD05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0" descr="PPTCT"/>
          <p:cNvPicPr/>
          <p:nvPr/>
        </p:nvPicPr>
        <p:blipFill>
          <a:blip r:embed="rId1"/>
          <a:stretch/>
        </p:blipFill>
        <p:spPr>
          <a:xfrm>
            <a:off x="2109960" y="966960"/>
            <a:ext cx="4924080" cy="49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4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CAFD-03C0-4231-BD61-AE9B1505D43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8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22" descr="PPTCT 2"/>
          <p:cNvPicPr/>
          <p:nvPr/>
        </p:nvPicPr>
        <p:blipFill>
          <a:blip r:embed="rId1"/>
          <a:stretch/>
        </p:blipFill>
        <p:spPr>
          <a:xfrm>
            <a:off x="2109960" y="966960"/>
            <a:ext cx="4924080" cy="49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5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424A-46BF-45B9-A86E-274C870DA59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8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23" descr="PPTCT 3"/>
          <p:cNvPicPr/>
          <p:nvPr/>
        </p:nvPicPr>
        <p:blipFill>
          <a:blip r:embed="rId1"/>
          <a:stretch/>
        </p:blipFill>
        <p:spPr>
          <a:xfrm>
            <a:off x="2100240" y="966960"/>
            <a:ext cx="4943520" cy="492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62"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25C6-8ACE-405B-9CFA-804FCE1B233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6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23" descr="PPTCT 4"/>
          <p:cNvPicPr/>
          <p:nvPr/>
        </p:nvPicPr>
        <p:blipFill>
          <a:blip r:embed="rId1"/>
          <a:stretch/>
        </p:blipFill>
        <p:spPr>
          <a:xfrm>
            <a:off x="2109960" y="966960"/>
            <a:ext cx="4924080" cy="49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7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6802-F4E2-4EBC-A81A-908D5DED80A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23" descr="PPTCT b"/>
          <p:cNvPicPr/>
          <p:nvPr/>
        </p:nvPicPr>
        <p:blipFill>
          <a:blip r:embed="rId1"/>
          <a:stretch/>
        </p:blipFill>
        <p:spPr>
          <a:xfrm>
            <a:off x="2100240" y="966960"/>
            <a:ext cx="4943520" cy="492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PTCT as a Case of Provider-Initiated Testing</a:t>
            </a:r>
            <a:endParaRPr b="1" lang="en-US" sz="3600" spc="-1" strike="noStrike">
              <a:solidFill>
                <a:srgbClr val="9900cc"/>
              </a:solidFill>
              <a:latin typeface="Arial"/>
            </a:endParaRPr>
          </a:p>
        </p:txBody>
      </p:sp>
      <p:sp>
        <p:nvSpPr>
          <p:cNvPr id="180" name=""/>
          <p:cNvSpPr txBox="1"/>
          <p:nvPr/>
        </p:nvSpPr>
        <p:spPr>
          <a:xfrm>
            <a:off x="838080" y="2361960"/>
            <a:ext cx="7693200" cy="3724200"/>
          </a:xfrm>
          <a:prstGeom prst="rect">
            <a:avLst/>
          </a:prstGeom>
          <a:noFill/>
          <a:ln w="0">
            <a:noFill/>
          </a:ln>
        </p:spPr>
        <p:txBody>
          <a:bodyPr anchor="t">
            <a:normAutofit fontScale="98000"/>
          </a:bodyPr>
          <a:p>
            <a:pPr marL="335880" indent="-3358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TC provides opportunity to interact with pregnant patients. </a:t>
            </a:r>
            <a:endParaRPr b="0" lang="en-US" sz="2800" spc="-1" strike="noStrike">
              <a:solidFill>
                <a:srgbClr val="000000"/>
              </a:solidFill>
              <a:latin typeface="Arial"/>
            </a:endParaRPr>
          </a:p>
          <a:p>
            <a:pPr marL="335880" indent="-3358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TC team to actively generate referrals from private and public maternity services</a:t>
            </a:r>
            <a:endParaRPr b="0" lang="en-US" sz="2800" spc="-1" strike="noStrike">
              <a:solidFill>
                <a:srgbClr val="000000"/>
              </a:solidFill>
              <a:latin typeface="Arial"/>
            </a:endParaRPr>
          </a:p>
          <a:p>
            <a:pPr marL="335880" indent="-3358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ducate women about how knowing their HIV status can help</a:t>
            </a:r>
            <a:endParaRPr b="0" lang="en-US" sz="2800" spc="-1" strike="noStrike">
              <a:solidFill>
                <a:srgbClr val="000000"/>
              </a:solidFill>
              <a:latin typeface="Arial"/>
            </a:endParaRPr>
          </a:p>
          <a:p>
            <a:pPr marL="335880" indent="-3358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ourage men to bring their female partners for testing and services</a:t>
            </a:r>
            <a:endParaRPr b="0" lang="en-US" sz="2800" spc="-1" strike="noStrike">
              <a:solidFill>
                <a:srgbClr val="000000"/>
              </a:solidFill>
              <a:latin typeface="Arial"/>
            </a:endParaRPr>
          </a:p>
        </p:txBody>
      </p:sp>
      <p:sp>
        <p:nvSpPr>
          <p:cNvPr id="181"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82"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A74B-033B-4F67-8097-804D243C744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dvantages of PPTCT</a:t>
            </a:r>
            <a:endParaRPr b="1" lang="en-US" sz="3600" spc="-1" strike="noStrike">
              <a:solidFill>
                <a:srgbClr val="9900cc"/>
              </a:solidFill>
              <a:latin typeface="Arial"/>
            </a:endParaRPr>
          </a:p>
        </p:txBody>
      </p:sp>
      <p:sp>
        <p:nvSpPr>
          <p:cNvPr id="184" name=""/>
          <p:cNvSpPr txBox="1"/>
          <p:nvPr/>
        </p:nvSpPr>
        <p:spPr>
          <a:xfrm>
            <a:off x="837720" y="2209320"/>
            <a:ext cx="3581640" cy="3876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her</a:t>
            </a:r>
            <a:endParaRPr b="0" lang="en-US" sz="28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chance of HIV transmission to her child</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partum car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ant feeding support</a:t>
            </a:r>
            <a:endParaRPr b="0" lang="en-US" sz="2400" spc="-1" strike="noStrike">
              <a:solidFill>
                <a:srgbClr val="000000"/>
              </a:solidFill>
              <a:latin typeface="Arial"/>
            </a:endParaRPr>
          </a:p>
        </p:txBody>
      </p:sp>
      <p:sp>
        <p:nvSpPr>
          <p:cNvPr id="185" name=""/>
          <p:cNvSpPr txBox="1"/>
          <p:nvPr/>
        </p:nvSpPr>
        <p:spPr>
          <a:xfrm>
            <a:off x="4495320" y="2133720"/>
            <a:ext cx="4419720" cy="39528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a:t>
            </a:r>
            <a:endParaRPr b="0" lang="en-US" sz="2800" spc="-1" strike="noStrike">
              <a:solidFill>
                <a:srgbClr val="000000"/>
              </a:solidFill>
              <a:latin typeface="Arial"/>
            </a:endParaRPr>
          </a:p>
          <a:p>
            <a:pPr marL="332640" indent="-3326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chance of being infected with HIV </a:t>
            </a:r>
            <a:endParaRPr b="0" lang="en-US" sz="2400" spc="-1" strike="noStrike">
              <a:solidFill>
                <a:srgbClr val="000000"/>
              </a:solidFill>
              <a:latin typeface="Arial"/>
            </a:endParaRPr>
          </a:p>
          <a:p>
            <a:pPr marL="332640" indent="-3326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 nutritional guidance – breastfeeding vs replacement feeding</a:t>
            </a:r>
            <a:endParaRPr b="0" lang="en-US" sz="2400" spc="-1" strike="noStrike">
              <a:solidFill>
                <a:srgbClr val="000000"/>
              </a:solidFill>
              <a:latin typeface="Arial"/>
            </a:endParaRPr>
          </a:p>
          <a:p>
            <a:pPr marL="332640" indent="-3326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amp; treatment of OI</a:t>
            </a:r>
            <a:endParaRPr b="0" lang="en-US" sz="2400" spc="-1" strike="noStrike">
              <a:solidFill>
                <a:srgbClr val="000000"/>
              </a:solidFill>
              <a:latin typeface="Arial"/>
            </a:endParaRPr>
          </a:p>
          <a:p>
            <a:pPr lvl="1" marL="720720" indent="-27720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 immunization </a:t>
            </a:r>
            <a:endParaRPr b="0" lang="en-US" sz="1800" spc="-1" strike="noStrike">
              <a:solidFill>
                <a:srgbClr val="000000"/>
              </a:solidFill>
              <a:latin typeface="Arial"/>
            </a:endParaRPr>
          </a:p>
          <a:p>
            <a:pPr lvl="1" marL="720720" indent="-27720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trimoxazole prophylaxis </a:t>
            </a:r>
            <a:endParaRPr b="0" lang="en-US" sz="1800" spc="-1" strike="noStrike">
              <a:solidFill>
                <a:srgbClr val="000000"/>
              </a:solidFill>
              <a:latin typeface="Arial"/>
            </a:endParaRPr>
          </a:p>
          <a:p>
            <a:pPr marL="332640" indent="-3326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when required</a:t>
            </a:r>
            <a:endParaRPr b="0" lang="en-US" sz="2400" spc="-1" strike="noStrike">
              <a:solidFill>
                <a:srgbClr val="000000"/>
              </a:solidFill>
              <a:latin typeface="Arial"/>
            </a:endParaRPr>
          </a:p>
        </p:txBody>
      </p:sp>
      <p:sp>
        <p:nvSpPr>
          <p:cNvPr id="186"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BD9A-A805-4C10-B79B-180AEB60600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Routine Antenatal Care</a:t>
            </a:r>
            <a:endParaRPr b="1" lang="en-US" sz="3600" spc="-1" strike="noStrike">
              <a:solidFill>
                <a:srgbClr val="9900cc"/>
              </a:solidFill>
              <a:latin typeface="Arial"/>
            </a:endParaRPr>
          </a:p>
        </p:txBody>
      </p:sp>
      <p:sp>
        <p:nvSpPr>
          <p:cNvPr id="189"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9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69CC-5F85-4D0B-B178-1B7C1856DAD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91" name=""/>
          <p:cNvSpPr txBox="1"/>
          <p:nvPr/>
        </p:nvSpPr>
        <p:spPr>
          <a:xfrm>
            <a:off x="761760" y="2293920"/>
            <a:ext cx="6172200" cy="4462560"/>
          </a:xfrm>
          <a:prstGeom prst="rect">
            <a:avLst/>
          </a:prstGeom>
          <a:noFill/>
          <a:ln w="0">
            <a:noFill/>
          </a:ln>
        </p:spPr>
        <p:txBody>
          <a:bodyPr anchor="ctr">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ent histor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hysical exam and vital sig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bdominal exam</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b diagnostic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anus toxoid immuniz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ritional assessment and counselling</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 screening</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malarial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selling on infant feeding</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selling on pregnancy danger sig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s and famil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ive contraception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rter Quiz</a:t>
            </a:r>
            <a:endParaRPr b="1" lang="en-US" sz="3600" spc="-1" strike="noStrike">
              <a:solidFill>
                <a:srgbClr val="9900cc"/>
              </a:solidFill>
              <a:latin typeface="Arial"/>
            </a:endParaRPr>
          </a:p>
        </p:txBody>
      </p:sp>
      <p:sp>
        <p:nvSpPr>
          <p:cNvPr id="106" name=""/>
          <p:cNvSpPr txBox="1"/>
          <p:nvPr/>
        </p:nvSpPr>
        <p:spPr>
          <a:xfrm>
            <a:off x="838080" y="2361960"/>
            <a:ext cx="7693200" cy="3724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sive breastfeeding is defined by WHO as giving an infant only breastmilk. The ONLY other things also allowed are </a:t>
            </a:r>
            <a:endParaRPr b="0" lang="en-US" sz="2400" spc="-1" strike="noStrike">
              <a:solidFill>
                <a:srgbClr val="000000"/>
              </a:solidFill>
              <a:latin typeface="Arial"/>
            </a:endParaRPr>
          </a:p>
          <a:p>
            <a:pPr indent="46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colates</a:t>
            </a:r>
            <a:endParaRPr b="0" lang="en-US" sz="2400" spc="-1" strike="noStrike">
              <a:solidFill>
                <a:srgbClr val="000000"/>
              </a:solidFill>
              <a:latin typeface="Arial"/>
            </a:endParaRPr>
          </a:p>
          <a:p>
            <a:pPr indent="46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s or syrups containing vitamins, mineral supplements, or medicines</a:t>
            </a:r>
            <a:endParaRPr b="0" lang="en-US" sz="2400" spc="-1" strike="noStrike">
              <a:solidFill>
                <a:srgbClr val="000000"/>
              </a:solidFill>
              <a:latin typeface="Arial"/>
            </a:endParaRPr>
          </a:p>
          <a:p>
            <a:pPr indent="46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soor Dal</a:t>
            </a:r>
            <a:r>
              <a:rPr b="0" lang="en-US" sz="2400" spc="-1" strike="noStrike">
                <a:solidFill>
                  <a:srgbClr val="000000"/>
                </a:solidFill>
                <a:latin typeface="Arial"/>
              </a:rPr>
              <a:t> water</a:t>
            </a:r>
            <a:endParaRPr b="0" lang="en-US" sz="2400" spc="-1" strike="noStrike">
              <a:solidFill>
                <a:srgbClr val="000000"/>
              </a:solidFill>
              <a:latin typeface="Arial"/>
            </a:endParaRPr>
          </a:p>
          <a:p>
            <a:pPr indent="46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tle feeds made by companies like Amul and Cerelac</a:t>
            </a:r>
            <a:endParaRPr b="0" lang="en-US" sz="2400" spc="-1" strike="noStrike">
              <a:solidFill>
                <a:srgbClr val="000000"/>
              </a:solidFill>
              <a:latin typeface="Arial"/>
            </a:endParaRPr>
          </a:p>
        </p:txBody>
      </p:sp>
      <p:sp>
        <p:nvSpPr>
          <p:cNvPr id="107"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0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B155-D9E1-45E0-95C5-23DB447B2E4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ntenatal care of HIV-infected women</a:t>
            </a:r>
            <a:endParaRPr b="1" lang="en-US" sz="3600" spc="-1" strike="noStrike">
              <a:solidFill>
                <a:srgbClr val="9900cc"/>
              </a:solidFill>
              <a:latin typeface="Arial"/>
            </a:endParaRPr>
          </a:p>
        </p:txBody>
      </p:sp>
      <p:sp>
        <p:nvSpPr>
          <p:cNvPr id="19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 Test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ng Opportunistic Inf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and Management of HIV-related illnes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ent or Chronic Inf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of STI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social and Community Suppor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9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E739-B8BD-4D14-9479-37F17817245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ntenatal care of HIV-infected women</a:t>
            </a:r>
            <a:endParaRPr b="1" lang="en-US" sz="3600" spc="-1" strike="noStrike">
              <a:solidFill>
                <a:srgbClr val="9900cc"/>
              </a:solidFill>
              <a:latin typeface="Arial"/>
            </a:endParaRPr>
          </a:p>
        </p:txBody>
      </p:sp>
      <p:sp>
        <p:nvSpPr>
          <p:cNvPr id="19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 Test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ng Opportunistic Inf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Assessment and Management of HIV-related illnes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Recurrent or Chronic Inf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Treatment of STI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Psychosocial and Community Suppor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9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5321-9C2E-4332-97EC-012D3579619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ntenatal care of HIV-infected women</a:t>
            </a:r>
            <a:endParaRPr b="1" lang="en-US" sz="3600" spc="-1" strike="noStrike">
              <a:solidFill>
                <a:srgbClr val="9900cc"/>
              </a:solidFill>
              <a:latin typeface="Arial"/>
            </a:endParaRPr>
          </a:p>
        </p:txBody>
      </p:sp>
      <p:sp>
        <p:nvSpPr>
          <p:cNvPr id="20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HIV Test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Preventing Opportunistic Inf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and Management of HIV-related illnes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ent or Chronic Inf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Treatment of STI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Psychosocial and Community Suppor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0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DE47-433A-417E-90A1-AB3624241D9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ntenatal care of HIV-infected women</a:t>
            </a:r>
            <a:endParaRPr b="1" lang="en-US" sz="3600" spc="-1" strike="noStrike">
              <a:solidFill>
                <a:srgbClr val="9900cc"/>
              </a:solidFill>
              <a:latin typeface="Arial"/>
            </a:endParaRPr>
          </a:p>
        </p:txBody>
      </p:sp>
      <p:sp>
        <p:nvSpPr>
          <p:cNvPr id="205"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HIV Test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Preventing Opportunistic Inf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Assessment and Management of HIV-related illnes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Arial"/>
              </a:rPr>
              <a:t>Recurrent or Chronic Inf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of STI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social and Community Suppor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0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7AF1-E086-475F-AB38-D20902D2207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artner involvement in PPTCT</a:t>
            </a:r>
            <a:endParaRPr b="1" lang="en-US" sz="3600" spc="-1" strike="noStrike">
              <a:solidFill>
                <a:srgbClr val="9900cc"/>
              </a:solidFill>
              <a:latin typeface="Arial"/>
            </a:endParaRPr>
          </a:p>
        </p:txBody>
      </p:sp>
      <p:sp>
        <p:nvSpPr>
          <p:cNvPr id="209" name=""/>
          <p:cNvSpPr txBox="1"/>
          <p:nvPr/>
        </p:nvSpPr>
        <p:spPr>
          <a:xfrm>
            <a:off x="838080" y="2361960"/>
            <a:ext cx="7693200" cy="3724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unselling should include, where possible, the male partner of the pregnant woman in order to acknowledge his role in protecting the child.</a:t>
            </a:r>
            <a:endParaRPr b="0" lang="en-US" sz="3600" spc="-1" strike="noStrike">
              <a:solidFill>
                <a:srgbClr val="000000"/>
              </a:solidFill>
              <a:latin typeface="Arial"/>
            </a:endParaRPr>
          </a:p>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1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FE42-C6AC-4C52-B5F1-FAADBA4EDE0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RV Treatment and Prophylaxis</a:t>
            </a:r>
            <a:endParaRPr b="1" lang="en-US" sz="3600" spc="-1" strike="noStrike">
              <a:solidFill>
                <a:srgbClr val="9900cc"/>
              </a:solidFill>
              <a:latin typeface="Arial"/>
            </a:endParaRPr>
          </a:p>
        </p:txBody>
      </p:sp>
      <p:sp>
        <p:nvSpPr>
          <p:cNvPr id="213" name=""/>
          <p:cNvSpPr txBox="1"/>
          <p:nvPr/>
        </p:nvSpPr>
        <p:spPr>
          <a:xfrm>
            <a:off x="838080" y="2361960"/>
            <a:ext cx="7693200" cy="37242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V prophylaxis: </a:t>
            </a:r>
            <a:r>
              <a:rPr b="0" lang="en-US" sz="2800" spc="-1" strike="noStrike">
                <a:solidFill>
                  <a:srgbClr val="000000"/>
                </a:solidFill>
                <a:latin typeface="Arial"/>
              </a:rPr>
              <a:t>drugs to prevent primary infection in the infan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V treatment: </a:t>
            </a:r>
            <a:r>
              <a:rPr b="0" lang="en-US" sz="2800" spc="-1" strike="noStrike">
                <a:solidFill>
                  <a:srgbClr val="000000"/>
                </a:solidFill>
                <a:latin typeface="Arial"/>
              </a:rPr>
              <a:t>drugs to limit the effect of HIV in the woma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hylaxis does not provide long-term protection for the infant. </a:t>
            </a:r>
            <a:endParaRPr b="0" lang="en-US" sz="2800" spc="-1" strike="noStrike">
              <a:solidFill>
                <a:srgbClr val="000000"/>
              </a:solidFill>
              <a:latin typeface="Arial"/>
            </a:endParaRPr>
          </a:p>
        </p:txBody>
      </p:sp>
      <p:sp>
        <p:nvSpPr>
          <p:cNvPr id="214"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1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5A4D-96CD-4D87-8282-F0A1A3ADAEE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NACO recommended regimen for prophylaxis</a:t>
            </a:r>
            <a:endParaRPr b="1" lang="en-US" sz="3600" spc="-1" strike="noStrike">
              <a:solidFill>
                <a:srgbClr val="9900cc"/>
              </a:solidFill>
              <a:latin typeface="Arial"/>
            </a:endParaRPr>
          </a:p>
        </p:txBody>
      </p:sp>
      <p:sp>
        <p:nvSpPr>
          <p:cNvPr id="21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 mg oral tablet of Nevirapine given to the mother at the beginning of labour.</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born babies should receive 2 mg/ kg NVP in suspension within 72 hours of birth.</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1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756D-8309-449D-A582-368EADCC9A3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Management of Labour &amp; Delivery of Women Infected with HIV</a:t>
            </a:r>
            <a:endParaRPr b="1" lang="en-US" sz="3600" spc="-1" strike="noStrike">
              <a:solidFill>
                <a:srgbClr val="9900cc"/>
              </a:solidFill>
              <a:latin typeface="Arial"/>
            </a:endParaRPr>
          </a:p>
        </p:txBody>
      </p:sp>
      <p:sp>
        <p:nvSpPr>
          <p:cNvPr id="221"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V Prophylaxis</a:t>
            </a:r>
            <a:endParaRPr b="0" lang="en-US" sz="2400" spc="-1" strike="noStrike">
              <a:solidFill>
                <a:srgbClr val="000000"/>
              </a:solidFill>
              <a:latin typeface="Arial"/>
            </a:endParaRPr>
          </a:p>
          <a:p>
            <a:pPr marL="325800" indent="-3258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Precautions </a:t>
            </a:r>
            <a:endParaRPr b="0" lang="en-US" sz="2400" spc="-1" strike="noStrike">
              <a:solidFill>
                <a:srgbClr val="000000"/>
              </a:solidFill>
              <a:latin typeface="Arial"/>
            </a:endParaRPr>
          </a:p>
          <a:p>
            <a:pPr marL="325800" indent="-3258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sing Cervical Examinations</a:t>
            </a:r>
            <a:endParaRPr b="0" lang="en-US" sz="2400" spc="-1" strike="noStrike">
              <a:solidFill>
                <a:srgbClr val="000000"/>
              </a:solidFill>
              <a:latin typeface="Arial"/>
            </a:endParaRPr>
          </a:p>
          <a:p>
            <a:pPr marL="325800" indent="-3258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ing Prolonged Labour</a:t>
            </a:r>
            <a:endParaRPr b="0" lang="en-US" sz="2400" spc="-1" strike="noStrike">
              <a:solidFill>
                <a:srgbClr val="000000"/>
              </a:solidFill>
              <a:latin typeface="Arial"/>
            </a:endParaRPr>
          </a:p>
          <a:p>
            <a:pPr marL="325800" indent="-3258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ing Prolonged Membrane Rupture and Routine Artificial Rupture of Membranes</a:t>
            </a:r>
            <a:endParaRPr b="0" lang="en-US" sz="2400" spc="-1" strike="noStrike">
              <a:solidFill>
                <a:srgbClr val="000000"/>
              </a:solidFill>
              <a:latin typeface="Arial"/>
            </a:endParaRPr>
          </a:p>
          <a:p>
            <a:pPr marL="325800" indent="-3258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ing Unnecessary Trauma during Childbirth</a:t>
            </a:r>
            <a:endParaRPr b="0" lang="en-US" sz="2400" spc="-1" strike="noStrike">
              <a:solidFill>
                <a:srgbClr val="000000"/>
              </a:solidFill>
              <a:latin typeface="Arial"/>
            </a:endParaRPr>
          </a:p>
          <a:p>
            <a:pPr marL="325800" indent="-3258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sing the Risk of Postpartum Haemorrhage</a:t>
            </a:r>
            <a:endParaRPr b="0" lang="en-US" sz="2400" spc="-1" strike="noStrike">
              <a:solidFill>
                <a:srgbClr val="000000"/>
              </a:solidFill>
              <a:latin typeface="Arial"/>
            </a:endParaRPr>
          </a:p>
          <a:p>
            <a:pPr marL="325800" indent="-3258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Transfusions</a:t>
            </a:r>
            <a:endParaRPr b="0" lang="en-US" sz="2400" spc="-1" strike="noStrike">
              <a:solidFill>
                <a:srgbClr val="000000"/>
              </a:solidFill>
              <a:latin typeface="Arial"/>
            </a:endParaRPr>
          </a:p>
        </p:txBody>
      </p:sp>
      <p:sp>
        <p:nvSpPr>
          <p:cNvPr id="222"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2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1E9E-0F01-4BC4-B7F0-2F79219B314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ant Feeding: Breast Feeding</a:t>
            </a:r>
            <a:endParaRPr b="1" lang="en-US" sz="3600" spc="-1" strike="noStrike">
              <a:solidFill>
                <a:srgbClr val="9900cc"/>
              </a:solidFill>
              <a:latin typeface="Arial"/>
            </a:endParaRPr>
          </a:p>
        </p:txBody>
      </p:sp>
      <p:sp>
        <p:nvSpPr>
          <p:cNvPr id="225"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sive breast feeding of the newborn should be advised to all HIV positive mothers for first six months of life unless replacement feeding is Acceptable, feasible, Affordable, Sustainable, and Safe (AFAS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woman opts to exclusively breast feed the bay, it should be stopped at 6 month (early cessation) followed by adequate add timely weaning. </a:t>
            </a:r>
            <a:endParaRPr b="0" lang="en-US" sz="2400" spc="-1" strike="noStrike">
              <a:solidFill>
                <a:srgbClr val="000000"/>
              </a:solidFill>
              <a:latin typeface="Arial"/>
            </a:endParaRPr>
          </a:p>
        </p:txBody>
      </p:sp>
      <p:sp>
        <p:nvSpPr>
          <p:cNvPr id="226"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2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C5F7-3298-475C-98AF-72E165CC77A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ant Feeding : Breast Feeding</a:t>
            </a:r>
            <a:endParaRPr b="1" lang="en-US" sz="3600" spc="-1" strike="noStrike">
              <a:solidFill>
                <a:srgbClr val="9900cc"/>
              </a:solidFill>
              <a:latin typeface="Arial"/>
            </a:endParaRPr>
          </a:p>
        </p:txBody>
      </p:sp>
      <p:sp>
        <p:nvSpPr>
          <p:cNvPr id="229" name=""/>
          <p:cNvSpPr txBox="1"/>
          <p:nvPr/>
        </p:nvSpPr>
        <p:spPr>
          <a:xfrm>
            <a:off x="838080" y="2361960"/>
            <a:ext cx="7693200" cy="419076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st  Milk could transmit HIV infection if mother is infecte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lower this transmission rate through measures such as ART for mothers, treating breast infections in mother, oral infections in chil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 mother to breastfeed exclusively for 6 months and then rapidly wean child within 2 week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3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3549-49CD-4644-A61A-366F7E94CDF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rter Quiz</a:t>
            </a:r>
            <a:endParaRPr b="1" lang="en-US" sz="3600" spc="-1" strike="noStrike">
              <a:solidFill>
                <a:srgbClr val="9900cc"/>
              </a:solidFill>
              <a:latin typeface="Arial"/>
            </a:endParaRPr>
          </a:p>
        </p:txBody>
      </p:sp>
      <p:sp>
        <p:nvSpPr>
          <p:cNvPr id="110" name=""/>
          <p:cNvSpPr txBox="1"/>
          <p:nvPr/>
        </p:nvSpPr>
        <p:spPr>
          <a:xfrm>
            <a:off x="685800" y="2209320"/>
            <a:ext cx="8305920" cy="43434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mother chooses replacement feeds (instead of breastfeeding), all these are good reasons to choose cup feeding over bottle feeding EXCEPT for</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ps are safer because they are easier to clean with soap and water than bottles.</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ps are less likely than bottles to be carried around for a long time, giving bacteria a chance to increase.</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ps come in different designs and colours which can be used to stimulate mental growth in the child.</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p feeding requires the person feeding the child to hold the child and this increases physical and social contact.</a:t>
            </a:r>
            <a:endParaRPr b="0" lang="en-US" sz="2400" spc="-1" strike="noStrike">
              <a:solidFill>
                <a:srgbClr val="000000"/>
              </a:solidFill>
              <a:latin typeface="Arial"/>
            </a:endParaRPr>
          </a:p>
        </p:txBody>
      </p:sp>
      <p:sp>
        <p:nvSpPr>
          <p:cNvPr id="111"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2"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F97B-0BE5-4197-812C-C6DB3580395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05520" y="757800"/>
            <a:ext cx="83134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ant Feeding: Replacement Feeding</a:t>
            </a:r>
            <a:endParaRPr b="1" lang="en-US" sz="3600" spc="-1" strike="noStrike">
              <a:solidFill>
                <a:srgbClr val="9900cc"/>
              </a:solidFill>
              <a:latin typeface="Arial"/>
            </a:endParaRPr>
          </a:p>
        </p:txBody>
      </p:sp>
      <p:pic>
        <p:nvPicPr>
          <p:cNvPr id="233" name="Content Placeholder 2" descr=""/>
          <p:cNvPicPr/>
          <p:nvPr/>
        </p:nvPicPr>
        <p:blipFill>
          <a:blip r:embed="rId1"/>
          <a:stretch/>
        </p:blipFill>
        <p:spPr>
          <a:xfrm>
            <a:off x="804960" y="2219400"/>
            <a:ext cx="7772400" cy="4522680"/>
          </a:xfrm>
          <a:prstGeom prst="rect">
            <a:avLst/>
          </a:prstGeom>
          <a:ln w="0">
            <a:noFill/>
          </a:ln>
        </p:spPr>
      </p:pic>
      <p:sp>
        <p:nvSpPr>
          <p:cNvPr id="234"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3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659D-8209-4732-B070-9F7346A5137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arly Infant Diagnosis</a:t>
            </a:r>
            <a:endParaRPr b="1" lang="en-US" sz="3200" spc="-1" strike="noStrike">
              <a:solidFill>
                <a:srgbClr val="9900cc"/>
              </a:solidFill>
              <a:latin typeface="Arial"/>
            </a:endParaRPr>
          </a:p>
        </p:txBody>
      </p:sp>
      <p:sp>
        <p:nvSpPr>
          <p:cNvPr id="237" name="PlaceHolder 1"/>
          <p:cNvSpPr>
            <a:spLocks noGrp="1"/>
          </p:cNvSpPr>
          <p:nvPr>
            <p:ph/>
          </p:nvPr>
        </p:nvSpPr>
        <p:spPr>
          <a:xfrm>
            <a:off x="762120" y="2362320"/>
            <a:ext cx="8076960" cy="182880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V infection follows a more aggressive course among infants and children.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HIV diagnosis and treatment for children slows the progress of HIV.</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mandatory to establish a definite diagnosis at 18 months by HIV antibody</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38" name=""/>
          <p:cNvGraphicFramePr/>
          <p:nvPr/>
        </p:nvGraphicFramePr>
        <p:xfrm>
          <a:off x="762120" y="4419720"/>
          <a:ext cx="8076960" cy="1765080"/>
        </p:xfrm>
        <a:graphic>
          <a:graphicData uri="http://schemas.openxmlformats.org/drawingml/2006/table">
            <a:tbl>
              <a:tblPr/>
              <a:tblGrid>
                <a:gridCol w="2693880"/>
                <a:gridCol w="2689200"/>
                <a:gridCol w="26938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tests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weeks – 6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onths – 18 month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es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PCR DB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tes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tes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PCR WB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PCR DB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PCR WB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Exposed Baby Care</a:t>
            </a:r>
            <a:endParaRPr b="1" lang="en-US" sz="3600" spc="-1" strike="noStrike">
              <a:solidFill>
                <a:srgbClr val="9900cc"/>
              </a:solidFill>
              <a:latin typeface="Arial"/>
            </a:endParaRPr>
          </a:p>
        </p:txBody>
      </p:sp>
      <p:sp>
        <p:nvSpPr>
          <p:cNvPr id="240" name=""/>
          <p:cNvSpPr txBox="1"/>
          <p:nvPr/>
        </p:nvSpPr>
        <p:spPr>
          <a:xfrm>
            <a:off x="837720" y="2361960"/>
            <a:ext cx="762012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All children born to HIV-positive woman until established not positiv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Regular growth monitoring and clinical assessment can lead to early detection of HIV infection </a:t>
            </a:r>
            <a:endParaRPr b="0" lang="en-US" sz="2800" spc="-1" strike="noStrike">
              <a:solidFill>
                <a:srgbClr val="000000"/>
              </a:solidFill>
              <a:latin typeface="Arial"/>
            </a:endParaRPr>
          </a:p>
        </p:txBody>
      </p:sp>
      <p:sp>
        <p:nvSpPr>
          <p:cNvPr id="241"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4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5705-05CE-4852-9ED2-EC00072E820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9900cc"/>
                </a:solidFill>
                <a:latin typeface="Arial"/>
              </a:rPr>
              <a:t>Cotrimoxazole Prophylaxis</a:t>
            </a:r>
            <a:endParaRPr b="1" lang="en-US" sz="3600" spc="-1" strike="noStrike">
              <a:solidFill>
                <a:srgbClr val="9900cc"/>
              </a:solidFill>
              <a:latin typeface="Arial"/>
            </a:endParaRPr>
          </a:p>
        </p:txBody>
      </p:sp>
      <p:sp>
        <p:nvSpPr>
          <p:cNvPr id="244"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4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659E-67AE-489B-84A1-38A190FE6DE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aphicFrame>
        <p:nvGraphicFramePr>
          <p:cNvPr id="246" name=""/>
          <p:cNvGraphicFramePr/>
          <p:nvPr/>
        </p:nvGraphicFramePr>
        <p:xfrm>
          <a:off x="1676520" y="2629080"/>
          <a:ext cx="6095880" cy="2879640"/>
        </p:xfrm>
        <a:graphic>
          <a:graphicData uri="http://schemas.openxmlformats.org/drawingml/2006/table">
            <a:tbl>
              <a:tblPr/>
              <a:tblGrid>
                <a:gridCol w="2286000"/>
                <a:gridCol w="3809880"/>
              </a:tblGrid>
              <a:tr h="1028520">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Weight (kg)</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Child dispersible tablet (20mg TMP/100mg SMX) Once daily</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lt; 5</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1 table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5 – 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2 tablet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10 – 15</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3 tablet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15 – 22</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eorgia"/>
                          <a:ea typeface="Times New Roman"/>
                        </a:rPr>
                        <a:t>4 tablet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WHO Immunisation Recommendations</a:t>
            </a:r>
            <a:endParaRPr b="1" lang="en-US" sz="3200" spc="-1" strike="noStrike">
              <a:solidFill>
                <a:srgbClr val="9900cc"/>
              </a:solidFill>
              <a:latin typeface="Arial"/>
            </a:endParaRPr>
          </a:p>
        </p:txBody>
      </p:sp>
      <p:sp>
        <p:nvSpPr>
          <p:cNvPr id="248" name=""/>
          <p:cNvSpPr txBox="1"/>
          <p:nvPr/>
        </p:nvSpPr>
        <p:spPr>
          <a:xfrm>
            <a:off x="838080" y="2361960"/>
            <a:ext cx="7693200" cy="37242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 of infan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accine</a:t>
            </a: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CG, OPV-O</a:t>
            </a: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ek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PT-1, OPV-1</a:t>
            </a: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week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PT-2, OPV-2</a:t>
            </a: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week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PT-3, OPV-3</a:t>
            </a: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month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easles</a:t>
            </a:r>
            <a:endParaRPr b="0" lang="en-US" sz="28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BCG= Bacille Calmette Guerin; OPV= Oral Polio Vaccine; DPT= Diphtheria, Pertussis, Tetanus</a:t>
            </a:r>
            <a:endParaRPr b="0" lang="en-US" sz="1400" spc="-1" strike="noStrike">
              <a:solidFill>
                <a:srgbClr val="000000"/>
              </a:solidFill>
              <a:latin typeface="Arial"/>
            </a:endParaRPr>
          </a:p>
        </p:txBody>
      </p:sp>
      <p:sp>
        <p:nvSpPr>
          <p:cNvPr id="249"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5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B084-2DD6-4305-9BCD-68F4B7FC6B0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Exercise</a:t>
            </a:r>
            <a:endParaRPr b="1" lang="en-US" sz="3600" spc="-1" strike="noStrike">
              <a:solidFill>
                <a:srgbClr val="9900cc"/>
              </a:solidFill>
              <a:latin typeface="Arial"/>
            </a:endParaRPr>
          </a:p>
        </p:txBody>
      </p:sp>
      <p:sp>
        <p:nvSpPr>
          <p:cNvPr id="252" name=""/>
          <p:cNvSpPr txBox="1"/>
          <p:nvPr/>
        </p:nvSpPr>
        <p:spPr>
          <a:xfrm>
            <a:off x="838080" y="2361960"/>
            <a:ext cx="7693200" cy="3724200"/>
          </a:xfrm>
          <a:prstGeom prst="rect">
            <a:avLst/>
          </a:prstGeom>
          <a:noFill/>
          <a:ln w="0">
            <a:noFill/>
          </a:ln>
        </p:spPr>
        <p:txBody>
          <a:bodyPr anchor="t">
            <a:normAutofit fontScale="98000"/>
          </a:bodyPr>
          <a:p>
            <a:pPr lvl="1" marL="896040" indent="-447840">
              <a:spcBef>
                <a:spcPts val="700"/>
              </a:spcBef>
              <a:buClr>
                <a:srgbClr val="000000"/>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esting needs of the female client?</a:t>
            </a:r>
            <a:endParaRPr b="0" lang="en-US" sz="2800" spc="-1" strike="noStrike">
              <a:solidFill>
                <a:srgbClr val="000000"/>
              </a:solidFill>
              <a:latin typeface="Arial"/>
            </a:endParaRPr>
          </a:p>
          <a:p>
            <a:pPr lvl="1" marL="896040" indent="-447840">
              <a:spcBef>
                <a:spcPts val="700"/>
              </a:spcBef>
              <a:buClr>
                <a:srgbClr val="000000"/>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counselling cover on the first visit?</a:t>
            </a:r>
            <a:endParaRPr b="0" lang="en-US" sz="2800" spc="-1" strike="noStrike">
              <a:solidFill>
                <a:srgbClr val="000000"/>
              </a:solidFill>
              <a:latin typeface="Arial"/>
            </a:endParaRPr>
          </a:p>
          <a:p>
            <a:pPr lvl="1" marL="896040" indent="-447840">
              <a:spcBef>
                <a:spcPts val="700"/>
              </a:spcBef>
              <a:buClr>
                <a:srgbClr val="000000"/>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counselling cover on the second visit?</a:t>
            </a:r>
            <a:endParaRPr b="0" lang="en-US" sz="2800" spc="-1" strike="noStrike">
              <a:solidFill>
                <a:srgbClr val="000000"/>
              </a:solidFill>
              <a:latin typeface="Arial"/>
            </a:endParaRPr>
          </a:p>
          <a:p>
            <a:pPr lvl="1" marL="896040" indent="-447840">
              <a:spcBef>
                <a:spcPts val="700"/>
              </a:spcBef>
              <a:buClr>
                <a:srgbClr val="000000"/>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organizations or services where you could refer the client?</a:t>
            </a:r>
            <a:endParaRPr b="0" lang="en-US" sz="2800" spc="-1" strike="noStrike">
              <a:solidFill>
                <a:srgbClr val="000000"/>
              </a:solidFill>
              <a:latin typeface="Arial"/>
            </a:endParaRPr>
          </a:p>
        </p:txBody>
      </p:sp>
      <p:sp>
        <p:nvSpPr>
          <p:cNvPr id="253"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54"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E84C-6471-4C6A-8EE5-D0537323888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56"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0008-B6C1-4373-A76F-0B2DA6EC7C8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257" name="Picture 2" descr="ICTC Register for Pregnant Women 1"/>
          <p:cNvPicPr/>
          <p:nvPr/>
        </p:nvPicPr>
        <p:blipFill>
          <a:blip r:embed="rId1"/>
          <a:stretch/>
        </p:blipFill>
        <p:spPr>
          <a:xfrm>
            <a:off x="3200400" y="304920"/>
            <a:ext cx="4653000" cy="6019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59" name="Slide Number Placeholder 2"/>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228C-0152-4F16-AB33-3E73F6C3063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260" name="Picture 2" descr="ICTC Register for Pregnant Women 2"/>
          <p:cNvPicPr/>
          <p:nvPr/>
        </p:nvPicPr>
        <p:blipFill>
          <a:blip r:embed="rId1"/>
          <a:stretch/>
        </p:blipFill>
        <p:spPr>
          <a:xfrm>
            <a:off x="3276720" y="609480"/>
            <a:ext cx="4486320" cy="580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62"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6D6A-133B-4717-84A3-DE3DF09DEE9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263" name="Picture 2" descr="ICTC Register for Pregnant Women 3"/>
          <p:cNvPicPr/>
          <p:nvPr/>
        </p:nvPicPr>
        <p:blipFill>
          <a:blip r:embed="rId1"/>
          <a:stretch/>
        </p:blipFill>
        <p:spPr>
          <a:xfrm>
            <a:off x="3048120" y="304920"/>
            <a:ext cx="4593960" cy="5943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65" name="Slide Number Placeholder 2"/>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1E1B-B03E-4A4A-9AF3-7D2E67D2FC0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266" name="Picture 2" descr="ICTC Register for Pregnant Women 4"/>
          <p:cNvPicPr/>
          <p:nvPr/>
        </p:nvPicPr>
        <p:blipFill>
          <a:blip r:embed="rId1"/>
          <a:stretch/>
        </p:blipFill>
        <p:spPr>
          <a:xfrm>
            <a:off x="3124080" y="457200"/>
            <a:ext cx="459432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rter Quiz</a:t>
            </a:r>
            <a:endParaRPr b="1" lang="en-US" sz="3600" spc="-1" strike="noStrike">
              <a:solidFill>
                <a:srgbClr val="9900cc"/>
              </a:solidFill>
              <a:latin typeface="Arial"/>
            </a:endParaRPr>
          </a:p>
        </p:txBody>
      </p:sp>
      <p:sp>
        <p:nvSpPr>
          <p:cNvPr id="114" name=""/>
          <p:cNvSpPr txBox="1"/>
          <p:nvPr/>
        </p:nvSpPr>
        <p:spPr>
          <a:xfrm>
            <a:off x="838080" y="2362320"/>
            <a:ext cx="7772400" cy="40384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following are reasons why a woman infected with HIV/AIDS may choose to breastfeed her newborn child instead of giving a breastmilk substitute. The ONLY EXCEPTION is</a:t>
            </a:r>
            <a:endParaRPr b="0" lang="en-US" sz="2400" spc="-1" strike="noStrike">
              <a:solidFill>
                <a:srgbClr val="000000"/>
              </a:solidFill>
              <a:latin typeface="Arial"/>
            </a:endParaRPr>
          </a:p>
          <a:p>
            <a:pPr>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duce her expenses because replacement feeding is expensive.</a:t>
            </a:r>
            <a:endParaRPr b="0" lang="en-US" sz="2000" spc="-1" strike="noStrike">
              <a:solidFill>
                <a:srgbClr val="000000"/>
              </a:solidFill>
              <a:latin typeface="Arial"/>
            </a:endParaRPr>
          </a:p>
          <a:p>
            <a:pPr>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ccidentally disclosing her HIV status to others.</a:t>
            </a:r>
            <a:endParaRPr b="0" lang="en-US" sz="2000" spc="-1" strike="noStrike">
              <a:solidFill>
                <a:srgbClr val="000000"/>
              </a:solidFill>
              <a:latin typeface="Arial"/>
            </a:endParaRPr>
          </a:p>
          <a:p>
            <a:pPr>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stigma.</a:t>
            </a:r>
            <a:endParaRPr b="0" lang="en-US" sz="2000" spc="-1" strike="noStrike">
              <a:solidFill>
                <a:srgbClr val="000000"/>
              </a:solidFill>
              <a:latin typeface="Arial"/>
            </a:endParaRPr>
          </a:p>
          <a:p>
            <a:pPr>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lay accepting her HIV status</a:t>
            </a:r>
            <a:endParaRPr b="0" lang="en-US" sz="2000" spc="-1" strike="noStrike">
              <a:solidFill>
                <a:srgbClr val="000000"/>
              </a:solidFill>
              <a:latin typeface="Arial"/>
            </a:endParaRPr>
          </a:p>
          <a:p>
            <a:pPr>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ond with her child physically and socially.</a:t>
            </a:r>
            <a:endParaRPr b="0" lang="en-US" sz="2000" spc="-1" strike="noStrike">
              <a:solidFill>
                <a:srgbClr val="000000"/>
              </a:solidFill>
              <a:latin typeface="Arial"/>
            </a:endParaRPr>
          </a:p>
          <a:p>
            <a:pPr>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her child’s future job prospects.</a:t>
            </a:r>
            <a:endParaRPr b="0" lang="en-US" sz="2000" spc="-1" strike="noStrike">
              <a:solidFill>
                <a:srgbClr val="000000"/>
              </a:solidFill>
              <a:latin typeface="Arial"/>
            </a:endParaRPr>
          </a:p>
        </p:txBody>
      </p:sp>
      <p:sp>
        <p:nvSpPr>
          <p:cNvPr id="115"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6"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3E11-819B-43FA-9EB2-EA9A35663C1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68" name="Slide Number Placeholder 2"/>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7199-12F1-46D0-A8AC-39429295F49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269" name="Picture 2" descr="ICTC Register for Pregnant Women 5"/>
          <p:cNvPicPr/>
          <p:nvPr/>
        </p:nvPicPr>
        <p:blipFill>
          <a:blip r:embed="rId1"/>
          <a:stretch/>
        </p:blipFill>
        <p:spPr>
          <a:xfrm>
            <a:off x="3206880" y="304920"/>
            <a:ext cx="4676760" cy="6051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Information to be extracted for the monthly report</a:t>
            </a:r>
            <a:endParaRPr b="1" lang="en-US" sz="3200" spc="-1" strike="noStrike">
              <a:solidFill>
                <a:srgbClr val="9900cc"/>
              </a:solidFill>
              <a:latin typeface="Arial"/>
            </a:endParaRPr>
          </a:p>
        </p:txBody>
      </p:sp>
      <p:sp>
        <p:nvSpPr>
          <p:cNvPr id="271" name="PlaceHolder 1"/>
          <p:cNvSpPr>
            <a:spLocks noGrp="1"/>
          </p:cNvSpPr>
          <p:nvPr>
            <p:ph/>
          </p:nvPr>
        </p:nvSpPr>
        <p:spPr>
          <a:xfrm>
            <a:off x="838080" y="2361960"/>
            <a:ext cx="7693200" cy="419076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women who register at the ANC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natal women who receive pre-test counselling/ information</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natal women who receive post-test counselling</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ro-status of the ANC client</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s of ANC including parity, Expected Date of Delivery, plan of delivery</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ling and testing of women directly coming in labour</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use or partners counselled, tested and their HIV statu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women who delivered and received NVP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registered ANC women accessing HIV service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rals to and from TB and details regarding the sam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rals to other care and support servic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 of NVP, kits and condo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73" name="Slide Number Placeholder 2"/>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DAFB-AC1C-4707-954F-9F73873F187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274" name="Picture 2" descr="ICTC Register for Pregnant Women 6"/>
          <p:cNvPicPr/>
          <p:nvPr/>
        </p:nvPicPr>
        <p:blipFill>
          <a:blip r:embed="rId1"/>
          <a:stretch/>
        </p:blipFill>
        <p:spPr>
          <a:xfrm>
            <a:off x="3429000" y="457200"/>
            <a:ext cx="4357800" cy="5638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76" name="Slide Number Placeholder 2"/>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A15C-AA8A-4CC5-A7AF-8853C159DD6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277" name="Picture 2" descr="ICTC Register for Pregnant Women 7"/>
          <p:cNvPicPr/>
          <p:nvPr/>
        </p:nvPicPr>
        <p:blipFill>
          <a:blip r:embed="rId1"/>
          <a:stretch/>
        </p:blipFill>
        <p:spPr>
          <a:xfrm>
            <a:off x="3124080" y="304920"/>
            <a:ext cx="4711680" cy="6095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279" name="Slide Number Placeholder 2"/>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1AD0-6B27-4054-BB79-E228E659372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280" name="Picture 2" descr="ICTC Register for Pregnant Women 8"/>
          <p:cNvPicPr/>
          <p:nvPr/>
        </p:nvPicPr>
        <p:blipFill>
          <a:blip r:embed="rId1"/>
          <a:stretch/>
        </p:blipFill>
        <p:spPr>
          <a:xfrm>
            <a:off x="3276720" y="380880"/>
            <a:ext cx="4600440" cy="595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rter Quiz</a:t>
            </a:r>
            <a:endParaRPr b="1" lang="en-US" sz="3600" spc="-1" strike="noStrike">
              <a:solidFill>
                <a:srgbClr val="9900cc"/>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two tests that can detect HIV infection in an infant:</a:t>
            </a:r>
            <a:endParaRPr b="0" lang="en-US" sz="2400" spc="-1" strike="noStrike">
              <a:solidFill>
                <a:srgbClr val="000000"/>
              </a:solidFill>
              <a:latin typeface="Arial"/>
            </a:endParaRPr>
          </a:p>
          <a:p>
            <a:pPr indent="46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HIV antibody test (ELISA or a rapid test) conducted at 3 months after birth</a:t>
            </a:r>
            <a:endParaRPr b="0" lang="en-US" sz="2400" spc="-1" strike="noStrike">
              <a:solidFill>
                <a:srgbClr val="000000"/>
              </a:solidFill>
              <a:latin typeface="Arial"/>
            </a:endParaRPr>
          </a:p>
          <a:p>
            <a:pPr indent="46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HIV antibody test (ELISA or a rapid test) conducted at 18 months after birth</a:t>
            </a:r>
            <a:endParaRPr b="0" lang="en-US" sz="2400" spc="-1" strike="noStrike">
              <a:solidFill>
                <a:srgbClr val="000000"/>
              </a:solidFill>
              <a:latin typeface="Arial"/>
            </a:endParaRPr>
          </a:p>
          <a:p>
            <a:pPr indent="46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HIV antigen test like the PCR test 6 weeks after birth</a:t>
            </a:r>
            <a:endParaRPr b="0" lang="en-US" sz="2400" spc="-1" strike="noStrike">
              <a:solidFill>
                <a:srgbClr val="000000"/>
              </a:solidFill>
              <a:latin typeface="Arial"/>
            </a:endParaRPr>
          </a:p>
          <a:p>
            <a:pPr indent="46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rine test</a:t>
            </a:r>
            <a:endParaRPr b="0" lang="en-US" sz="2400" spc="-1" strike="noStrike">
              <a:solidFill>
                <a:srgbClr val="000000"/>
              </a:solidFill>
              <a:latin typeface="Arial"/>
            </a:endParaRPr>
          </a:p>
        </p:txBody>
      </p:sp>
      <p:sp>
        <p:nvSpPr>
          <p:cNvPr id="119"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3025-A9E8-4F41-8F6A-DD4E969CC2A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rter Quiz</a:t>
            </a:r>
            <a:endParaRPr b="1" lang="en-US" sz="3600" spc="-1" strike="noStrike">
              <a:solidFill>
                <a:srgbClr val="9900cc"/>
              </a:solidFill>
              <a:latin typeface="Arial"/>
            </a:endParaRPr>
          </a:p>
        </p:txBody>
      </p:sp>
      <p:sp>
        <p:nvSpPr>
          <p:cNvPr id="122" name=""/>
          <p:cNvSpPr txBox="1"/>
          <p:nvPr/>
        </p:nvSpPr>
        <p:spPr>
          <a:xfrm>
            <a:off x="838080" y="2361960"/>
            <a:ext cx="7693200" cy="426708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al factors that may increase the risk of HIV transmission during pregnancy include</a:t>
            </a:r>
            <a:endParaRPr b="0" lang="en-US" sz="28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HIV infection during pregnancy</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a new job during pregnancy</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HIV disease or AIDS in the mother</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maternal viral load</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al, bacterial, and parasitic infection of the placenta (especially malaria)</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alnutrition (indirect cause)</a:t>
            </a:r>
            <a:endParaRPr b="0" lang="en-US" sz="2400" spc="-1" strike="noStrike">
              <a:solidFill>
                <a:srgbClr val="000000"/>
              </a:solidFill>
              <a:latin typeface="Arial"/>
            </a:endParaRPr>
          </a:p>
          <a:p>
            <a:pPr indent="43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s</a:t>
            </a:r>
            <a:endParaRPr b="0" lang="en-US" sz="2400" spc="-1" strike="noStrike">
              <a:solidFill>
                <a:srgbClr val="000000"/>
              </a:solidFill>
              <a:latin typeface="Arial"/>
            </a:endParaRPr>
          </a:p>
        </p:txBody>
      </p:sp>
      <p:sp>
        <p:nvSpPr>
          <p:cNvPr id="123"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4"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C517-6FD4-44EF-8E27-48427467B6F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29560" y="83412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100 HIV-positive women give birth to 100 infants, then </a:t>
            </a:r>
            <a:endParaRPr b="1" lang="en-US" sz="4400" spc="-1" strike="noStrike">
              <a:solidFill>
                <a:srgbClr val="9900cc"/>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10 of the infants will be infected during pregnanc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 20 will be infected during labour and deliver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 30 will be infected during breastfeed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otal number of children infected is 25 to 40. </a:t>
            </a:r>
            <a:endParaRPr b="0" lang="en-US" sz="2800" spc="-1" strike="noStrike">
              <a:solidFill>
                <a:srgbClr val="000000"/>
              </a:solidFill>
              <a:latin typeface="Arial"/>
            </a:endParaRPr>
          </a:p>
        </p:txBody>
      </p:sp>
      <p:sp>
        <p:nvSpPr>
          <p:cNvPr id="127"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E116-18D7-49A3-88E1-A8DFDD10BDC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C141-BC58-48BB-A77F-4B6AAAC802F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6" descr="fcr"/>
          <p:cNvPicPr/>
          <p:nvPr/>
        </p:nvPicPr>
        <p:blipFill>
          <a:blip r:embed="rId1"/>
          <a:stretch/>
        </p:blipFill>
        <p:spPr>
          <a:xfrm>
            <a:off x="1828800" y="838080"/>
            <a:ext cx="5872320" cy="549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fcr 2"/>
          <p:cNvPicPr/>
          <p:nvPr/>
        </p:nvPicPr>
        <p:blipFill>
          <a:blip r:embed="rId1"/>
          <a:stretch/>
        </p:blipFill>
        <p:spPr>
          <a:xfrm>
            <a:off x="1824120" y="681120"/>
            <a:ext cx="5495760" cy="54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7:35:40Z</dcterms:created>
  <dc:creator>melita</dc:creator>
  <dc:description/>
  <dc:language>en-US</dc:language>
  <cp:lastModifiedBy>GUEST OFFICE</cp:lastModifiedBy>
  <dcterms:modified xsi:type="dcterms:W3CDTF">2010-11-05T01:16:20Z</dcterms:modified>
  <cp:revision>94</cp:revision>
  <dc:subject/>
  <dc:title>Why do patients need counselling? </dc:title>
</cp:coreProperties>
</file>