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938AF7-9170-4D8A-835A-EA6754E9C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48E3FC-0C7C-4ABE-863B-DF6800922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1B2FBC-599A-4665-9047-C5A9E84E2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o Column 10 which shows the samples that are sent for quality checking to the State Reference Laboratory. This includes 20% of all positive sample and 5% of all negative samples in the first week of every quarter (that is January, April, July and Octo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the Laboratory Register, the following information can be extracted for the monthly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tatus of clients (positive, negative, indetermin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t utilis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rnal quality assuran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A74B0B-C80E-4354-A5E9-51D1FAFA0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ck register provides information on the stock of critical test kits, drugs, and other essential consumables. The information that can be extracted from this regist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sto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p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s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each kit is separately record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A7F8F1-8F2B-47B3-9B92-FE277CAB6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nly way for an HIV infected person to find out their sero-status is through undergoing an HIV test. The most common way is to detect whether their blood contains antibodies to HIV.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F206C4-BC70-4DD0-9D5A-D40504200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bodies to HIV are produced from 4 to 12 weeks after the moment of infection. The period immediately after infection when there are no antibodies is called the window perio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70F57F-6961-4A7D-A9CB-333AE39FD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ositive result on an HIV antibody test means that the individual’s blood contains the presence of HIV antibodies. So we conclude the person has the viru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CCC92A-E032-4D6E-AA51-2ABC41892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someone during the window period will of course not detect antibodies but since the person is infected, this negative result is a false negativ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B3C518-F2D8-4DE4-BD34-525A43DD5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y testing in a new-born child may pick up antibodies that have been passed on from the mother if she is infected. So we cannot accept the positive antibody test result in a new-born infant. We need to use other tests in this situ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89B043-1A4E-43CC-BFA4-3518933C8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ICTCs, rapid tests are used to detect HIV antibodies. They do not need special equipment and are user-friendly. ELISA or enzyme-linked immunosorbent assay is an efficient test for testing large numbers of samples per day, as in large blood banks or for surveillance studies. But it is not recommended for ICTCs because it requires skilled technical staff, equipment maintenance and a steady power supply and, therefore, may be less suitable for smaller or more isolated clinics or laboratories.  The Western Blot is also an antibody test. But it is more expensive. So it is used less frequently. It is used especially in the case of an indeterminate or unclear test result from a rapid test. Finally, there are tests to detect the virus itself such as the Polymerase Chain Reaction or the PCR. The PCR is used to check for infection in babies born to women infected with HIV/AIDS. Since maternal antibodies that are circulating in the blood of new-born infants only disappear by about 18 months of age, the direct test is necessary to detect the presence of the virus in their syste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C40E78-350D-4D33-8AF0-07B3FF9EF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O recommends a three-test algorithm.  </a:t>
            </a:r>
            <a:r>
              <a:rPr b="0" lang="en-GB" sz="1200" spc="-1" strike="noStrike">
                <a:solidFill>
                  <a:srgbClr val="000000"/>
                </a:solidFill>
                <a:latin typeface="Arial"/>
              </a:rPr>
              <a:t>A client has a blood sample drawn once. If he/ she tests negative on one rapid test, he/ she is declared as HIV-negative. But when a client tests positive on the first kit, the same blood sample is tested a total of three times using other kits with different antigens before the person is declared to be HIV-positive or HIV-infected. A positive test result is only declared when all three tests pick up the presence of antibodies. If two kits show a positive result but the third is negative, the result is declared as indeterminate. Some patients have trouble accepting a positive test result. It is important to explain to them that their blood has been tested with 3 different test kits. For an indeterminate test result, counsel the person to get tested again after 14 to 28 days. If the sample continues to produce an indeterminate result, use a Western Blot or a PCR test or send it to a National Reference Laboratory for further testing. It is important to follow this testing algorithm carefully because we want to avoid causing unnecessary distress to a patien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6757E8-289B-48FA-8154-4D9659D3B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rainees to turn to the Handbook pages which contain the forms related to testing. These are maintained by the Laboratory Technician. The client is identified by a Patient Identification Digit (PID) which should have been assigned by the counsellor. The Laboratory Register contains details of the number of tests that have been run on a sample and the final resul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9AE4A-A846-40AF-951F-4147189F8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9E3B-5D49-416B-951B-72933606D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1E5AD-0CB6-4162-968A-46ABDA5B2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B9BDA-3050-4E11-8012-2C52CAFE4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D01F5-307E-4BFE-9713-79B625BEE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791CA-59AE-4014-ACC6-501712529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E8156-9BD5-42A2-8CD5-5630AD86F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7057E-C63E-44E0-84C8-705A69F02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E815F-EE4E-4593-A6D8-A5EB4511C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9E9C4-B779-4AC6-9E95-30F8558FE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C215E-DD6F-4331-99E4-D1E015E77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663D3-9631-404B-A138-0431BDCF1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9F213-8C6A-4521-B244-71DB7205D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865C5-F2F9-4F5C-A298-1EF8C4266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2DE26-414B-42DA-A8F9-E4385EE9D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6225B-5947-4B00-962A-9C13115E4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AA265-116F-4635-BE1B-B4A1DDEC5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DE99D-09A6-4F5C-ADFB-24EC24612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74BCA-AEFB-4BD8-8933-F5299036E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BE4C0-D78D-49A7-9167-3BFC0771F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357E5-C189-43F9-9A1A-CD3BDDD3A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AE451-96E1-4048-A7FA-C6E9934A4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86481-14FB-4AE9-9EC5-9F68BAEAA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5800-0D9B-4609-B041-2BA5080FF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TC Team Trainin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1672-DB83-40CF-B2CE-A2E8BB48EC9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TC Team Trainin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47BF-7832-40A9-93D4-495CE22E324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0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6160-D5D2-44F9-9FD4-4F9FDB6114D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0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IV testing at the ICTC</a:t>
            </a:r>
            <a:endParaRPr b="1" lang="en-US" sz="3600" spc="-1" strike="noStrike">
              <a:solidFill>
                <a:srgbClr val="9900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B326-62F6-4A48-8B36-BB2CF34C058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38" name="Picture 5" descr="Laboratory Register for ICTC 2"/>
          <p:cNvPicPr/>
          <p:nvPr/>
        </p:nvPicPr>
        <p:blipFill>
          <a:blip r:embed="rId1"/>
          <a:stretch/>
        </p:blipFill>
        <p:spPr>
          <a:xfrm>
            <a:off x="3352680" y="304920"/>
            <a:ext cx="4654800" cy="601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4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DD84-51F5-4D84-A421-21CB01F5B05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41" name="Picture 5" descr="Stock Register for ICTC"/>
          <p:cNvPicPr/>
          <p:nvPr/>
        </p:nvPicPr>
        <p:blipFill>
          <a:blip r:embed="rId1"/>
          <a:stretch/>
        </p:blipFill>
        <p:spPr>
          <a:xfrm>
            <a:off x="3048120" y="228600"/>
            <a:ext cx="477180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1322-53C7-4069-AABB-28D0B5D52E8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cc"/>
                </a:solidFill>
                <a:latin typeface="Arial"/>
              </a:rPr>
              <a:t>The HIV Antibody Test</a:t>
            </a:r>
            <a:endParaRPr b="1" lang="en-US" sz="3600" spc="-1" strike="noStrike">
              <a:solidFill>
                <a:srgbClr val="9900cc"/>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HIV infected person can find out their sero-status through an HIV test.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common tests detects antibodies to HIV.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6AB4-A4FA-4CD4-92B4-01208D742FF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cc"/>
                </a:solidFill>
                <a:latin typeface="Arial"/>
              </a:rPr>
              <a:t>Window Period</a:t>
            </a:r>
            <a:r>
              <a:rPr b="1" lang="en-US" sz="3600" spc="-1" strike="noStrike">
                <a:solidFill>
                  <a:srgbClr val="9900cc"/>
                </a:solidFill>
                <a:latin typeface="Arial"/>
              </a:rPr>
              <a:t> </a:t>
            </a:r>
            <a:endParaRPr b="1" lang="en-US" sz="36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V Antibodies usually develop 4 to 12 weeks after infec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ometimes, 3 months after infec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 period: the period immediately after infection when there are no antibod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5298-3E0C-4149-8D8C-E79338DF526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cc"/>
                </a:solidFill>
                <a:latin typeface="Arial"/>
              </a:rPr>
              <a:t>Meaning of HIV antibody test result:</a:t>
            </a:r>
            <a:br>
              <a:rPr sz="3200"/>
            </a:br>
            <a:r>
              <a:rPr b="1" lang="en-GB" sz="3200" spc="-1" strike="noStrike">
                <a:solidFill>
                  <a:srgbClr val="9900cc"/>
                </a:solidFill>
                <a:latin typeface="Arial"/>
              </a:rPr>
              <a:t>A positive antibody test result </a:t>
            </a:r>
            <a:endParaRPr b="1" lang="en-US" sz="3200" spc="-1" strike="noStrike">
              <a:solidFill>
                <a:srgbClr val="9900cc"/>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vidual’s blood contains HIV antibodi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fore, the person has HIV.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A63E-C3A2-4839-AFE2-34B6B5F7F85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cc"/>
                </a:solidFill>
                <a:latin typeface="Arial"/>
              </a:rPr>
              <a:t>False Negative test result</a:t>
            </a:r>
            <a:endParaRPr b="1" lang="en-US" sz="3600" spc="-1" strike="noStrike">
              <a:solidFill>
                <a:srgbClr val="9900cc"/>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ing during the window period will always cause a negative result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person is infecte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fore false neg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33E0-770E-41E5-A8BD-771AE553F67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cc"/>
                </a:solidFill>
                <a:latin typeface="Arial"/>
              </a:rPr>
              <a:t>Infant’s Positive test result</a:t>
            </a:r>
            <a:endParaRPr b="1" lang="en-US" sz="3600" spc="-1" strike="noStrike">
              <a:solidFill>
                <a:srgbClr val="9900cc"/>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ing a newly born child to a woman who is infected with HIV will always cause a positive result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these could be antibodies from the mother which have passed to the chil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fore need for additional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2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3DCB-8580-4DA6-B19B-FFF21771E85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cc"/>
                </a:solidFill>
                <a:latin typeface="Arial"/>
              </a:rPr>
              <a:t>Commonly used HIV tests</a:t>
            </a:r>
            <a:endParaRPr b="1" lang="en-US" sz="3600" spc="-1" strike="noStrike">
              <a:solidFill>
                <a:srgbClr val="9900cc"/>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pid test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ISA</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stern Blot</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s to detect the virus itself : PC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NACO recommends the use of rapid tests so that the client can receive the result within 30 minute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1882-09FA-4DD2-9EF8-212E4F39F0D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31" name=""/>
          <p:cNvSpPr txBox="1"/>
          <p:nvPr/>
        </p:nvSpPr>
        <p:spPr>
          <a:xfrm>
            <a:off x="705600" y="629640"/>
            <a:ext cx="2474280" cy="1330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ree-test algorithm</a:t>
            </a:r>
            <a:endParaRPr b="1" lang="en-US" sz="3600" spc="-1" strike="noStrike">
              <a:solidFill>
                <a:srgbClr val="9900cc"/>
              </a:solidFill>
              <a:latin typeface="Arial"/>
            </a:endParaRPr>
          </a:p>
        </p:txBody>
      </p:sp>
      <p:pic>
        <p:nvPicPr>
          <p:cNvPr id="132" name="Picture 6" descr=""/>
          <p:cNvPicPr/>
          <p:nvPr/>
        </p:nvPicPr>
        <p:blipFill>
          <a:blip r:embed="rId1"/>
          <a:stretch/>
        </p:blipFill>
        <p:spPr>
          <a:xfrm>
            <a:off x="3257640" y="609480"/>
            <a:ext cx="4805280" cy="579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C Team Training</a:t>
            </a:r>
            <a:endParaRPr b="0" lang="en-US" sz="1400" spc="-1" strike="noStrike">
              <a:solidFill>
                <a:srgbClr val="000000"/>
              </a:solidFill>
              <a:latin typeface="Arial"/>
            </a:endParaRPr>
          </a:p>
        </p:txBody>
      </p:sp>
      <p:sp>
        <p:nvSpPr>
          <p:cNvPr id="134"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9E04-31F1-4CE1-A428-AC6BFB93E1A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35" name="Picture 5" descr="Laboratory Register for ICTC 1"/>
          <p:cNvPicPr/>
          <p:nvPr/>
        </p:nvPicPr>
        <p:blipFill>
          <a:blip r:embed="rId1"/>
          <a:stretch/>
        </p:blipFill>
        <p:spPr>
          <a:xfrm>
            <a:off x="3124080" y="304920"/>
            <a:ext cx="459576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7:35:40Z</dcterms:created>
  <dc:creator>melita</dc:creator>
  <dc:description/>
  <dc:language>en-US</dc:language>
  <cp:lastModifiedBy>GUEST OFFICE</cp:lastModifiedBy>
  <dcterms:modified xsi:type="dcterms:W3CDTF">2010-11-04T07:32:57Z</dcterms:modified>
  <cp:revision>18</cp:revision>
  <dc:subject/>
  <dc:title>Why do patients need counselling? </dc:title>
</cp:coreProperties>
</file>