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C8CD4A-4C9F-44F4-8ED7-35F948559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AF592C-38C3-4092-8B7B-1222B0E23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rainees to turn to the page in the handbook with the Counselling Tool on TB integration. Display the next five slides slowly as trainees read the information in the box.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e need for proper contact details so that follow-up by outreach workers is more efficient.  Remind them that  at the ICTC, they should maintain this in a confidential manner in the PID register while all other records should only identify the patient by the PI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09E2CF-B98D-4242-AC51-703FDF534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2A4C5F-AB1A-4979-B977-9DCF2404E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ICTC Referral Form which was mentioned on a previous sli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ssion is related to the link between the national TB and HIV programmes. TB is a serious problem for PLWHAs. It is one of the most common opportunistic infections. A PLWHA has a higher chance of getting infected with TB than a non-HIV-infected person. His/ her CD4 cells are less in number because of HIV. Once co-infected with TB the PLWHA may live a shorter life than a non-HIV-infected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2DA137-9204-4199-9657-D622EA43E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o the trainees that the Health Care Providers’ Tool which they have seen previously contains the key counselling points that should be mentioned to TB patients who are referred for HIV testing, namely information about HIV, the test process, and the advantages of “knowing their sero-statu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AA1A8D-8CD8-4D5A-B77A-82DEB3663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CTC Register for General Clients which the trainees have already seen, point out Column 4 where they have to mention the source of the referral where they will circle the TB centre in case of patients referred from t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737742-F4FE-4DAE-A4BC-B67F61D90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Column 17 where they have to mention the TB centre when they are referring an ICTC patient with a persistent cough.</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136702-8394-446F-8E02-F2D7C2EAF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ICTC general register, the ICTC also has to maintain an HIV-TB Collaborative Activity Register. This contains details such a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IV-positive clients referred to the RNTCP</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lients referred from the RNTCP</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IV-positive clients put on DO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the referrals to and from the TB program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s well the patient is identified only by the PI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C216AD-C13F-4B5C-A07C-EEFE12CC1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54BABB-D0C7-4AE4-8742-C999E3631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end of the month, the data from the ICTC Collaborative Activity register is extracted into the Line-list of Persons referred from the ICTC to the RNTCP. This line list is then shared with the STS who provide information regarding the TB diagnosis and TB treatment of the patients who were referred by the ICTC during the month. The STS then returns the completed line list to the ICTC counsellor at the end of the month.</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634B4C-F6DB-4E77-82E3-7FB45D547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6A140F-54F3-484D-83AF-F223B7A4B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Policy wants to increase the number of PLWHAs who get tested for tuberculosis infection. This is done with a sputum exam. On the other hand, the national policy also wants to encourage each and every TB patient to undergo an HIV test and ‘know their sero-status.’ For this purpose, HCP are encouraged to make a routine offer to TB patients to get tested for HIV and refer them to the ICT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2BD1D0-CFCF-4D08-9B9B-1864F63F7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LWHA finds out they are co-infected with HIV, they can start DOTS. By getting treated, they also prevent harm to their family members. </a:t>
            </a:r>
            <a:r>
              <a:rPr b="1" lang="en-US" sz="1200" spc="-1" strike="noStrike">
                <a:solidFill>
                  <a:srgbClr val="000000"/>
                </a:solidFill>
                <a:latin typeface="Arial"/>
              </a:rPr>
              <a:t>It is important to counsel any ICTC patient with a continuing cough for 2 weeks or more to get tested for TB. </a:t>
            </a:r>
            <a:r>
              <a:rPr b="0" lang="en-US" sz="1200" spc="-1" strike="noStrike">
                <a:solidFill>
                  <a:srgbClr val="000000"/>
                </a:solidFill>
                <a:latin typeface="Arial"/>
              </a:rPr>
              <a:t>It is important to explain to them the benefits of getting tested for TB and then getting tre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940A15-B69E-475C-B87A-8FCFDF99B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a method to ensure that the patient takes medications regularly and correctly and completes his/her treatment.  Patients are asked to take their anti-TB medicines in the presence of the health worker. DOTS also </a:t>
            </a:r>
            <a:r>
              <a:rPr b="0" lang="en-GB" sz="1400" spc="-1" strike="noStrike">
                <a:solidFill>
                  <a:srgbClr val="000000"/>
                </a:solidFill>
                <a:latin typeface="Arial"/>
                <a:ea typeface="SimSun"/>
              </a:rPr>
              <a:t>decreases the </a:t>
            </a:r>
            <a:r>
              <a:rPr b="0" lang="en-AU" sz="1400" spc="-1" strike="noStrike">
                <a:solidFill>
                  <a:srgbClr val="000000"/>
                </a:solidFill>
                <a:latin typeface="Arial"/>
              </a:rPr>
              <a:t>the risk of drug-resistance resulting from erratic or incomplete treatment.</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C155FE-757C-44C2-A57E-D58CEEDC2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advantages of DOTS which are listed on the sli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4B6B33-BD96-4222-97A3-9584A4524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a TB patient who knows his/ her HIV status can register at an ART centre and check their CD4 count. They can receive free ART. They can receive co-trimoxazole prophylaxis to protect them against other opportunistic infections. Besides this, they can also protect their sexual partners through safer sex, and get them to check their HIV status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urge all TB patients who test positive for HIV to get their sexual partners tested for HIV as well.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B8D094-6C51-4BD1-B70B-446BABCD1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seen, HIV-TB referrals are one type of Provider-Initiated Testing. The same strategies that we discussed in that session will apply here: namely talking to the DOTS providers to increase the referrals, making sure they have the referral forms and knowing where to send patients. </a:t>
            </a:r>
            <a:r>
              <a:rPr b="0" lang="en-GB" sz="1200" spc="-1" strike="noStrike">
                <a:solidFill>
                  <a:srgbClr val="000000"/>
                </a:solidFill>
                <a:latin typeface="Arial"/>
                <a:ea typeface="SimSun"/>
              </a:rPr>
              <a:t>As HIV-TB co-infection is common, it is important for health providers to counsel and make a routine offer to test all TB patients for HIV. </a:t>
            </a:r>
            <a:r>
              <a:rPr b="1" lang="en-US" sz="1200" spc="-1" strike="noStrike">
                <a:solidFill>
                  <a:srgbClr val="000000"/>
                </a:solidFill>
                <a:latin typeface="Arial"/>
              </a:rPr>
              <a:t>Again, we repeat, though providers may refer their patients for testing to the ICTC, patients can always “opt out” of testing, that is they can refuse to be tested. </a:t>
            </a:r>
            <a:r>
              <a:rPr b="0" lang="en-GB" sz="1200" spc="-1" strike="noStrike">
                <a:solidFill>
                  <a:srgbClr val="000000"/>
                </a:solidFill>
                <a:latin typeface="Arial"/>
                <a:ea typeface="SimSun"/>
              </a:rPr>
              <a:t>At the same time it is important for all HIV positive patients with symptoms suggestive of TB to be evaluated for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06529-39AC-4F97-813F-AD19408B2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692FF-1F28-45FC-8557-E9AB87A70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1A13F-D296-435A-8D1A-06752B6B1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E5EC3-E680-47CB-8071-EEDFBCB26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D0B14-9DF3-4D02-A90A-11E2B2B69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C3C03-08A4-4561-87B6-15BF0D723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109CC-7BE2-4280-A4FF-2B7B449E5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8D0BB-2FD0-4A91-B73B-FC1AF7D65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250DD-E3CE-4FC0-868C-D7301AA62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35A38-7979-4138-8A6B-888973DEE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6F991-84FE-474B-9006-EC28B623B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DDB26-604A-44BF-A913-6849D53A5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BD649-CF6C-41AD-8962-A51E9E378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85033-CCD1-4757-8358-3B9055DFE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F48BD-E0A8-4F46-A39E-FD27AE371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D8CA4-8659-453A-A67E-2F1CCAA8D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6F93F-FBC9-4CA4-A960-ED5DAC334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3EAB8-5BDF-46F1-B860-083FCE8EC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9B082-16A3-4B9D-978B-BFD5889F5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8BDE2-615C-4137-A38D-4B9D8BC58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6D2B3-436D-4DF5-ADAF-1DBD626E7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3E427-A9C9-48B0-AF0A-4F5362541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54B60-E381-4322-A1AE-10BCDC4E9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B0C0E-9078-492C-A2C5-6D7FF51F3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TC Team Training</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B2B6-CBCC-444E-8EB9-3A4AD5BF0C3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TC Team Training</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DB62-52DD-4BED-B464-58948C5F38D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78800" y="1288080"/>
            <a:ext cx="4967280" cy="9507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CTC TB Integration</a:t>
            </a:r>
            <a:endParaRPr b="1" lang="en-US" sz="3600" spc="-1" strike="noStrike">
              <a:solidFill>
                <a:srgbClr val="9900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3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C431-A5C2-4048-9FAE-665A2D1AE22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ea typeface="SimSun"/>
              </a:rPr>
              <a:t>Some key counselling points </a:t>
            </a:r>
            <a:endParaRPr b="0" lang="en-US" sz="40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ea typeface="SimSun"/>
              </a:rPr>
              <a:t>for HIV TB integ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3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6868-DD65-4587-8F5C-963B96A868A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ea typeface="SimSun"/>
              </a:rPr>
              <a:t>What is TB ?</a:t>
            </a:r>
            <a:endParaRPr b="1" lang="en-US" sz="3200" spc="-1" strike="noStrike">
              <a:solidFill>
                <a:srgbClr val="9900cc"/>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erculosis or TB, is an illness caused by germs that are breathed into the lung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germs can settle anywhere in the body, but we most often hear about TB in the lungs. When the lungs are damaged by TB, the person coughs up sputum (mucus from lungs) and cannot breathe easily.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correct treatment, a person can die from T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ea typeface="SimSun"/>
              </a:rPr>
              <a:t>TB can be cured with the correct drug treatment</a:t>
            </a:r>
            <a:endParaRPr b="1" lang="en-US" sz="3200" spc="-1" strike="noStrike">
              <a:solidFill>
                <a:srgbClr val="9900cc"/>
              </a:solidFill>
              <a:latin typeface="Arial"/>
            </a:endParaRPr>
          </a:p>
        </p:txBody>
      </p:sp>
      <p:sp>
        <p:nvSpPr>
          <p:cNvPr id="141" name=""/>
          <p:cNvSpPr txBox="1"/>
          <p:nvPr/>
        </p:nvSpPr>
        <p:spPr>
          <a:xfrm>
            <a:off x="838080" y="2361960"/>
            <a:ext cx="784872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ient must take all of the recommended drugs for the entire treatment time in order to be cured.</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s for treatment of TB are provided free of cost.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can be done without interrupting normal life and work</a:t>
            </a:r>
            <a:endParaRPr b="0" lang="en-US" sz="2800" spc="-1" strike="noStrike">
              <a:solidFill>
                <a:srgbClr val="000000"/>
              </a:solidFill>
              <a:latin typeface="Arial"/>
            </a:endParaRPr>
          </a:p>
        </p:txBody>
      </p:sp>
      <p:sp>
        <p:nvSpPr>
          <p:cNvPr id="142"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4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F137-798F-4299-BA7F-29B733E669D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9100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ea typeface="SimSun"/>
              </a:rPr>
              <a:t>TB spreads</a:t>
            </a:r>
            <a:endParaRPr b="1" lang="en-US" sz="3600" spc="-1" strike="noStrike">
              <a:solidFill>
                <a:srgbClr val="9900cc"/>
              </a:solidFill>
              <a:latin typeface="Arial"/>
            </a:endParaRPr>
          </a:p>
        </p:txBody>
      </p:sp>
      <p:sp>
        <p:nvSpPr>
          <p:cNvPr id="145"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n infected person coughs or sneezes, spraying TB germs into the air. Others may breathe in these germs and become infect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one can get TB. However, not everyone who is infected with TB will become sick.</a:t>
            </a:r>
            <a:endParaRPr b="0" lang="en-US" sz="2800" spc="-1" strike="noStrike">
              <a:solidFill>
                <a:srgbClr val="000000"/>
              </a:solidFill>
              <a:latin typeface="Arial"/>
            </a:endParaRPr>
          </a:p>
        </p:txBody>
      </p:sp>
      <p:sp>
        <p:nvSpPr>
          <p:cNvPr id="146"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47"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6809-C311-48CA-9F6E-E8469A1827D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480" y="834120"/>
            <a:ext cx="80085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ea typeface="SimSun"/>
              </a:rPr>
              <a:t>How to prevent TB from spreading?</a:t>
            </a:r>
            <a:endParaRPr b="1" lang="en-US" sz="3600" spc="-1" strike="noStrike">
              <a:solidFill>
                <a:srgbClr val="9900cc"/>
              </a:solidFill>
              <a:latin typeface="Arial"/>
            </a:endParaRPr>
          </a:p>
        </p:txBody>
      </p:sp>
      <p:sp>
        <p:nvSpPr>
          <p:cNvPr id="14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regular treatment to become cured</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 mouth and nose when coughing or sneez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windows and doors to allow fresh air through the house, use a fan</a:t>
            </a:r>
            <a:endParaRPr b="0" lang="en-US" sz="2800" spc="-1" strike="noStrike">
              <a:solidFill>
                <a:srgbClr val="000000"/>
              </a:solidFill>
              <a:latin typeface="Arial"/>
            </a:endParaRPr>
          </a:p>
        </p:txBody>
      </p:sp>
      <p:sp>
        <p:nvSpPr>
          <p:cNvPr id="150"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51"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DB74-E282-4F3A-BE5D-181B6CA4A75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y test children ?</a:t>
            </a:r>
            <a:endParaRPr b="1" lang="en-US" sz="3600" spc="-1" strike="noStrike">
              <a:solidFill>
                <a:srgbClr val="9900cc"/>
              </a:solidFill>
              <a:latin typeface="Arial"/>
            </a:endParaRPr>
          </a:p>
        </p:txBody>
      </p:sp>
      <p:sp>
        <p:nvSpPr>
          <p:cNvPr id="153" name=""/>
          <p:cNvSpPr txBox="1"/>
          <p:nvPr/>
        </p:nvSpPr>
        <p:spPr>
          <a:xfrm>
            <a:off x="838080" y="2361960"/>
            <a:ext cx="7693200" cy="3724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hildren aged under 6 years living in the household should be examined for TB symptoms. This is especially important because children under 6 years are at risk of sever forms of T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children may need preventive medicines and need to be examined by the docto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5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8772-CF68-4395-B151-2B89A1691C4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y the health worker must observe you swallow pill?</a:t>
            </a:r>
            <a:endParaRPr b="1" lang="en-US" sz="3600" spc="-1" strike="noStrike">
              <a:solidFill>
                <a:srgbClr val="9900cc"/>
              </a:solidFill>
              <a:latin typeface="Arial"/>
            </a:endParaRPr>
          </a:p>
        </p:txBody>
      </p:sp>
      <p:sp>
        <p:nvSpPr>
          <p:cNvPr id="157" name=""/>
          <p:cNvSpPr txBox="1"/>
          <p:nvPr/>
        </p:nvSpPr>
        <p:spPr>
          <a:xfrm>
            <a:off x="838080" y="2361960"/>
            <a:ext cx="7693200" cy="37242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you take the correct drugs regularly for the required time.</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injections are needed, they will be given properly.</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eeing you regularly, the health worker will notice if you have side effects or other problem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directly observed treatment (DOTS), the health worker will know if you miss a dose and will quickly investigate the problem.</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must travel, or if you plan to move, tell the health worker so that arrangements can be made to continue treatment without interruption</a:t>
            </a:r>
            <a:endParaRPr b="0" lang="en-US" sz="2000" spc="-1" strike="noStrike">
              <a:solidFill>
                <a:srgbClr val="000000"/>
              </a:solidFill>
              <a:latin typeface="Arial"/>
            </a:endParaRPr>
          </a:p>
        </p:txBody>
      </p:sp>
      <p:sp>
        <p:nvSpPr>
          <p:cNvPr id="158"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5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59AA-F889-467C-9F03-3EA23E60FC3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Explain to the specific patient:</a:t>
            </a:r>
            <a:endParaRPr b="1" lang="en-US" sz="3600" spc="-1" strike="noStrike">
              <a:solidFill>
                <a:srgbClr val="9900cc"/>
              </a:solidFill>
              <a:latin typeface="Arial"/>
            </a:endParaRPr>
          </a:p>
        </p:txBody>
      </p:sp>
      <p:sp>
        <p:nvSpPr>
          <p:cNvPr id="16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of treatmen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of visits for taking treatmen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o go for treatment</a:t>
            </a:r>
            <a:endParaRPr b="0" lang="en-US" sz="2800" spc="-1" strike="noStrike">
              <a:solidFill>
                <a:srgbClr val="000000"/>
              </a:solidFill>
              <a:latin typeface="Arial"/>
            </a:endParaRPr>
          </a:p>
        </p:txBody>
      </p:sp>
      <p:sp>
        <p:nvSpPr>
          <p:cNvPr id="162"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6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E2CC-2C40-4AD9-ACD6-2D9B3FA134A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hange with Drugs</a:t>
            </a:r>
            <a:endParaRPr b="1" lang="en-US" sz="3600" spc="-1" strike="noStrike">
              <a:solidFill>
                <a:srgbClr val="9900cc"/>
              </a:solidFill>
              <a:latin typeface="Arial"/>
            </a:endParaRPr>
          </a:p>
        </p:txBody>
      </p:sp>
      <p:sp>
        <p:nvSpPr>
          <p:cNvPr id="165" name=""/>
          <p:cNvSpPr txBox="1"/>
          <p:nvPr/>
        </p:nvSpPr>
        <p:spPr>
          <a:xfrm>
            <a:off x="838080" y="2361960"/>
            <a:ext cx="7693200" cy="3724200"/>
          </a:xfrm>
          <a:prstGeom prst="rect">
            <a:avLst/>
          </a:prstGeom>
          <a:noFill/>
          <a:ln w="0">
            <a:noFill/>
          </a:ln>
        </p:spPr>
        <p:txBody>
          <a:bodyPr anchor="t">
            <a:normAutofit fontScale="98000"/>
          </a:bodyPr>
          <a:p>
            <a:pPr marL="335880" indent="-3358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e may turn orange/red as a result of the drug (rifampicin). This is not harmful. </a:t>
            </a:r>
            <a:endParaRPr b="0" lang="en-US" sz="2400" spc="-1" strike="noStrike">
              <a:solidFill>
                <a:srgbClr val="000000"/>
              </a:solidFill>
              <a:latin typeface="Arial"/>
            </a:endParaRPr>
          </a:p>
          <a:p>
            <a:pPr marL="335880" indent="-3358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eel nausea from the drugs, bring a bit of food to eat when taking the next dose.</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eatment should not interfere with normal life and work</a:t>
            </a: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ke sure that the patient knows exactly where and when to go for the next treatment.</a:t>
            </a: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mind patient to bring family and other close contacts for TB tested as needed.</a:t>
            </a:r>
            <a:endParaRPr b="0" lang="en-US" sz="2000" spc="-1" strike="noStrike">
              <a:solidFill>
                <a:srgbClr val="000000"/>
              </a:solidFill>
              <a:latin typeface="Arial"/>
            </a:endParaRPr>
          </a:p>
        </p:txBody>
      </p:sp>
      <p:sp>
        <p:nvSpPr>
          <p:cNvPr id="166"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67"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80DF-5F40-4E50-A2E1-239E9A851F6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121D-B5E7-4B14-9C63-FC410CA4822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cc"/>
                </a:solidFill>
                <a:latin typeface="Arial"/>
                <a:ea typeface="SimSun"/>
              </a:rPr>
              <a:t>ICTC</a:t>
            </a:r>
            <a:r>
              <a:rPr b="1" lang="en-GB" sz="3600" spc="-1" strike="noStrike">
                <a:solidFill>
                  <a:srgbClr val="9900cc"/>
                </a:solidFill>
                <a:latin typeface="Arial"/>
              </a:rPr>
              <a:t> </a:t>
            </a:r>
            <a:r>
              <a:rPr b="1" lang="en-GB" sz="3200" spc="-1" strike="noStrike">
                <a:solidFill>
                  <a:srgbClr val="9900cc"/>
                </a:solidFill>
                <a:latin typeface="Arial"/>
                <a:ea typeface="SimSun"/>
              </a:rPr>
              <a:t>Referral form</a:t>
            </a:r>
            <a:endParaRPr b="1" lang="en-US" sz="3200" spc="-1" strike="noStrike">
              <a:solidFill>
                <a:srgbClr val="9900cc"/>
              </a:solidFill>
              <a:latin typeface="Arial"/>
            </a:endParaRPr>
          </a:p>
        </p:txBody>
      </p:sp>
      <p:pic>
        <p:nvPicPr>
          <p:cNvPr id="171" name="Picture 3" descr="IntensifiedPackageModule_Counsellors"/>
          <p:cNvPicPr/>
          <p:nvPr/>
        </p:nvPicPr>
        <p:blipFill>
          <a:blip r:embed="rId1"/>
          <a:stretch/>
        </p:blipFill>
        <p:spPr>
          <a:xfrm>
            <a:off x="3244680" y="2362320"/>
            <a:ext cx="3181680" cy="4114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cc"/>
                </a:solidFill>
                <a:latin typeface="Arial"/>
                <a:ea typeface="SimSun"/>
              </a:rPr>
              <a:t>Why should ICTCs</a:t>
            </a:r>
            <a:r>
              <a:rPr b="1" lang="en-GB" sz="3200" spc="-1" strike="noStrike">
                <a:solidFill>
                  <a:srgbClr val="9900cc"/>
                </a:solidFill>
                <a:latin typeface="Arial"/>
              </a:rPr>
              <a:t> worry about TB ?</a:t>
            </a:r>
            <a:endParaRPr b="1" lang="en-US" sz="3200" spc="-1" strike="noStrike">
              <a:solidFill>
                <a:srgbClr val="9900cc"/>
              </a:solidFill>
              <a:latin typeface="Arial"/>
            </a:endParaRPr>
          </a:p>
        </p:txBody>
      </p:sp>
      <p:sp>
        <p:nvSpPr>
          <p:cNvPr id="104" name="PlaceHolder 1"/>
          <p:cNvSpPr>
            <a:spLocks noGrp="1"/>
          </p:cNvSpPr>
          <p:nvPr>
            <p:ph/>
          </p:nvPr>
        </p:nvSpPr>
        <p:spPr>
          <a:xfrm>
            <a:off x="838080" y="2362320"/>
            <a:ext cx="7693200" cy="403848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TB is one of the </a:t>
            </a:r>
            <a:r>
              <a:rPr b="0" lang="en-US" sz="2800" spc="-1" strike="noStrike">
                <a:solidFill>
                  <a:srgbClr val="000000"/>
                </a:solidFill>
                <a:latin typeface="Arial"/>
                <a:ea typeface="SimSun"/>
              </a:rPr>
              <a:t>most common OI in HIV positive persons </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PLWHA have a 50 to 60% lifetime risk of TB:    The uninfected person’s lifetime risk is 10%</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PLWHA co-infected with TB live a shorter life because TB infection hastens progress of HIV disease by increasing viral replication / multipl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7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3525-8B22-47C2-B9E3-571209B365A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174" name="Picture 5" descr="Health_Care_provider_Tool 1"/>
          <p:cNvPicPr/>
          <p:nvPr/>
        </p:nvPicPr>
        <p:blipFill>
          <a:blip r:embed="rId1"/>
          <a:stretch/>
        </p:blipFill>
        <p:spPr>
          <a:xfrm>
            <a:off x="762120" y="453960"/>
            <a:ext cx="7513560" cy="5632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4903-F330-4F65-9731-11DB30AB6EE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177" name="Picture 6" descr="ICTC Register for General Clients 1"/>
          <p:cNvPicPr/>
          <p:nvPr/>
        </p:nvPicPr>
        <p:blipFill>
          <a:blip r:embed="rId1"/>
          <a:stretch/>
        </p:blipFill>
        <p:spPr>
          <a:xfrm>
            <a:off x="2597040" y="457200"/>
            <a:ext cx="4353120" cy="562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7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9A93-DE39-43FC-B77B-D9824B5A140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180" name="Picture 5" descr="ICTC Register for General Clients 3"/>
          <p:cNvPicPr/>
          <p:nvPr/>
        </p:nvPicPr>
        <p:blipFill>
          <a:blip r:embed="rId1"/>
          <a:stretch/>
        </p:blipFill>
        <p:spPr>
          <a:xfrm>
            <a:off x="2244600" y="762120"/>
            <a:ext cx="4537080" cy="586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82"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9996-61AB-45EB-9E37-2DDFB1B2431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183" name="Picture 4" descr="ICTC HIV TB register_Page_1"/>
          <p:cNvPicPr/>
          <p:nvPr/>
        </p:nvPicPr>
        <p:blipFill>
          <a:blip r:embed="rId1"/>
          <a:stretch/>
        </p:blipFill>
        <p:spPr>
          <a:xfrm>
            <a:off x="2370240" y="380880"/>
            <a:ext cx="4411440" cy="5705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8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6B97-DE42-4253-8813-43158140A2D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186" name="Picture 4" descr="ICTC HIV TB register_Page_2"/>
          <p:cNvPicPr/>
          <p:nvPr/>
        </p:nvPicPr>
        <p:blipFill>
          <a:blip r:embed="rId1"/>
          <a:stretch/>
        </p:blipFill>
        <p:spPr>
          <a:xfrm>
            <a:off x="2665440" y="762120"/>
            <a:ext cx="4116240" cy="5324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8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56E8-3B73-4067-AB62-33B9F970EFD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189" name="Table 5" descr=""/>
          <p:cNvPicPr/>
          <p:nvPr/>
        </p:nvPicPr>
        <p:blipFill>
          <a:blip r:embed="rId1"/>
          <a:stretch/>
        </p:blipFill>
        <p:spPr>
          <a:xfrm>
            <a:off x="762120" y="762120"/>
            <a:ext cx="7845480" cy="5102280"/>
          </a:xfrm>
          <a:prstGeom prst="rect">
            <a:avLst/>
          </a:prstGeom>
          <a:ln w="0">
            <a:noFill/>
          </a:ln>
        </p:spPr>
      </p:pic>
      <p:sp>
        <p:nvSpPr>
          <p:cNvPr id="190" name="Rectangle 7"/>
          <p:cNvSpPr/>
          <p:nvPr/>
        </p:nvSpPr>
        <p:spPr>
          <a:xfrm>
            <a:off x="0" y="0"/>
            <a:ext cx="91440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ea typeface="SimSun"/>
              </a:rPr>
              <a:t>Line-list of Persons Referred from ICTC to RNTC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Times New Roman"/>
              </a:rPr>
              <a:t>REPORTING MONTH:        YEAR              NAME OF ICTC:</a:t>
            </a:r>
            <a:r>
              <a:rPr b="0" lang="en-US" sz="1600" spc="-1" strike="noStrike">
                <a:solidFill>
                  <a:srgbClr val="000000"/>
                </a:solidFill>
                <a:latin typeface="Cambria"/>
                <a:ea typeface="Times New Roman"/>
              </a:rPr>
              <a:t>	</a:t>
            </a:r>
            <a:r>
              <a:rPr b="0" lang="en-US" sz="1600" spc="-1" strike="noStrike">
                <a:solidFill>
                  <a:srgbClr val="000000"/>
                </a:solidFill>
                <a:latin typeface="Cambria"/>
                <a:ea typeface="Times New Roman"/>
              </a:rPr>
              <a:t>     NAME OF DISTRICT</a:t>
            </a:r>
            <a:r>
              <a:rPr b="0" lang="en-US" sz="1800" spc="-1" strike="noStrike">
                <a:solidFill>
                  <a:srgbClr val="000000"/>
                </a:solidFill>
                <a:latin typeface="Garamond"/>
                <a:ea typeface="Times New Roman"/>
              </a:rPr>
              <a:t>:</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9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3AD9-AD53-440B-AEAB-ECE7B26D1B1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ea typeface="SimSun"/>
              </a:rPr>
              <a:t>Documentation for HIV-TB Integration</a:t>
            </a:r>
            <a:r>
              <a:rPr b="1" lang="en-US" sz="3200" spc="-1" strike="noStrike">
                <a:solidFill>
                  <a:srgbClr val="9900cc"/>
                </a:solidFill>
                <a:latin typeface="Arial"/>
              </a:rPr>
              <a:t> </a:t>
            </a:r>
            <a:endParaRPr b="1" lang="en-US" sz="3200" spc="-1" strike="noStrike">
              <a:solidFill>
                <a:srgbClr val="9900cc"/>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umn 4 and 17 of the ICTC Register for General clients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CTC HIV-TB Collaborative Activity Register. (Use the PID)</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ed Counseling and Testing Centre referral form.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d of the month</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e-list of Persons referred from the ICTC to the RNTC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0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7FA0-233B-41BB-8620-F085BDBA776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ea typeface="SimSun"/>
              </a:rPr>
              <a:t>National Policy on TB and HIV</a:t>
            </a:r>
            <a:endParaRPr b="1" lang="en-US" sz="3200" spc="-1" strike="noStrike">
              <a:solidFill>
                <a:srgbClr val="9900cc"/>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lvl="1" marL="465120" indent="-35064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All the clients at the ICTC should be screened for symptoms and signs of TB </a:t>
            </a:r>
            <a:endParaRPr b="0" lang="en-US" sz="3200" spc="-1" strike="noStrike">
              <a:solidFill>
                <a:srgbClr val="000000"/>
              </a:solidFill>
              <a:latin typeface="Arial"/>
            </a:endParaRPr>
          </a:p>
          <a:p>
            <a:pPr lvl="1" marL="465120" indent="-35064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Every TB patient should be encouraged to “know their HIV statu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245A-4571-4BE6-B920-6B104F66046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ea typeface="SimSun"/>
              </a:rPr>
              <a:t>How does knowing TB status help PLWHAs</a:t>
            </a:r>
            <a:endParaRPr b="1" lang="en-US" sz="32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Start TB treatment early and prevent  wide spread infection</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 </a:t>
            </a:r>
            <a:r>
              <a:rPr b="0" lang="en-IN" sz="2000" spc="-1" strike="noStrike">
                <a:solidFill>
                  <a:srgbClr val="000000"/>
                </a:solidFill>
                <a:latin typeface="Arial"/>
              </a:rPr>
              <a:t>Reduce morbidity and mortality from TB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 </a:t>
            </a:r>
            <a:r>
              <a:rPr b="0" lang="en-IN" sz="2000" spc="-1" strike="noStrike">
                <a:solidFill>
                  <a:srgbClr val="000000"/>
                </a:solidFill>
                <a:latin typeface="Arial"/>
              </a:rPr>
              <a:t>Start treatment under DOTS, complete the full course and prevent relapse of infection or emergence of resistant TB</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Diagnosing TB infection and starting treatment early can prevent spread of infection among family members</a:t>
            </a:r>
            <a:endParaRPr b="0" lang="en-US" sz="2000" spc="-1" strike="noStrike">
              <a:solidFill>
                <a:srgbClr val="000000"/>
              </a:solidFill>
              <a:latin typeface="Arial"/>
            </a:endParaRPr>
          </a:p>
          <a:p>
            <a:pPr lvl="1" marL="115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15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ICTC Counsellors should ask all HIV positive patients about history of cough, sputum and fever. All PLHA experiencing </a:t>
            </a:r>
            <a:r>
              <a:rPr b="1" lang="en-GB" sz="2400" spc="-1" strike="noStrike">
                <a:solidFill>
                  <a:srgbClr val="000000"/>
                </a:solidFill>
                <a:latin typeface="Arial"/>
                <a:ea typeface="SimSun"/>
              </a:rPr>
              <a:t>prolonged cough for 2 weeks of more should be referred for TB testing</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1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1C39-6F95-4FE2-8B9A-BDD87AE8EE3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cc"/>
                </a:solidFill>
                <a:latin typeface="Arial"/>
                <a:ea typeface="SimSun"/>
              </a:rPr>
              <a:t>What is DOTS?</a:t>
            </a:r>
            <a:endParaRPr b="1" lang="en-US" sz="3200" spc="-1" strike="noStrike">
              <a:solidFill>
                <a:srgbClr val="9900cc"/>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lvl="1" marL="507960" indent="-2761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Directly Observed Treatment - short course is provided by the national TB programme </a:t>
            </a:r>
            <a:endParaRPr b="0" lang="en-US" sz="2800" spc="-1" strike="noStrike">
              <a:solidFill>
                <a:srgbClr val="000000"/>
              </a:solidFill>
              <a:latin typeface="Arial"/>
            </a:endParaRPr>
          </a:p>
          <a:p>
            <a:pPr lvl="1" marL="507960" indent="-2761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Health worker watches the patient swallow TB medications</a:t>
            </a:r>
            <a:r>
              <a:rPr b="0" lang="en-GB" sz="2800" spc="-1" strike="noStrike">
                <a:solidFill>
                  <a:srgbClr val="ff0000"/>
                </a:solidFill>
                <a:latin typeface="Arial"/>
                <a:ea typeface="SimSun"/>
              </a:rPr>
              <a:t> </a:t>
            </a:r>
            <a:r>
              <a:rPr b="0" lang="en-GB" sz="2800" spc="-1" strike="noStrike">
                <a:solidFill>
                  <a:srgbClr val="000000"/>
                </a:solidFill>
                <a:latin typeface="Arial"/>
                <a:ea typeface="SimSun"/>
              </a:rPr>
              <a:t>according to the treatment schedule.</a:t>
            </a:r>
            <a:endParaRPr b="0" lang="en-US" sz="2800" spc="-1" strike="noStrike">
              <a:solidFill>
                <a:srgbClr val="000000"/>
              </a:solidFill>
              <a:latin typeface="Arial"/>
            </a:endParaRPr>
          </a:p>
          <a:p>
            <a:pPr lvl="1" marL="507960" indent="-2761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Decreases the </a:t>
            </a:r>
            <a:r>
              <a:rPr b="0" lang="en-AU" sz="2800" spc="-1" strike="noStrike">
                <a:solidFill>
                  <a:srgbClr val="000000"/>
                </a:solidFill>
                <a:latin typeface="Arial"/>
              </a:rPr>
              <a:t>the risk of drug-resistance resulting from erratic or incomplete treatment.</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1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9072-D010-4763-93B9-37AF81F0776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cc"/>
                </a:solidFill>
                <a:latin typeface="Arial"/>
                <a:ea typeface="SimSun"/>
              </a:rPr>
              <a:t>Benefits of DOTS</a:t>
            </a:r>
            <a:endParaRPr b="1" lang="en-US" sz="3200" spc="-1" strike="noStrike">
              <a:solidFill>
                <a:srgbClr val="9900cc"/>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Ensures patients take medicine correctly and that patients complete their full anti TB cours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Provides close monitoring of side effects, the need for injections, drug interactions with other medications and treatment failu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Decreases chances of treatment failure and relapse</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2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E3E6-59E8-47D8-AC33-AFD8653B878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ea typeface="SimSun"/>
              </a:rPr>
              <a:t>How does knowing HIV status help TB patients</a:t>
            </a:r>
            <a:endParaRPr b="1" lang="en-US" sz="3200" spc="-1" strike="noStrike">
              <a:solidFill>
                <a:srgbClr val="9900cc"/>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lvl="1" marL="50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TB Patients with HIV can access:</a:t>
            </a:r>
            <a:endParaRPr b="0" lang="en-US" sz="2400" spc="-1" strike="noStrike">
              <a:solidFill>
                <a:srgbClr val="000000"/>
              </a:solidFill>
              <a:latin typeface="Arial"/>
            </a:endParaRPr>
          </a:p>
          <a:p>
            <a:pPr lvl="1" marL="507960" indent="-27612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are and support services</a:t>
            </a:r>
            <a:endParaRPr b="0" lang="en-US" sz="2400" spc="-1" strike="noStrike">
              <a:solidFill>
                <a:srgbClr val="000000"/>
              </a:solidFill>
              <a:latin typeface="Arial"/>
            </a:endParaRPr>
          </a:p>
          <a:p>
            <a:pPr lvl="1" marL="507960" indent="-27612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o-trimoxazole prophylaxis (CPT) </a:t>
            </a:r>
            <a:endParaRPr b="0" lang="en-US" sz="2400" spc="-1" strike="noStrike">
              <a:solidFill>
                <a:srgbClr val="000000"/>
              </a:solidFill>
              <a:latin typeface="Arial"/>
            </a:endParaRPr>
          </a:p>
          <a:p>
            <a:pPr lvl="1" marL="507960" indent="-27612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Treatment for OIs</a:t>
            </a:r>
            <a:endParaRPr b="0" lang="en-US" sz="2400" spc="-1" strike="noStrike">
              <a:solidFill>
                <a:srgbClr val="000000"/>
              </a:solidFill>
              <a:latin typeface="Arial"/>
            </a:endParaRPr>
          </a:p>
          <a:p>
            <a:pPr lvl="1" marL="507960" indent="-27612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Antiretroviral therapy (ART) </a:t>
            </a:r>
            <a:endParaRPr b="0" lang="en-US" sz="2400" spc="-1" strike="noStrike">
              <a:solidFill>
                <a:srgbClr val="000000"/>
              </a:solidFill>
              <a:latin typeface="Arial"/>
            </a:endParaRPr>
          </a:p>
          <a:p>
            <a:pPr lvl="1" marL="507960" indent="-27612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evention counselling and services</a:t>
            </a:r>
            <a:endParaRPr b="0" lang="en-US" sz="2400" spc="-1" strike="noStrike">
              <a:solidFill>
                <a:srgbClr val="000000"/>
              </a:solidFill>
              <a:latin typeface="Arial"/>
            </a:endParaRPr>
          </a:p>
          <a:p>
            <a:pPr lvl="1" marL="507960" indent="-27612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Social support services (PLHA networks)</a:t>
            </a:r>
            <a:endParaRPr b="0" lang="en-US" sz="2400" spc="-1" strike="noStrike">
              <a:solidFill>
                <a:srgbClr val="000000"/>
              </a:solidFill>
              <a:latin typeface="Arial"/>
            </a:endParaRPr>
          </a:p>
          <a:p>
            <a:pPr lvl="1" marL="50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0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IV infected TB patients should be counselled to get their sexual partners tested for HIV and TB.</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2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BA18-2AD5-4FF6-B3EC-1C93F166162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ea typeface="SimSun"/>
              </a:rPr>
              <a:t>HIV-TB Integration as a case of Provider-Initiated Testing</a:t>
            </a:r>
            <a:r>
              <a:rPr b="1" lang="en-US" sz="3200" spc="-1" strike="noStrike">
                <a:solidFill>
                  <a:srgbClr val="9900cc"/>
                </a:solidFill>
                <a:latin typeface="Arial"/>
              </a:rPr>
              <a:t> </a:t>
            </a:r>
            <a:endParaRPr b="1" lang="en-US" sz="3200" spc="-1" strike="noStrike">
              <a:solidFill>
                <a:srgbClr val="9900cc"/>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fontScale="90000"/>
          </a:bodyPr>
          <a:p>
            <a:pPr marL="308520" indent="-30852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Provider initiated testing is a strategy designed to increase HIV testing among at risk populations</a:t>
            </a:r>
            <a:endParaRPr b="0" lang="en-US" sz="2400" spc="-1" strike="noStrike">
              <a:solidFill>
                <a:srgbClr val="000000"/>
              </a:solidFill>
              <a:latin typeface="Arial"/>
            </a:endParaRPr>
          </a:p>
          <a:p>
            <a:pPr marL="308520" indent="-30852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As HIV-TB co-infection is common:</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	</a:t>
            </a:r>
            <a:r>
              <a:rPr b="0" lang="en-IN" sz="2400" spc="-1" strike="noStrike">
                <a:solidFill>
                  <a:srgbClr val="000000"/>
                </a:solidFill>
                <a:latin typeface="Arial"/>
              </a:rPr>
              <a:t>--counsel and make a routine offer to test all TB patients for HIV</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IN" sz="2400" spc="-1" strike="noStrike">
                <a:solidFill>
                  <a:srgbClr val="000000"/>
                </a:solidFill>
                <a:latin typeface="Arial"/>
              </a:rPr>
              <a:t> </a:t>
            </a:r>
            <a:r>
              <a:rPr b="0" lang="en-IN" sz="2400" spc="-1" strike="noStrike">
                <a:solidFill>
                  <a:srgbClr val="000000"/>
                </a:solidFill>
                <a:latin typeface="Arial"/>
              </a:rPr>
              <a:t>--all HIV positive patients with symptoms suggestive of TB to be evaluated for TB infection.</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Remember: Though TB patients may be referred to the ICTC, they have the right to “opt-out” of being tested!</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CD4C-9C54-4BCF-8AF2-054EECE250E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ea typeface="SimSun"/>
              </a:rPr>
              <a:t>How can we strengthen linkages between TB and HIV</a:t>
            </a:r>
            <a:endParaRPr b="1" lang="en-US" sz="3200" spc="-1" strike="noStrike">
              <a:solidFill>
                <a:srgbClr val="9900cc"/>
              </a:solidFill>
              <a:latin typeface="Arial"/>
            </a:endParaRPr>
          </a:p>
        </p:txBody>
      </p:sp>
      <p:sp>
        <p:nvSpPr>
          <p:cNvPr id="132" name="PlaceHolder 1"/>
          <p:cNvSpPr>
            <a:spLocks noGrp="1"/>
          </p:cNvSpPr>
          <p:nvPr>
            <p:ph/>
          </p:nvPr>
        </p:nvSpPr>
        <p:spPr>
          <a:xfrm>
            <a:off x="837720" y="2437920"/>
            <a:ext cx="8001000" cy="396252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TC centres and Designated Microsopy centres (DMC) or DOTS should be in the same premise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ICTC and RNTCP staff should be trained in HIV-TB</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ICTCs should have a directory of state wide DMC/DOTS centre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NTCP units should have a directory of state wide ICTC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TC and RNTCP staff should follow-up referral case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review meetings at RNTCP units should be attended by ICTC staff</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ral forms for HIV testing/ICTC should be available at TB uni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07:35:40Z</dcterms:created>
  <dc:creator>melita</dc:creator>
  <dc:description/>
  <dc:language>en-US</dc:language>
  <cp:lastModifiedBy>GUEST OFFICE</cp:lastModifiedBy>
  <dcterms:modified xsi:type="dcterms:W3CDTF">2010-11-04T08:19:47Z</dcterms:modified>
  <cp:revision>49</cp:revision>
  <dc:subject/>
  <dc:title>Why do patients need counselling?</dc:title>
</cp:coreProperties>
</file>