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2C8D03-1AE7-4221-A126-8E64627A6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A29E4E-7D5F-46CD-952A-928B24EF3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ctures include (from top left to righ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ar or communal Sikh kit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on the mo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cricket team in a hu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gears of a w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mashtami human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at work on lap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ed h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g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putting together a jigsaw puzz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t plan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s in a honeyco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climbing abacus, calculator and comp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ke boat race in Ker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A082-5155-4D7C-91F9-3448ED12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547-5F18-4AA0-B581-8029F9B1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6556-86CE-46BE-B291-C37311C1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48FA-0E96-4148-B37D-3CE198FB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2A50-722C-46A0-8CD7-31E4FE56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FBC5-B190-4E6A-BEF2-464D81C2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6A61-ADBB-4719-B4A4-1D343568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9985-BBBB-421C-8935-32A0F57E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C580-402B-4433-A0A5-B3F2B815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DF39-3CBA-4F00-8877-7B1E4CEA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2339-F389-4229-8954-5C6A6E71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B9C-D039-4138-86FA-50D99A55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3BC2-A06A-4843-B19B-D67A8302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084D-7B4D-4B5D-A9E5-B2B6CB1A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6040-9C94-444F-AD2D-C21AA0AF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9980-B4EC-4F08-AFC1-E998E871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D2BA-7C6D-4982-BCA8-2D7175E8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168E-6041-4E57-AA50-571EF015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A22-E337-4EA4-BB07-ADCD90DE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3588-F8DA-4580-AC99-71EC08BD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BA2-B92B-4BF1-A29A-DD7F56DC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3C8-9A85-436B-ADED-7EBDDE0E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E59-6FE9-4789-AE3B-01AE5809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7CCF-A041-4203-AC25-C8C40F99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TC Team 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7AC4-4AA6-4621-85DF-506A16D76DF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TC Team 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A658-4655-40B9-BF69-7C7C8EFABD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in/imgres?imgurl=http://www.dreamstime.com/old-watch-gears-are-symbols-of-teamwork-thumb1531901.jpg&amp;imgrefurl=http://www.dreamstime.com/old-watch---gears-are-symbols-of-teamwork-image1531901&amp;usg=__IlmEoIb69gwY0IxsWYyRQ-zjLrQ=&amp;h=350&amp;w=233&amp;sz=47&amp;hl=en&amp;start=12&amp;tbnid=Sp15XTp6MBA4qM:&amp;tbnh=120&amp;tbnw=80&amp;prev=/images%3Fq%3Dsymbol%2Bof%2Bteamwork%26gbv%3D2%26hl%3Den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hyperlink" Target="http://images.google.co.in/imgres?imgurl=http://astrogeology.usgs.gov/HotTopics/uploads/144685main_aldrin_moon.jpg&amp;imgrefurl=http://astrogeology.usgs.gov/HotTopics/index.php%3F/categories/15-Manned-Missions&amp;usg=__btQuwfoGRPBM0hwS6N-Qw_frgdg=&amp;h=389&amp;w=335&amp;sz=47&amp;hl=en&amp;start=7&amp;tbnid=xoctfp_o98WC1M:&amp;tbnh=123&amp;tbnw=106&amp;prev=/images%3Fq%3Dman%2Bon%2Bthe%2Bmoon%26gbv%3D2%26hl%3Den" TargetMode="External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wmf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CTC Team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B0D6-8F0F-4DE2-8C21-4D3D4779BEA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icture-Perfect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5" descr="dsc03497"/>
          <p:cNvPicPr/>
          <p:nvPr/>
        </p:nvPicPr>
        <p:blipFill>
          <a:blip r:embed="rId1"/>
          <a:stretch/>
        </p:blipFill>
        <p:spPr>
          <a:xfrm>
            <a:off x="304920" y="1523880"/>
            <a:ext cx="2230200" cy="297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2" descr="indians_huddle"/>
          <p:cNvPicPr/>
          <p:nvPr/>
        </p:nvPicPr>
        <p:blipFill>
          <a:blip r:embed="rId2"/>
          <a:stretch/>
        </p:blipFill>
        <p:spPr>
          <a:xfrm>
            <a:off x="4267080" y="304920"/>
            <a:ext cx="3048120" cy="2493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Joined_Hands(How_it_Works)"/>
          <p:cNvPicPr/>
          <p:nvPr/>
        </p:nvPicPr>
        <p:blipFill>
          <a:blip r:embed="rId3"/>
          <a:stretch/>
        </p:blipFill>
        <p:spPr>
          <a:xfrm>
            <a:off x="2286000" y="327672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beehive600"/>
          <p:cNvPicPr/>
          <p:nvPr/>
        </p:nvPicPr>
        <p:blipFill>
          <a:blip r:embed="rId4"/>
          <a:stretch/>
        </p:blipFill>
        <p:spPr>
          <a:xfrm>
            <a:off x="0" y="4317840"/>
            <a:ext cx="2362320" cy="158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6" descr="old-watch-gears-are-symbols-of-teamwork-thumb153190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86600" y="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2" descr="kerala-boat-race"/>
          <p:cNvPicPr/>
          <p:nvPr/>
        </p:nvPicPr>
        <p:blipFill>
          <a:blip r:embed="rId7"/>
          <a:stretch/>
        </p:blipFill>
        <p:spPr>
          <a:xfrm>
            <a:off x="2362320" y="4951440"/>
            <a:ext cx="6781680" cy="190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5" descr="144685main_aldrin_moon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611440" y="0"/>
            <a:ext cx="164160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MPj04393590000[1]"/>
          <p:cNvPicPr/>
          <p:nvPr/>
        </p:nvPicPr>
        <p:blipFill>
          <a:blip r:embed="rId10"/>
          <a:stretch/>
        </p:blipFill>
        <p:spPr>
          <a:xfrm>
            <a:off x="2666880" y="16765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MCj02958860000[1]"/>
          <p:cNvPicPr/>
          <p:nvPr/>
        </p:nvPicPr>
        <p:blipFill>
          <a:blip r:embed="rId11"/>
          <a:stretch/>
        </p:blipFill>
        <p:spPr>
          <a:xfrm>
            <a:off x="762120" y="4394160"/>
            <a:ext cx="1963440" cy="24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Img_langar04"/>
          <p:cNvPicPr/>
          <p:nvPr/>
        </p:nvPicPr>
        <p:blipFill>
          <a:blip r:embed="rId12"/>
          <a:srcRect l="5393" t="7826" r="5393" b="7826"/>
          <a:stretch/>
        </p:blipFill>
        <p:spPr>
          <a:xfrm>
            <a:off x="0" y="228600"/>
            <a:ext cx="2666880" cy="1739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9" descr="_42828091_tugofwar_ap416"/>
          <p:cNvPicPr/>
          <p:nvPr/>
        </p:nvPicPr>
        <p:blipFill>
          <a:blip r:embed="rId13"/>
          <a:srcRect l="0" t="0" r="0" b="6400"/>
          <a:stretch/>
        </p:blipFill>
        <p:spPr>
          <a:xfrm>
            <a:off x="4114800" y="2438280"/>
            <a:ext cx="3429000" cy="2316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" descr="teamwork"/>
          <p:cNvPicPr/>
          <p:nvPr/>
        </p:nvPicPr>
        <p:blipFill>
          <a:blip r:embed="rId14"/>
          <a:stretch/>
        </p:blipFill>
        <p:spPr>
          <a:xfrm>
            <a:off x="7467480" y="2209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1" descr="T-birds_6_plane_formation_3654w"/>
          <p:cNvPicPr/>
          <p:nvPr/>
        </p:nvPicPr>
        <p:blipFill>
          <a:blip r:embed="rId15"/>
          <a:stretch/>
        </p:blipFill>
        <p:spPr>
          <a:xfrm>
            <a:off x="6477120" y="3886200"/>
            <a:ext cx="26668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7:35:40Z</dcterms:created>
  <dc:creator>melita</dc:creator>
  <dc:description/>
  <dc:language>en-US</dc:language>
  <cp:lastModifiedBy>GUEST OFFICE</cp:lastModifiedBy>
  <dcterms:modified xsi:type="dcterms:W3CDTF">2010-11-04T08:21:24Z</dcterms:modified>
  <cp:revision>92</cp:revision>
  <dc:subject/>
  <dc:title>Why do patients need counselling? </dc:title>
</cp:coreProperties>
</file>