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41FF-15AE-4E58-A28D-42B8F751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D3A-62D7-4017-AB0C-0E5955B5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CE2-53F4-485B-895B-D2A29BF8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565F-E091-44A3-833F-D695C0D41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2EC-543F-4EB9-BE3E-85A54E13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ABC-42C2-4FD1-903A-82920580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43E-BFBF-49C6-BF8D-1BF95133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BD2-7B6E-4E6C-A8AD-C0B7BCBE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053-BE2A-4364-AF70-A7B7B0F2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9240" y="372312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076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788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652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924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1788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652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A81-611E-430F-B0F0-A010C673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7CC-4356-411F-BBFA-84817824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34A-5D67-404D-A3FF-FE3A8604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2CB-F11A-4E11-96EB-B3B3445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931-69EC-4101-8BCD-BD035C6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79E-C5CD-46A9-9301-727C95D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0F6-BEFC-4987-8D65-E91C2FD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76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014-EFA4-4830-A632-212E598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334-8FBD-4ABD-AAB3-5AECC6D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240" y="372312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07E-F6B0-4385-BC17-A60C483B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6076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B19-225D-4FBF-8093-C80514CA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788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16520" y="161280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924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1788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16520" y="3723120"/>
            <a:ext cx="266508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F59-8D02-42CF-8A3A-91AB3C39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2040" y="493560"/>
            <a:ext cx="82756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0760" y="372312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924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0760" y="1612800"/>
            <a:ext cx="403920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9240" y="3723120"/>
            <a:ext cx="8277120" cy="19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Text Box 26"/>
          <p:cNvSpPr/>
          <p:nvPr/>
        </p:nvSpPr>
        <p:spPr>
          <a:xfrm>
            <a:off x="8428680" y="6504120"/>
            <a:ext cx="586080" cy="1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70"/>
                </a:solidFill>
                <a:latin typeface="Verdana"/>
              </a:rPr>
              <a:t>P</a:t>
            </a:r>
            <a:fld id="{7D7F13A3-9FAC-4DBD-9F89-FA2E22946901}" type="slidenum">
              <a:rPr b="1" lang="en-US" sz="800" spc="-1" strike="noStrike">
                <a:solidFill>
                  <a:srgbClr val="000070"/>
                </a:solidFill>
                <a:latin typeface="Verdana"/>
              </a:rPr>
              <a:t>&lt;number&gt;</a:t>
            </a:fld>
            <a:endParaRPr b="1" lang="en-US" sz="8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pic>
        <p:nvPicPr>
          <p:cNvPr id="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5"/>
          <p:cNvSpPr/>
          <p:nvPr/>
        </p:nvSpPr>
        <p:spPr>
          <a:xfrm>
            <a:off x="441360" y="6559560"/>
            <a:ext cx="8126280" cy="0"/>
          </a:xfrm>
          <a:prstGeom prst="line">
            <a:avLst/>
          </a:prstGeom>
          <a:ln w="19080">
            <a:solidFill>
              <a:srgbClr val="7f8f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8428680" y="6504120"/>
            <a:ext cx="586080" cy="1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70"/>
                </a:solidFill>
                <a:latin typeface="Verdana"/>
              </a:rPr>
              <a:t>P</a:t>
            </a:r>
            <a:fld id="{1B627FC9-181D-460E-93DF-9A63761FA716}" type="slidenum">
              <a:rPr b="1" lang="en-US" sz="800" spc="-1" strike="noStrike">
                <a:solidFill>
                  <a:srgbClr val="000070"/>
                </a:solidFill>
                <a:latin typeface="Verdana"/>
              </a:rPr>
              <a:t>&lt;number&gt;</a:t>
            </a:fld>
            <a:endParaRPr b="1" lang="en-US" sz="8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44" name="Rectangle 80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pic>
        <p:nvPicPr>
          <p:cNvPr id="45" name="Picture 2" descr="Naco"/>
          <p:cNvPicPr/>
          <p:nvPr/>
        </p:nvPicPr>
        <p:blipFill>
          <a:blip r:embed="rId2"/>
          <a:stretch/>
        </p:blipFill>
        <p:spPr>
          <a:xfrm>
            <a:off x="7086600" y="5689440"/>
            <a:ext cx="2057400" cy="116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2040" y="493560"/>
            <a:ext cx="827568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19240" y="1612800"/>
            <a:ext cx="82771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1" marL="212040" indent="-21060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2" marL="428760" indent="-21492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3" marL="639720" indent="-209160">
              <a:spcBef>
                <a:spcPts val="2500"/>
              </a:spcBef>
              <a:buClr>
                <a:srgbClr val="041c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4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5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  <a:p>
            <a:pPr lvl="6" marL="960120" indent="-212040">
              <a:spcBef>
                <a:spcPts val="2500"/>
              </a:spcBef>
              <a:buClr>
                <a:srgbClr val="041c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1c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1c4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70"/>
                </a:solidFill>
                <a:latin typeface="Verdana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70"/>
                </a:solidFill>
                <a:latin typeface="Verdana"/>
              </a:rPr>
              <a:t>&lt;date/time&gt;</a:t>
            </a: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70"/>
                </a:solidFill>
                <a:latin typeface="Verdana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8DA-1DA9-47A3-8F58-A29624C8724D}" type="slidenum">
              <a:rPr b="1" lang="en-US" sz="1300" spc="-1" strike="noStrike">
                <a:solidFill>
                  <a:srgbClr val="000070"/>
                </a:solidFill>
                <a:latin typeface="Verdana"/>
              </a:rPr>
              <a:t>&lt;number&gt;</a:t>
            </a:fld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dule_13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138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95" name="Text Box 1148"/>
          <p:cNvSpPr/>
          <p:nvPr/>
        </p:nvSpPr>
        <p:spPr>
          <a:xfrm>
            <a:off x="423720" y="3535200"/>
            <a:ext cx="824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1c43"/>
                </a:solidFill>
                <a:latin typeface="Arial"/>
              </a:rPr>
              <a:t>NACO Lab Technician Training Programme</a:t>
            </a:r>
            <a:endParaRPr b="1" lang="en-US" sz="32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77920" y="1622520"/>
            <a:ext cx="728172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What do you know about HIV/AIDS?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Do you feel apprehensive to be involved in HIV Testing?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What are your expectations from this course?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297000" y="241200"/>
            <a:ext cx="6629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62863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LTs want to achiev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55520" y="1728720"/>
            <a:ext cx="765828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Learn about all aspects  HIV/AID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Understand all the various issues and processes/procedures of HIV testing at ICTC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Perform laboratory tests in accordance with NACOs HIV testing strategies and testing  guidelines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Understand the interpretation of result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Ensure standardized and quality testing all across in order to provide accurate, reliable and reproducible test results and meet the requirements of the client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057320"/>
            <a:ext cx="76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Enhance the theoretical and practical skills of LTs with  hands on practical sessions and exercise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30040" y="21600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we want to achieve?</a:t>
            </a:r>
            <a:endParaRPr b="1" lang="en-US" sz="28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695160" y="1766880"/>
            <a:ext cx="726444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Performance of Rapid HIV test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Performance of ELISA assay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Exercises on: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collection, storage and transport of sample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interpretation of results,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 maintenance of equipment,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practice of quality assurance,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making of positive control for day to day QC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inventory management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-quality control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Exercise on NACO HIV testing strategie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600" y="240840"/>
            <a:ext cx="53974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we want to achiev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92160" y="1741320"/>
            <a:ext cx="765828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Reduce stigma within the healthcare personnel - address anxieties and misconceptions to increase willingness to care for HIV positive people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Prevent occupational  exposure to blood borne pathogens by training the healthcare providers in  Biosafety, standard work precautions and PEP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Assure and inform about PEP and its timely use in case of accidental exposure to minimize transmission of HIV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400" y="249120"/>
            <a:ext cx="59180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f Train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82600" y="950760"/>
            <a:ext cx="80136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1: Introduction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2: Virology and pathogenesis of HIV infection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3: Detection of HIV infection, HIV testing protocols and Strategies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4: Biosafety in the laboratory and standard work precautions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5: Process and flow of the Client at ICTC/PPTCT for HIV counseling and testing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6: Collection, transport and storage of blood sample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7: Elements/components of Total Quality Management/Quality System Essentials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Module 8: Introduction to HIV testing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66294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f Training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5440" y="1197000"/>
            <a:ext cx="8013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 9: Inventory management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 10: Document control and various documents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1: Common errors, causes and trouble shooting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2: External quality assessment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3: Equipment maintenance and calibration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4: Performance and characteristics of ELISA, validation, use of Levey Jenning chart 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5: Performance and characteristics of HIV rapid tests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0"/>
                </a:solidFill>
                <a:latin typeface="Verdana"/>
              </a:rPr>
              <a:t>Module 16: Preparation of positive control, calculation of range for validation of ELISA for day to day QC</a:t>
            </a: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15" name="Rectangle 9">
            <a:hlinkClick r:id="rId1"/>
          </p:cNvPr>
          <p:cNvSpPr/>
          <p:nvPr/>
        </p:nvSpPr>
        <p:spPr>
          <a:xfrm>
            <a:off x="771480" y="2676600"/>
            <a:ext cx="3762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480520" y="662940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1" lang="en-US" sz="900" spc="-1" strike="noStrike">
              <a:solidFill>
                <a:srgbClr val="00007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279000"/>
            <a:ext cx="66294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erence material to be provided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55520" y="1728720"/>
            <a:ext cx="76582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Program agenda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Hand outs of slides, practical exercises, examples of documents-Temperature log, inventory management, SOP 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NACO lab technician manual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0"/>
                </a:solidFill>
                <a:latin typeface="Arial"/>
              </a:rPr>
              <a:t>NACO website:  www.nacoonline.org</a:t>
            </a:r>
            <a:endParaRPr b="1" lang="en-US" sz="20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7:37:58Z</dcterms:created>
  <dc:creator>USER</dc:creator>
  <dc:description/>
  <dc:language>en-US</dc:language>
  <cp:lastModifiedBy>Dr Saurabh Agarwal</cp:lastModifiedBy>
  <dcterms:modified xsi:type="dcterms:W3CDTF">2009-01-06T07:52:51Z</dcterms:modified>
  <cp:revision>378</cp:revision>
  <dc:subject/>
  <dc:title>Slide 1</dc:title>
</cp:coreProperties>
</file>