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6.jpeg" ContentType="image/jpeg"/>
  <Override PartName="/ppt/media/image7.png" ContentType="image/png"/>
  <Override PartName="/ppt/media/image9.png" ContentType="image/png"/>
  <Override PartName="/ppt/media/image10.jpeg" ContentType="image/jpeg"/>
  <Override PartName="/ppt/media/image11.png" ContentType="image/png"/>
  <Override PartName="/ppt/media/image12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dt" idx="6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1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ftr" idx="7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odule 11: Use and Care of Equipment</a:t>
            </a:r>
            <a:endParaRPr b="1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 type="sldNum" idx="8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C93EE-0A0C-4D65-8462-5808FE37CBE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Date Placeholder 3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1" lang="en-US" sz="9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6" name="Footer Placeholder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odule 11: Use and Care of Equipment</a:t>
            </a:r>
            <a:endParaRPr b="1" lang="en-US" sz="9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7" name="Slide Number Placeholder 5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90AF8-9A3C-457F-A32B-EA63C892C5F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3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1" lang="en-US" sz="9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9" name="Rectangle 6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odule 11: Use and Care of Equipment</a:t>
            </a:r>
            <a:endParaRPr b="1" lang="en-US" sz="9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0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7864A-84B7-41D5-9453-9B86DF81598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orm is an example of what should be used to record and monitor refrigerator/freezer temp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py is included in the participant manu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3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1" lang="en-US" sz="9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4" name="Rectangle 6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odule 11: Use and Care of Equipment</a:t>
            </a:r>
            <a:endParaRPr b="1" lang="en-US" sz="9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DA1D7-712A-40F9-B705-DFFC9E409BC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3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1" lang="en-US" sz="9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9" name="Rectangle 6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odule 11: Use and Care of Equipment</a:t>
            </a:r>
            <a:endParaRPr b="1" lang="en-US" sz="9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20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9A9B5-021B-49AE-9041-71A9FDDCFD3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3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1" lang="en-US" sz="9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24" name="Rectangle 6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odule 11: Use and Care of Equipment</a:t>
            </a:r>
            <a:endParaRPr b="1" lang="en-US" sz="9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2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BE56C-1B62-490A-A34B-1B908B9EB3A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3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1" lang="en-US" sz="9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29" name="Rectangle 6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odule 11: Use and Care of Equipment</a:t>
            </a:r>
            <a:endParaRPr b="1" lang="en-US" sz="9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30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FD58E-190F-4A20-950F-4D5D0A40510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3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1" lang="en-US" sz="9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34" name="Rectangle 6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odule 11: Use and Care of Equipment</a:t>
            </a:r>
            <a:endParaRPr b="1" lang="en-US" sz="9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3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62958-B2BB-4670-9472-BEAE7D999CD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3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1" lang="en-US" sz="9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39" name="Rectangle 6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odule 11: Use and Care of Equipment</a:t>
            </a:r>
            <a:endParaRPr b="1" lang="en-US" sz="9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40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D5B41-542A-4007-A854-2800051CB04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lide is self explana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3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1" lang="en-US" sz="9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44" name="Rectangle 6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odule 11: Use and Care of Equipment</a:t>
            </a:r>
            <a:endParaRPr b="1" lang="en-US" sz="9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4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EB2E3-F4B2-4FA2-9B09-EF9355F0FD9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3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1" lang="en-US" sz="9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49" name="Rectangle 6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odule 11: Use and Care of Equipment</a:t>
            </a:r>
            <a:endParaRPr b="1" lang="en-US" sz="9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50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E9782-D3CB-4F97-85F4-7234C7F8728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3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1" lang="en-US" sz="9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54" name="Rectangle 6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odule 11: Use and Care of Equipment</a:t>
            </a:r>
            <a:endParaRPr b="1" lang="en-US" sz="9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5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AE8A5-DB77-4419-B61B-12357C2ECF3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3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1" lang="en-US" sz="9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9" name="Rectangle 6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odule 11: Use and Care of Equipment</a:t>
            </a:r>
            <a:endParaRPr b="1" lang="en-US" sz="9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0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CA343-48B1-4FC7-A3DD-0C318B16DDE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3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1" lang="en-US" sz="9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59" name="Rectangle 6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odule 11: Use and Care of Equipment</a:t>
            </a:r>
            <a:endParaRPr b="1" lang="en-US" sz="9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60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E46F3-4094-4389-88B8-F232BFF9E96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3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1" lang="en-US" sz="9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64" name="Rectangle 6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odule 11: Use and Care of Equipment</a:t>
            </a:r>
            <a:endParaRPr b="1" lang="en-US" sz="9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6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5B66E-46FB-4689-97D3-830DC8E8112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3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1" lang="en-US" sz="9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4" name="Rectangle 6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odule 11: Use and Care of Equipment</a:t>
            </a:r>
            <a:endParaRPr b="1" lang="en-US" sz="9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75997-557C-4FEA-9080-BEF020987C1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3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1" lang="en-US" sz="9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9" name="Rectangle 6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odule 11: Use and Care of Equipment</a:t>
            </a:r>
            <a:endParaRPr b="1" lang="en-US" sz="9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80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A11DF-E6C4-4F6F-9524-8A784DD69ED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3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1" lang="en-US" sz="9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84" name="Rectangle 6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odule 11: Use and Care of Equipment</a:t>
            </a:r>
            <a:endParaRPr b="1" lang="en-US" sz="9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8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0FA41-325C-4CFA-BF8C-58AF4027A07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3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1" lang="en-US" sz="9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89" name="Rectangle 6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odule 11: Use and Care of Equipment</a:t>
            </a:r>
            <a:endParaRPr b="1" lang="en-US" sz="9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0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66A69-621F-4465-8296-4254A5FD15F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3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1" lang="en-US" sz="9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4" name="Rectangle 6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odule 11: Use and Care of Equipment</a:t>
            </a:r>
            <a:endParaRPr b="1" lang="en-US" sz="9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BA198-500C-4D28-979B-D5A3A61E983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3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1" lang="en-US" sz="9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9" name="Rectangle 6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odule 11: Use and Care of Equipment</a:t>
            </a:r>
            <a:endParaRPr b="1" lang="en-US" sz="9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0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39C89-B244-4CCE-A714-2274A2FA96E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3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1" lang="en-US" sz="9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4" name="Rectangle 6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odule 11: Use and Care of Equipment</a:t>
            </a:r>
            <a:endParaRPr b="1" lang="en-US" sz="9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BFB29-FED1-49F3-8A44-E5BE0385FAF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82520" y="151920"/>
            <a:ext cx="827568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34520" y="1231920"/>
            <a:ext cx="827748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4520" y="3342240"/>
            <a:ext cx="827748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82520" y="151920"/>
            <a:ext cx="827568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34520" y="1231920"/>
            <a:ext cx="403920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6040" y="1231920"/>
            <a:ext cx="403920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34520" y="3342240"/>
            <a:ext cx="403920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6040" y="3342240"/>
            <a:ext cx="403920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82520" y="151920"/>
            <a:ext cx="827568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34520" y="1231920"/>
            <a:ext cx="266508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3160" y="1231920"/>
            <a:ext cx="266508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1800" y="1231920"/>
            <a:ext cx="266508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34520" y="3342240"/>
            <a:ext cx="266508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3160" y="3342240"/>
            <a:ext cx="266508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1800" y="3342240"/>
            <a:ext cx="266508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CEF11-9199-4B7D-B810-28C69A90D73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82520" y="151920"/>
            <a:ext cx="827568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34520" y="1231920"/>
            <a:ext cx="8277480" cy="40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AA18D-7738-4EEB-A3BB-F73F911B061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82520" y="151920"/>
            <a:ext cx="827568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34520" y="1231920"/>
            <a:ext cx="8277480" cy="40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70B3B-FF9B-4142-A4C6-9FC15F7772D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82520" y="151920"/>
            <a:ext cx="827568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34520" y="1231920"/>
            <a:ext cx="4039200" cy="40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040" y="1231920"/>
            <a:ext cx="4039200" cy="40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D6530-6B90-4418-91E0-CC30243D2F9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82520" y="151920"/>
            <a:ext cx="827568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EE679-67AA-4041-B615-72979A1E66A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82520" y="151920"/>
            <a:ext cx="8275680" cy="19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92A4B-0265-416C-B1C4-342B06789AF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82520" y="151920"/>
            <a:ext cx="827568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34520" y="1231920"/>
            <a:ext cx="403920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6040" y="1231920"/>
            <a:ext cx="4039200" cy="40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34520" y="3342240"/>
            <a:ext cx="403920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5AA97-10A3-43D3-BC26-C63754C7C8E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82520" y="151920"/>
            <a:ext cx="827568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34520" y="1231920"/>
            <a:ext cx="8277480" cy="40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82520" y="151920"/>
            <a:ext cx="827568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34520" y="1231920"/>
            <a:ext cx="4039200" cy="40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6040" y="1231920"/>
            <a:ext cx="403920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6040" y="3342240"/>
            <a:ext cx="403920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DDB7D-EF6E-4339-AAD6-ACD11ED30C4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82520" y="151920"/>
            <a:ext cx="827568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34520" y="1231920"/>
            <a:ext cx="403920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6040" y="1231920"/>
            <a:ext cx="403920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34520" y="3342240"/>
            <a:ext cx="827748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FBB91-C9FA-4CC7-B6DE-2ADEF50217A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82520" y="151920"/>
            <a:ext cx="827568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34520" y="1231920"/>
            <a:ext cx="827748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34520" y="3342240"/>
            <a:ext cx="827748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254A2-21B3-4548-9AEF-3EED4F76311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82520" y="151920"/>
            <a:ext cx="827568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34520" y="1231920"/>
            <a:ext cx="403920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6040" y="1231920"/>
            <a:ext cx="403920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34520" y="3342240"/>
            <a:ext cx="403920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6040" y="3342240"/>
            <a:ext cx="403920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329E1-7846-4E97-AD5C-70BAC9DCFD7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82520" y="151920"/>
            <a:ext cx="827568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34520" y="1231920"/>
            <a:ext cx="266508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3160" y="1231920"/>
            <a:ext cx="266508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31800" y="1231920"/>
            <a:ext cx="266508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34520" y="3342240"/>
            <a:ext cx="266508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3160" y="3342240"/>
            <a:ext cx="266508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31800" y="3342240"/>
            <a:ext cx="266508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C8911-FE9A-4EB5-A4E1-3F67B4A9553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180A16-D3E4-4367-8B81-E83C36FAAC2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82520" y="151920"/>
            <a:ext cx="827568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34520" y="1231920"/>
            <a:ext cx="8277480" cy="40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313DA3-0ABC-43D3-8B2D-5114046F236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82520" y="151920"/>
            <a:ext cx="827568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34520" y="1231920"/>
            <a:ext cx="8277480" cy="40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3AA000-D8FE-4B52-B840-B2C2FD7B8FC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82520" y="151920"/>
            <a:ext cx="827568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34520" y="1231920"/>
            <a:ext cx="4039200" cy="40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040" y="1231920"/>
            <a:ext cx="4039200" cy="40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C8C7C1-4BCB-4E50-9CDC-66C75F075A4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82520" y="151920"/>
            <a:ext cx="827568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7C7D26-4075-4CFC-913C-FD2AFC2119C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82520" y="151920"/>
            <a:ext cx="827568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34520" y="1231920"/>
            <a:ext cx="8277480" cy="40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82520" y="151920"/>
            <a:ext cx="8275680" cy="19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607A7-0FD4-4031-946E-285267308C9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82520" y="151920"/>
            <a:ext cx="827568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34520" y="1231920"/>
            <a:ext cx="403920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6040" y="1231920"/>
            <a:ext cx="4039200" cy="40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4520" y="3342240"/>
            <a:ext cx="403920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A16561-452E-41DC-B77E-E446736C561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82520" y="151920"/>
            <a:ext cx="827568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34520" y="1231920"/>
            <a:ext cx="4039200" cy="40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6040" y="1231920"/>
            <a:ext cx="403920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6040" y="3342240"/>
            <a:ext cx="403920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2EABD8-2243-49C6-B14B-FE62A7BA9AC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82520" y="151920"/>
            <a:ext cx="827568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34520" y="1231920"/>
            <a:ext cx="403920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6040" y="1231920"/>
            <a:ext cx="403920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34520" y="3342240"/>
            <a:ext cx="827748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DF21A5-E6D9-481B-8BED-B83595CE4E0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82520" y="151920"/>
            <a:ext cx="827568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34520" y="1231920"/>
            <a:ext cx="827748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34520" y="3342240"/>
            <a:ext cx="827748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AD6970-AB7F-41AF-9B9F-7ACF52ABF03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82520" y="151920"/>
            <a:ext cx="827568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34520" y="1231920"/>
            <a:ext cx="403920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6040" y="1231920"/>
            <a:ext cx="403920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34520" y="3342240"/>
            <a:ext cx="403920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6040" y="3342240"/>
            <a:ext cx="403920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D07223-771E-4CA9-B0D0-7D1FE9F099F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82520" y="151920"/>
            <a:ext cx="827568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34520" y="1231920"/>
            <a:ext cx="266508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3160" y="1231920"/>
            <a:ext cx="266508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31800" y="1231920"/>
            <a:ext cx="266508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34520" y="3342240"/>
            <a:ext cx="266508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3160" y="3342240"/>
            <a:ext cx="266508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31800" y="3342240"/>
            <a:ext cx="266508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5EDB81-7A80-4B25-9598-2F99E220D2D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EC35-8E15-4169-B7C0-17A3D81ABFC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82520" y="151920"/>
            <a:ext cx="827568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34520" y="1231920"/>
            <a:ext cx="8277480" cy="40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2269-A235-4AB6-BE6C-88A5AD92E18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82520" y="151920"/>
            <a:ext cx="827568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34520" y="1231920"/>
            <a:ext cx="8277480" cy="40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C082-62E4-485B-9360-68F100C024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82520" y="151920"/>
            <a:ext cx="827568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34520" y="1231920"/>
            <a:ext cx="4039200" cy="40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6040" y="1231920"/>
            <a:ext cx="4039200" cy="40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82520" y="151920"/>
            <a:ext cx="827568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34520" y="1231920"/>
            <a:ext cx="4039200" cy="40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6040" y="1231920"/>
            <a:ext cx="4039200" cy="40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9CDE-DCE2-44CE-92EC-86C23EB09C6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82520" y="151920"/>
            <a:ext cx="827568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448E-79C1-4355-A748-09582876760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182520" y="151920"/>
            <a:ext cx="8275680" cy="19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4B13-9A58-46E2-BC96-49C01D77AA6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2520" y="151920"/>
            <a:ext cx="827568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34520" y="1231920"/>
            <a:ext cx="403920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6040" y="1231920"/>
            <a:ext cx="4039200" cy="40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34520" y="3342240"/>
            <a:ext cx="403920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BFBD-1970-4356-8AC2-EB76D72F7AE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82520" y="151920"/>
            <a:ext cx="827568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34520" y="1231920"/>
            <a:ext cx="4039200" cy="40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6040" y="1231920"/>
            <a:ext cx="403920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6040" y="3342240"/>
            <a:ext cx="403920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599F-0D56-4E41-A1B7-5E59F3B07BC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82520" y="151920"/>
            <a:ext cx="827568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34520" y="1231920"/>
            <a:ext cx="403920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040" y="1231920"/>
            <a:ext cx="403920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34520" y="3342240"/>
            <a:ext cx="827748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4A7D-B922-445B-BD15-17953DAC3C1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82520" y="151920"/>
            <a:ext cx="827568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34520" y="1231920"/>
            <a:ext cx="827748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34520" y="3342240"/>
            <a:ext cx="827748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F1FC-263C-4F36-8430-447A2B67D2E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82520" y="151920"/>
            <a:ext cx="827568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34520" y="1231920"/>
            <a:ext cx="403920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6040" y="1231920"/>
            <a:ext cx="403920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34520" y="3342240"/>
            <a:ext cx="403920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6040" y="3342240"/>
            <a:ext cx="403920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F06B-CC23-4675-A673-A8DBC8DCC0C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82520" y="151920"/>
            <a:ext cx="827568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34520" y="1231920"/>
            <a:ext cx="266508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3160" y="1231920"/>
            <a:ext cx="266508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31800" y="1231920"/>
            <a:ext cx="266508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34520" y="3342240"/>
            <a:ext cx="266508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3160" y="3342240"/>
            <a:ext cx="266508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31800" y="3342240"/>
            <a:ext cx="266508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EDEB-C65C-4F52-945A-4842200015E4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B1E308-67AE-4BB7-AAC7-C6A7DF534F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82520" y="151920"/>
            <a:ext cx="827568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82520" y="151920"/>
            <a:ext cx="827568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34520" y="1231920"/>
            <a:ext cx="8277480" cy="40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AD7F41-B2C9-4C0E-9CAF-27B1AD911343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82520" y="151920"/>
            <a:ext cx="827568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34520" y="1231920"/>
            <a:ext cx="8277480" cy="40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D71674-1371-4A74-B77F-1D5219FE6D58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82520" y="151920"/>
            <a:ext cx="827568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34520" y="1231920"/>
            <a:ext cx="4039200" cy="40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6040" y="1231920"/>
            <a:ext cx="4039200" cy="40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C7F24C-828C-411F-8893-54F057BC03F5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82520" y="151920"/>
            <a:ext cx="827568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24C012-A85D-462B-8186-AA5A172A3EF9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82520" y="151920"/>
            <a:ext cx="8275680" cy="19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6C46A7-EE46-4944-BAF0-F0B1FBACD42E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82520" y="151920"/>
            <a:ext cx="827568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34520" y="1231920"/>
            <a:ext cx="403920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6040" y="1231920"/>
            <a:ext cx="4039200" cy="40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34520" y="3342240"/>
            <a:ext cx="403920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CA598D-9FC6-450D-8B5C-3B764270F007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82520" y="151920"/>
            <a:ext cx="827568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34520" y="1231920"/>
            <a:ext cx="4039200" cy="40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6040" y="1231920"/>
            <a:ext cx="403920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6040" y="3342240"/>
            <a:ext cx="403920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A430A9-5B41-4FBE-AFA6-ACE291A99476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82520" y="151920"/>
            <a:ext cx="827568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34520" y="1231920"/>
            <a:ext cx="403920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040" y="1231920"/>
            <a:ext cx="403920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34520" y="3342240"/>
            <a:ext cx="827748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36ECC8-DDFB-46E4-9BA4-FD15E6DD65EB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82520" y="151920"/>
            <a:ext cx="827568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34520" y="1231920"/>
            <a:ext cx="827748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34520" y="3342240"/>
            <a:ext cx="827748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7297E6-35C0-43D1-B449-393FB4D402F5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82520" y="151920"/>
            <a:ext cx="827568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34520" y="1231920"/>
            <a:ext cx="403920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6040" y="1231920"/>
            <a:ext cx="403920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34520" y="3342240"/>
            <a:ext cx="403920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6040" y="3342240"/>
            <a:ext cx="403920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54FBA9-6ED4-4963-8893-096F3F4F6F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82520" y="151920"/>
            <a:ext cx="8275680" cy="19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82520" y="151920"/>
            <a:ext cx="827568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34520" y="1231920"/>
            <a:ext cx="266508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3160" y="1231920"/>
            <a:ext cx="266508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31800" y="1231920"/>
            <a:ext cx="266508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34520" y="3342240"/>
            <a:ext cx="266508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3160" y="3342240"/>
            <a:ext cx="266508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31800" y="3342240"/>
            <a:ext cx="266508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21946F-019D-4911-A140-41DA1F0D255B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CBBADF-3675-4DBF-A5DB-7BDAA899A71A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82520" y="151920"/>
            <a:ext cx="827568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34520" y="1231920"/>
            <a:ext cx="8277480" cy="40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AD6DEF-0D2D-45D7-857B-DCAACF14957F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82520" y="151920"/>
            <a:ext cx="827568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34520" y="1231920"/>
            <a:ext cx="8277480" cy="40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0CBB3E-56E5-4529-9D30-F58108416926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82520" y="151920"/>
            <a:ext cx="827568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34520" y="1231920"/>
            <a:ext cx="4039200" cy="40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6040" y="1231920"/>
            <a:ext cx="4039200" cy="40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E10236-D6AB-4904-B703-516EC905062F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82520" y="151920"/>
            <a:ext cx="827568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AC530F-8BDF-449E-8C52-5271CC1DB3CE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182520" y="151920"/>
            <a:ext cx="8275680" cy="19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1E1CE4-16D8-4BE2-9FE3-17794D52C8C4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82520" y="151920"/>
            <a:ext cx="827568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34520" y="1231920"/>
            <a:ext cx="403920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6040" y="1231920"/>
            <a:ext cx="4039200" cy="40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34520" y="3342240"/>
            <a:ext cx="403920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065F29-7753-4E92-9F92-B450B2F05172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82520" y="151920"/>
            <a:ext cx="827568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34520" y="1231920"/>
            <a:ext cx="4039200" cy="40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6040" y="1231920"/>
            <a:ext cx="403920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6040" y="3342240"/>
            <a:ext cx="403920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4C0289-943C-4E36-966C-5B581E0557CC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82520" y="151920"/>
            <a:ext cx="827568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34520" y="1231920"/>
            <a:ext cx="403920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040" y="1231920"/>
            <a:ext cx="403920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34520" y="3342240"/>
            <a:ext cx="827748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4F0E4C-F97C-4F1D-B529-A2B9B1C903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82520" y="151920"/>
            <a:ext cx="827568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34520" y="1231920"/>
            <a:ext cx="403920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6040" y="1231920"/>
            <a:ext cx="4039200" cy="40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34520" y="3342240"/>
            <a:ext cx="403920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82520" y="151920"/>
            <a:ext cx="827568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34520" y="1231920"/>
            <a:ext cx="827748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34520" y="3342240"/>
            <a:ext cx="827748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C7748A-1173-4DE6-9108-3E770D4587D9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82520" y="151920"/>
            <a:ext cx="827568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34520" y="1231920"/>
            <a:ext cx="403920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6040" y="1231920"/>
            <a:ext cx="403920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34520" y="3342240"/>
            <a:ext cx="403920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6040" y="3342240"/>
            <a:ext cx="403920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AB3E73-303F-4748-BDEF-58B6096FC78A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82520" y="151920"/>
            <a:ext cx="827568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34520" y="1231920"/>
            <a:ext cx="266508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3160" y="1231920"/>
            <a:ext cx="266508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31800" y="1231920"/>
            <a:ext cx="266508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34520" y="3342240"/>
            <a:ext cx="266508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3160" y="3342240"/>
            <a:ext cx="266508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31800" y="3342240"/>
            <a:ext cx="266508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E7BC00-9432-473E-AAC0-D2CCDE9230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82520" y="151920"/>
            <a:ext cx="827568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34520" y="1231920"/>
            <a:ext cx="4039200" cy="40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6040" y="1231920"/>
            <a:ext cx="403920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6040" y="3342240"/>
            <a:ext cx="403920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82520" y="151920"/>
            <a:ext cx="827568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34520" y="1231920"/>
            <a:ext cx="403920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6040" y="1231920"/>
            <a:ext cx="403920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34520" y="3342240"/>
            <a:ext cx="827748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75"/>
          <p:cNvSpPr/>
          <p:nvPr/>
        </p:nvSpPr>
        <p:spPr>
          <a:xfrm>
            <a:off x="441360" y="6559560"/>
            <a:ext cx="8126280" cy="0"/>
          </a:xfrm>
          <a:prstGeom prst="line">
            <a:avLst/>
          </a:prstGeom>
          <a:ln w="19080">
            <a:solidFill>
              <a:srgbClr val="7f8f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-43200" bIns="-432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82520" y="151920"/>
            <a:ext cx="827568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Text Box 26"/>
          <p:cNvSpPr/>
          <p:nvPr/>
        </p:nvSpPr>
        <p:spPr>
          <a:xfrm>
            <a:off x="8489880" y="6504120"/>
            <a:ext cx="464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 Narrow"/>
              </a:rPr>
              <a:t>P</a:t>
            </a:r>
            <a:fld id="{213616E5-C522-4739-B10C-796CF62B2CF8}" type="slidenum">
              <a:rPr b="1" lang="en-US" sz="8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34520" y="1231920"/>
            <a:ext cx="8277480" cy="40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-339480">
              <a:spcBef>
                <a:spcPts val="2500"/>
              </a:spcBef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lvl="1" marL="212040" indent="-210600">
              <a:spcBef>
                <a:spcPts val="2500"/>
              </a:spcBef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lvl="2" marL="428760" indent="-214920">
              <a:spcBef>
                <a:spcPts val="2500"/>
              </a:spcBef>
              <a:buClr>
                <a:srgbClr val="041c4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lvl="3" marL="639720" indent="-209160">
              <a:spcBef>
                <a:spcPts val="2500"/>
              </a:spcBef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lvl="4" marL="960120" indent="-212040">
              <a:spcBef>
                <a:spcPts val="2500"/>
              </a:spcBef>
              <a:buClr>
                <a:srgbClr val="041c4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lvl="5" marL="960120" indent="-212040">
              <a:spcBef>
                <a:spcPts val="2500"/>
              </a:spcBef>
              <a:buClr>
                <a:srgbClr val="041c4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lvl="6" marL="960120" indent="-212040">
              <a:spcBef>
                <a:spcPts val="2500"/>
              </a:spcBef>
              <a:buClr>
                <a:srgbClr val="041c4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4" name="Rectangle 80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0000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" name="Picture 2" descr="Naco"/>
          <p:cNvPicPr/>
          <p:nvPr/>
        </p:nvPicPr>
        <p:blipFill>
          <a:blip r:embed="rId2"/>
          <a:stretch/>
        </p:blipFill>
        <p:spPr>
          <a:xfrm>
            <a:off x="7086600" y="5689440"/>
            <a:ext cx="2057400" cy="1168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75"/>
          <p:cNvSpPr/>
          <p:nvPr/>
        </p:nvSpPr>
        <p:spPr>
          <a:xfrm>
            <a:off x="441360" y="6559560"/>
            <a:ext cx="8126280" cy="0"/>
          </a:xfrm>
          <a:prstGeom prst="line">
            <a:avLst/>
          </a:prstGeom>
          <a:ln w="19080">
            <a:solidFill>
              <a:srgbClr val="7f8f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-43200" bIns="-432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3" name="Text Box 26"/>
          <p:cNvSpPr/>
          <p:nvPr/>
        </p:nvSpPr>
        <p:spPr>
          <a:xfrm>
            <a:off x="8489880" y="6504120"/>
            <a:ext cx="464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 Narrow"/>
              </a:rPr>
              <a:t>P</a:t>
            </a:r>
            <a:fld id="{AA657B42-E080-4278-89EE-D48A4711139D}" type="slidenum">
              <a:rPr b="1" lang="en-US" sz="8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4" name="Rectangle 80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0000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45" name="Picture 2" descr="Naco"/>
          <p:cNvPicPr/>
          <p:nvPr/>
        </p:nvPicPr>
        <p:blipFill>
          <a:blip r:embed="rId2"/>
          <a:stretch/>
        </p:blipFill>
        <p:spPr>
          <a:xfrm>
            <a:off x="7086600" y="5689440"/>
            <a:ext cx="2057400" cy="11685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82520" y="151920"/>
            <a:ext cx="827568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34520" y="1231920"/>
            <a:ext cx="8277480" cy="40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-339480">
              <a:spcBef>
                <a:spcPts val="2500"/>
              </a:spcBef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lvl="1" marL="212040" indent="-210600">
              <a:spcBef>
                <a:spcPts val="2500"/>
              </a:spcBef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lvl="2" marL="428760" indent="-214920">
              <a:spcBef>
                <a:spcPts val="2500"/>
              </a:spcBef>
              <a:buClr>
                <a:srgbClr val="041c4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lvl="3" marL="639720" indent="-209160">
              <a:spcBef>
                <a:spcPts val="2500"/>
              </a:spcBef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lvl="4" marL="960120" indent="-212040">
              <a:spcBef>
                <a:spcPts val="2500"/>
              </a:spcBef>
              <a:buClr>
                <a:srgbClr val="041c4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lvl="5" marL="960120" indent="-212040">
              <a:spcBef>
                <a:spcPts val="2500"/>
              </a:spcBef>
              <a:buClr>
                <a:srgbClr val="041c4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lvl="6" marL="960120" indent="-212040">
              <a:spcBef>
                <a:spcPts val="2500"/>
              </a:spcBef>
              <a:buClr>
                <a:srgbClr val="041c4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1"/>
          </p:nvPr>
        </p:nvSpPr>
        <p:spPr>
          <a:xfrm>
            <a:off x="65527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8FB5D-0B71-4661-A75B-E5E359077257}" type="slidenum">
              <a:rPr b="1" lang="en-US" sz="18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Line 75"/>
          <p:cNvSpPr/>
          <p:nvPr/>
        </p:nvSpPr>
        <p:spPr>
          <a:xfrm>
            <a:off x="441360" y="6559560"/>
            <a:ext cx="8126280" cy="0"/>
          </a:xfrm>
          <a:prstGeom prst="line">
            <a:avLst/>
          </a:prstGeom>
          <a:ln w="19080">
            <a:solidFill>
              <a:srgbClr val="7f8f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-43200" bIns="-432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6" name="Text Box 26"/>
          <p:cNvSpPr/>
          <p:nvPr/>
        </p:nvSpPr>
        <p:spPr>
          <a:xfrm>
            <a:off x="8489880" y="6504120"/>
            <a:ext cx="464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 Narrow"/>
              </a:rPr>
              <a:t>P</a:t>
            </a:r>
            <a:fld id="{25DE33CB-B125-47D1-BAEC-056457055328}" type="slidenum">
              <a:rPr b="1" lang="en-US" sz="8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7" name="Rectangle 80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0000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88" name="Picture 2" descr="Naco"/>
          <p:cNvPicPr/>
          <p:nvPr/>
        </p:nvPicPr>
        <p:blipFill>
          <a:blip r:embed="rId2"/>
          <a:stretch/>
        </p:blipFill>
        <p:spPr>
          <a:xfrm>
            <a:off x="7086600" y="5689440"/>
            <a:ext cx="2057400" cy="116856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82520" y="151920"/>
            <a:ext cx="827568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34520" y="1231920"/>
            <a:ext cx="8277480" cy="40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-339480">
              <a:spcBef>
                <a:spcPts val="2500"/>
              </a:spcBef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lvl="1" marL="212040" indent="-210600">
              <a:spcBef>
                <a:spcPts val="2500"/>
              </a:spcBef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lvl="2" marL="428760" indent="-214920">
              <a:spcBef>
                <a:spcPts val="2500"/>
              </a:spcBef>
              <a:buClr>
                <a:srgbClr val="041c4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lvl="3" marL="639720" indent="-209160">
              <a:spcBef>
                <a:spcPts val="2500"/>
              </a:spcBef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lvl="4" marL="960120" indent="-212040">
              <a:spcBef>
                <a:spcPts val="2500"/>
              </a:spcBef>
              <a:buClr>
                <a:srgbClr val="041c4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lvl="5" marL="960120" indent="-212040">
              <a:spcBef>
                <a:spcPts val="2500"/>
              </a:spcBef>
              <a:buClr>
                <a:srgbClr val="041c4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lvl="6" marL="960120" indent="-212040">
              <a:spcBef>
                <a:spcPts val="2500"/>
              </a:spcBef>
              <a:buClr>
                <a:srgbClr val="041c4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Num" idx="2"/>
          </p:nvPr>
        </p:nvSpPr>
        <p:spPr>
          <a:xfrm>
            <a:off x="65527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374FE-5E9B-446F-9B0B-6208B4F127EE}" type="slidenum">
              <a:rPr b="1" lang="en-US" sz="18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Line 75"/>
          <p:cNvSpPr/>
          <p:nvPr/>
        </p:nvSpPr>
        <p:spPr>
          <a:xfrm>
            <a:off x="441360" y="6559560"/>
            <a:ext cx="8126280" cy="0"/>
          </a:xfrm>
          <a:prstGeom prst="line">
            <a:avLst/>
          </a:prstGeom>
          <a:ln w="19080">
            <a:solidFill>
              <a:srgbClr val="7f8f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-43200" bIns="-432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9" name="Text Box 26"/>
          <p:cNvSpPr/>
          <p:nvPr/>
        </p:nvSpPr>
        <p:spPr>
          <a:xfrm>
            <a:off x="8489880" y="6504120"/>
            <a:ext cx="464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 Narrow"/>
              </a:rPr>
              <a:t>P</a:t>
            </a:r>
            <a:fld id="{7C7CE9D6-C384-4CAF-A7D1-FE1B5AB162B3}" type="slidenum">
              <a:rPr b="1" lang="en-US" sz="8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0" name="Rectangle 80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0000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31" name="Picture 2" descr="Naco"/>
          <p:cNvPicPr/>
          <p:nvPr/>
        </p:nvPicPr>
        <p:blipFill>
          <a:blip r:embed="rId2"/>
          <a:stretch/>
        </p:blipFill>
        <p:spPr>
          <a:xfrm>
            <a:off x="7086600" y="5689440"/>
            <a:ext cx="2057400" cy="116856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82520" y="151920"/>
            <a:ext cx="827568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34520" y="1231920"/>
            <a:ext cx="8277480" cy="40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-339480">
              <a:spcBef>
                <a:spcPts val="2500"/>
              </a:spcBef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lvl="1" marL="212040" indent="-210600">
              <a:spcBef>
                <a:spcPts val="2500"/>
              </a:spcBef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lvl="2" marL="428760" indent="-214920">
              <a:spcBef>
                <a:spcPts val="2500"/>
              </a:spcBef>
              <a:buClr>
                <a:srgbClr val="041c4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lvl="3" marL="639720" indent="-209160">
              <a:spcBef>
                <a:spcPts val="2500"/>
              </a:spcBef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lvl="4" marL="960120" indent="-212040">
              <a:spcBef>
                <a:spcPts val="2500"/>
              </a:spcBef>
              <a:buClr>
                <a:srgbClr val="041c4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lvl="5" marL="960120" indent="-212040">
              <a:spcBef>
                <a:spcPts val="2500"/>
              </a:spcBef>
              <a:buClr>
                <a:srgbClr val="041c4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lvl="6" marL="960120" indent="-212040">
              <a:spcBef>
                <a:spcPts val="2500"/>
              </a:spcBef>
              <a:buClr>
                <a:srgbClr val="041c4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sldNum" idx="3"/>
          </p:nvPr>
        </p:nvSpPr>
        <p:spPr>
          <a:xfrm>
            <a:off x="65527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A53A9-FD39-489B-8DE6-EE70C556CECE}" type="slidenum">
              <a:rPr b="1" lang="en-US" sz="18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Line 75"/>
          <p:cNvSpPr/>
          <p:nvPr/>
        </p:nvSpPr>
        <p:spPr>
          <a:xfrm>
            <a:off x="441360" y="6559560"/>
            <a:ext cx="8126280" cy="0"/>
          </a:xfrm>
          <a:prstGeom prst="line">
            <a:avLst/>
          </a:prstGeom>
          <a:ln w="19080">
            <a:solidFill>
              <a:srgbClr val="7f8f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-43200" bIns="-432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2" name="Text Box 26"/>
          <p:cNvSpPr/>
          <p:nvPr/>
        </p:nvSpPr>
        <p:spPr>
          <a:xfrm>
            <a:off x="8489880" y="6504120"/>
            <a:ext cx="464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 Narrow"/>
              </a:rPr>
              <a:t>P</a:t>
            </a:r>
            <a:fld id="{B0FA20F1-922D-46F6-B5B0-2E33CF1EDDE2}" type="slidenum">
              <a:rPr b="1" lang="en-US" sz="8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3" name="Rectangle 80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0000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74" name="Picture 2" descr="Naco"/>
          <p:cNvPicPr/>
          <p:nvPr/>
        </p:nvPicPr>
        <p:blipFill>
          <a:blip r:embed="rId2"/>
          <a:stretch/>
        </p:blipFill>
        <p:spPr>
          <a:xfrm>
            <a:off x="7086600" y="5689440"/>
            <a:ext cx="2057400" cy="116856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82520" y="151920"/>
            <a:ext cx="827568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34520" y="1231920"/>
            <a:ext cx="8277480" cy="40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-339480">
              <a:spcBef>
                <a:spcPts val="2500"/>
              </a:spcBef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lvl="1" marL="212040" indent="-210600">
              <a:spcBef>
                <a:spcPts val="2500"/>
              </a:spcBef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lvl="2" marL="428760" indent="-214920">
              <a:spcBef>
                <a:spcPts val="2500"/>
              </a:spcBef>
              <a:buClr>
                <a:srgbClr val="041c4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lvl="3" marL="639720" indent="-209160">
              <a:spcBef>
                <a:spcPts val="2500"/>
              </a:spcBef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lvl="4" marL="960120" indent="-212040">
              <a:spcBef>
                <a:spcPts val="2500"/>
              </a:spcBef>
              <a:buClr>
                <a:srgbClr val="041c4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lvl="5" marL="960120" indent="-212040">
              <a:spcBef>
                <a:spcPts val="2500"/>
              </a:spcBef>
              <a:buClr>
                <a:srgbClr val="041c4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lvl="6" marL="960120" indent="-212040">
              <a:spcBef>
                <a:spcPts val="2500"/>
              </a:spcBef>
              <a:buClr>
                <a:srgbClr val="041c4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Num" idx="4"/>
          </p:nvPr>
        </p:nvSpPr>
        <p:spPr>
          <a:xfrm>
            <a:off x="65527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0DF3A-F55D-474B-9A2F-077AD6E20C02}" type="slidenum">
              <a:rPr b="1" lang="en-US" sz="18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Line 75"/>
          <p:cNvSpPr/>
          <p:nvPr/>
        </p:nvSpPr>
        <p:spPr>
          <a:xfrm>
            <a:off x="441360" y="6559560"/>
            <a:ext cx="8126280" cy="0"/>
          </a:xfrm>
          <a:prstGeom prst="line">
            <a:avLst/>
          </a:prstGeom>
          <a:ln w="19080">
            <a:solidFill>
              <a:srgbClr val="7f8f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-43200" bIns="-432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5" name="Text Box 26"/>
          <p:cNvSpPr/>
          <p:nvPr/>
        </p:nvSpPr>
        <p:spPr>
          <a:xfrm>
            <a:off x="8489880" y="6504120"/>
            <a:ext cx="464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 Narrow"/>
              </a:rPr>
              <a:t>P</a:t>
            </a:r>
            <a:fld id="{8C8227D3-C5B6-4AE6-AF57-3C77CED9E14E}" type="slidenum">
              <a:rPr b="1" lang="en-US" sz="8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6" name="Rectangle 80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0000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17" name="Picture 2" descr="Naco"/>
          <p:cNvPicPr/>
          <p:nvPr/>
        </p:nvPicPr>
        <p:blipFill>
          <a:blip r:embed="rId2"/>
          <a:stretch/>
        </p:blipFill>
        <p:spPr>
          <a:xfrm>
            <a:off x="7086600" y="5689440"/>
            <a:ext cx="2057400" cy="116856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82520" y="151920"/>
            <a:ext cx="827568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434520" y="1231920"/>
            <a:ext cx="8277480" cy="40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-339480">
              <a:spcBef>
                <a:spcPts val="2500"/>
              </a:spcBef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lvl="1" marL="212040" indent="-210600">
              <a:spcBef>
                <a:spcPts val="2500"/>
              </a:spcBef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lvl="2" marL="428760" indent="-214920">
              <a:spcBef>
                <a:spcPts val="2500"/>
              </a:spcBef>
              <a:buClr>
                <a:srgbClr val="041c4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lvl="3" marL="639720" indent="-209160">
              <a:spcBef>
                <a:spcPts val="2500"/>
              </a:spcBef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lvl="4" marL="960120" indent="-212040">
              <a:spcBef>
                <a:spcPts val="2500"/>
              </a:spcBef>
              <a:buClr>
                <a:srgbClr val="041c4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lvl="5" marL="960120" indent="-212040">
              <a:spcBef>
                <a:spcPts val="2500"/>
              </a:spcBef>
              <a:buClr>
                <a:srgbClr val="041c4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lvl="6" marL="960120" indent="-212040">
              <a:spcBef>
                <a:spcPts val="2500"/>
              </a:spcBef>
              <a:buClr>
                <a:srgbClr val="041c4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sldNum" idx="5"/>
          </p:nvPr>
        </p:nvSpPr>
        <p:spPr>
          <a:xfrm>
            <a:off x="65527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9662F-DA08-4B08-BFDC-2D8A53D77F5C}" type="slidenum">
              <a:rPr b="1" lang="en-US" sz="18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6.jpe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7.png"/><Relationship Id="rId6" Type="http://schemas.openxmlformats.org/officeDocument/2006/relationships/image" Target="../media/image8.jpe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380880" y="2971800"/>
            <a:ext cx="822960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1c43"/>
                </a:solidFill>
                <a:latin typeface="Arial"/>
              </a:rPr>
              <a:t>Use and Care of Equipment Available at ICTCs</a:t>
            </a:r>
            <a:endParaRPr b="0" lang="en-US" sz="32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BABFC-C992-4CDF-8D41-379875E8E263}" type="slidenum">
              <a:rPr b="1" lang="en-US" sz="18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Slide Number Placeholder 1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3EEA0-0190-4050-A6FF-D0935B8ECEE4}" type="slidenum">
              <a:rPr b="1" lang="en-US" sz="18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313" name="Picture 6" descr="Temperature Chart"/>
          <p:cNvPicPr/>
          <p:nvPr/>
        </p:nvPicPr>
        <p:blipFill>
          <a:blip r:embed="rId1">
            <a:lum contrast="20000"/>
          </a:blip>
          <a:srcRect l="20588" t="8275" r="14706" b="26559"/>
          <a:stretch/>
        </p:blipFill>
        <p:spPr>
          <a:xfrm>
            <a:off x="2176560" y="1600200"/>
            <a:ext cx="4276800" cy="4800600"/>
          </a:xfrm>
          <a:prstGeom prst="rect">
            <a:avLst/>
          </a:prstGeom>
          <a:ln w="0">
            <a:noFill/>
          </a:ln>
        </p:spPr>
      </p:pic>
      <p:sp>
        <p:nvSpPr>
          <p:cNvPr id="314" name="Rectangle 7"/>
          <p:cNvSpPr/>
          <p:nvPr/>
        </p:nvSpPr>
        <p:spPr>
          <a:xfrm>
            <a:off x="457200" y="228600"/>
            <a:ext cx="8229600" cy="762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41c4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frigerator &amp; Freezer: Temperature Log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ypes of Pipett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3501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1c43"/>
                </a:solidFill>
                <a:latin typeface="Arial"/>
              </a:rPr>
              <a:t>Precision pipettes (Not disposable)</a:t>
            </a:r>
            <a:endParaRPr b="0" lang="en-US" sz="2800" spc="-1" strike="noStrike">
              <a:solidFill>
                <a:srgbClr val="041c43"/>
              </a:solidFill>
              <a:latin typeface="Arial"/>
            </a:endParaRPr>
          </a:p>
          <a:p>
            <a:pPr lvl="1" marL="214200" indent="-212760">
              <a:lnSpc>
                <a:spcPct val="80000"/>
              </a:lnSpc>
              <a:spcBef>
                <a:spcPts val="1250"/>
              </a:spcBef>
              <a:spcAft>
                <a:spcPts val="751"/>
              </a:spcAft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Precise and accurate volumes-Fixed volume or adjustable volume to deliver over a certain range of volume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lvl="1" marL="214200" indent="-212760">
              <a:lnSpc>
                <a:spcPct val="80000"/>
              </a:lnSpc>
              <a:spcBef>
                <a:spcPts val="1250"/>
              </a:spcBef>
              <a:spcAft>
                <a:spcPts val="751"/>
              </a:spcAft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Use disposable, single-use, pipette tips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lvl="1" marL="214200" indent="0">
              <a:lnSpc>
                <a:spcPct val="80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501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1c43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501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1c43"/>
                </a:solidFill>
                <a:latin typeface="Arial"/>
              </a:rPr>
              <a:t>Graduated plastic bulb pipettes (Disposable)</a:t>
            </a:r>
            <a:endParaRPr b="0" lang="en-US" sz="2800" spc="-1" strike="noStrike">
              <a:solidFill>
                <a:srgbClr val="041c43"/>
              </a:solidFill>
              <a:latin typeface="Arial"/>
            </a:endParaRPr>
          </a:p>
          <a:p>
            <a:pPr lvl="1" marL="214200" indent="-212760">
              <a:lnSpc>
                <a:spcPct val="80000"/>
              </a:lnSpc>
              <a:spcBef>
                <a:spcPts val="1250"/>
              </a:spcBef>
              <a:spcAft>
                <a:spcPts val="751"/>
              </a:spcAft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Dispenses approximate volume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lvl="1" marL="214200" indent="-212760">
              <a:lnSpc>
                <a:spcPct val="80000"/>
              </a:lnSpc>
              <a:spcBef>
                <a:spcPts val="1250"/>
              </a:spcBef>
              <a:spcAft>
                <a:spcPts val="751"/>
              </a:spcAft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Easy to use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pic>
        <p:nvPicPr>
          <p:cNvPr id="317" name="Picture 7" descr="ranin pipette"/>
          <p:cNvPicPr/>
          <p:nvPr/>
        </p:nvPicPr>
        <p:blipFill>
          <a:blip r:embed="rId1"/>
          <a:srcRect l="0" t="17018" r="0" b="9236"/>
          <a:stretch/>
        </p:blipFill>
        <p:spPr>
          <a:xfrm>
            <a:off x="2743200" y="3276720"/>
            <a:ext cx="3809880" cy="685800"/>
          </a:xfrm>
          <a:prstGeom prst="rect">
            <a:avLst/>
          </a:prstGeom>
          <a:ln w="0">
            <a:noFill/>
          </a:ln>
        </p:spPr>
      </p:pic>
      <p:sp>
        <p:nvSpPr>
          <p:cNvPr id="318" name="Slide Number Placeholder 4"/>
          <p:cNvSpPr/>
          <p:nvPr/>
        </p:nvSpPr>
        <p:spPr>
          <a:xfrm>
            <a:off x="65530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2880E-B61D-4FA0-A5D4-2DA0D7E515E5}" type="slidenum">
              <a:rPr b="1" lang="en-US" sz="18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319" name="Picture 6" descr="transfer pipette"/>
          <p:cNvPicPr/>
          <p:nvPr/>
        </p:nvPicPr>
        <p:blipFill>
          <a:blip r:embed="rId2"/>
          <a:stretch/>
        </p:blipFill>
        <p:spPr>
          <a:xfrm>
            <a:off x="2666880" y="5715000"/>
            <a:ext cx="327672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82520" y="255240"/>
            <a:ext cx="827568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ipette: Use and Ca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34520" y="1231920"/>
            <a:ext cx="8277480" cy="185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Select the appropriate pipette for the volume required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Ensure that the pipettor, tips, and specimen are at the same temperature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Firmly attach tip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02DD7-F866-4555-A303-3ED7A073390A}" type="slidenum">
              <a:rPr b="1" lang="en-US" sz="18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ipette: Use and Car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Cont’d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8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Hold the pipette vertically when aspirating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Place tip just below the sample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Avoid air bubbles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Discard contaminated tips in appropriate container after completion of task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325" name="Slide Number Placeholder 4"/>
          <p:cNvSpPr/>
          <p:nvPr/>
        </p:nvSpPr>
        <p:spPr>
          <a:xfrm>
            <a:off x="65530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F823D-049C-4C98-BCD3-373178BA1924}" type="slidenum">
              <a:rPr b="1" lang="en-US" sz="18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326" name="Group 11"/>
          <p:cNvGrpSpPr/>
          <p:nvPr/>
        </p:nvGrpSpPr>
        <p:grpSpPr>
          <a:xfrm>
            <a:off x="1066680" y="4343400"/>
            <a:ext cx="1752840" cy="1644120"/>
            <a:chOff x="1066680" y="4343400"/>
            <a:chExt cx="1752840" cy="1644120"/>
          </a:xfrm>
        </p:grpSpPr>
        <p:pic>
          <p:nvPicPr>
            <p:cNvPr id="327" name="Picture 8" descr="transfer pipette"/>
            <p:cNvPicPr/>
            <p:nvPr/>
          </p:nvPicPr>
          <p:blipFill>
            <a:blip r:embed="rId1"/>
            <a:stretch/>
          </p:blipFill>
          <p:spPr>
            <a:xfrm>
              <a:off x="1066680" y="5027400"/>
              <a:ext cx="1752840" cy="339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28" name="Group 5"/>
            <p:cNvGrpSpPr/>
            <p:nvPr/>
          </p:nvGrpSpPr>
          <p:grpSpPr>
            <a:xfrm>
              <a:off x="1123200" y="4343400"/>
              <a:ext cx="1595520" cy="1644120"/>
              <a:chOff x="1123200" y="4343400"/>
              <a:chExt cx="1595520" cy="1644120"/>
            </a:xfrm>
          </p:grpSpPr>
          <p:sp>
            <p:nvSpPr>
              <p:cNvPr id="329" name="Oval 6"/>
              <p:cNvSpPr/>
              <p:nvPr/>
            </p:nvSpPr>
            <p:spPr>
              <a:xfrm>
                <a:off x="1123200" y="4343400"/>
                <a:ext cx="1595520" cy="1644120"/>
              </a:xfrm>
              <a:prstGeom prst="ellipse">
                <a:avLst/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30" name="Line 7"/>
              <p:cNvSpPr/>
              <p:nvPr/>
            </p:nvSpPr>
            <p:spPr>
              <a:xfrm>
                <a:off x="1459080" y="4516200"/>
                <a:ext cx="1007640" cy="129816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331" name="Rectangle 10"/>
          <p:cNvSpPr/>
          <p:nvPr/>
        </p:nvSpPr>
        <p:spPr>
          <a:xfrm>
            <a:off x="3124080" y="4464000"/>
            <a:ext cx="5639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DO NOT RE-USE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457200" indent="-342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- Pipette tips 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457200" indent="-342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- Graduated plastic bulb pipettes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22960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cision Pipettes Require Performance Check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457200" y="1371600"/>
            <a:ext cx="822960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Performed periodically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Required supplies: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lvl="1" marL="214200" indent="-212760">
              <a:spcBef>
                <a:spcPts val="1250"/>
              </a:spcBef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Pipette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lvl="1" marL="214200" indent="-212760">
              <a:spcBef>
                <a:spcPts val="1250"/>
              </a:spcBef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Pipette tips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lvl="1" marL="214200" indent="-212760">
              <a:spcBef>
                <a:spcPts val="1250"/>
              </a:spcBef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Analytical balance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lvl="1" marL="214200" indent="-212760">
              <a:spcBef>
                <a:spcPts val="1250"/>
              </a:spcBef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Weigh boats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lvl="1" marL="214200" indent="-212760">
              <a:spcBef>
                <a:spcPts val="1250"/>
              </a:spcBef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Distilled or deionzed water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lvl="1" marL="214200" indent="-212760">
              <a:spcBef>
                <a:spcPts val="1250"/>
              </a:spcBef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334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8F7C4-2B0F-4E6F-9060-F5BCDFBC164A}" type="slidenum">
              <a:rPr b="1" lang="en-US" sz="18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22960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ipette: Steps for Checking Reproducibilit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0520" y="1295280"/>
            <a:ext cx="8077320" cy="483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603360" indent="-603360">
              <a:lnSpc>
                <a:spcPct val="80000"/>
              </a:lnSpc>
              <a:spcBef>
                <a:spcPts val="2500"/>
              </a:spcBef>
              <a:buClr>
                <a:srgbClr val="041c4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Pipette a series of 10 samples into a weigh boat on an analytical scale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2500"/>
              </a:spcBef>
              <a:buClr>
                <a:srgbClr val="041c4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Record weight of each sample to  calculate calibration results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2500"/>
              </a:spcBef>
              <a:buClr>
                <a:srgbClr val="041c4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Verify calculated results are within limits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lvl="2" marL="1357560" indent="-45252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d911"/>
                </a:solidFill>
                <a:latin typeface="Arial"/>
              </a:rPr>
              <a:t>Range</a:t>
            </a:r>
            <a:r>
              <a:rPr b="1" lang="en-US" sz="2000" spc="-1" strike="noStrike">
                <a:solidFill>
                  <a:srgbClr val="ffd911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d911"/>
                </a:solidFill>
                <a:latin typeface="Arial"/>
              </a:rPr>
              <a:t>             Max/Min   </a:t>
            </a:r>
            <a:r>
              <a:rPr b="1" lang="en-US" sz="2000" spc="-1" strike="noStrike">
                <a:solidFill>
                  <a:srgbClr val="ffd911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d911"/>
                </a:solidFill>
                <a:latin typeface="Arial"/>
              </a:rPr>
              <a:t>         Accuracy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lvl="2" marL="1357560" indent="-45252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10 µl  </a:t>
            </a: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041c43"/>
                </a:solidFill>
                <a:uFillTx/>
                <a:latin typeface="Arial"/>
              </a:rPr>
              <a:t>+</a:t>
            </a: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  1.0 µl</a:t>
            </a: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10%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lvl="2" marL="1357560" indent="-45252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100 µl</a:t>
            </a: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041c43"/>
                </a:solidFill>
                <a:uFillTx/>
                <a:latin typeface="Arial"/>
              </a:rPr>
              <a:t>+</a:t>
            </a: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 10.0 µ l</a:t>
            </a: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10%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lvl="2" marL="1357560" indent="-45252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200 µl</a:t>
            </a: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041c43"/>
                </a:solidFill>
                <a:uFillTx/>
                <a:latin typeface="Arial"/>
              </a:rPr>
              <a:t>+</a:t>
            </a: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 20.0 µ l</a:t>
            </a: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10 %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2500"/>
              </a:spcBef>
              <a:buClr>
                <a:srgbClr val="041c4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If the results are not within limits, remove from service until appropriate adjustment can be made 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2500"/>
              </a:spcBef>
              <a:buClr>
                <a:srgbClr val="041c4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Decontaminate pipette and scale after use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337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6A6E7-BDEF-4777-8F45-B4F9D91D872D}" type="slidenum">
              <a:rPr b="1" lang="en-US" sz="18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8" name="Text Box 5"/>
          <p:cNvSpPr/>
          <p:nvPr/>
        </p:nvSpPr>
        <p:spPr>
          <a:xfrm>
            <a:off x="1219320" y="3581280"/>
            <a:ext cx="5790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560" y="331560"/>
            <a:ext cx="845820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ipette: Troubleshoot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2133720" y="2057400"/>
          <a:ext cx="6781680" cy="5122800"/>
        </p:xfrm>
        <a:graphic>
          <a:graphicData uri="http://schemas.openxmlformats.org/drawingml/2006/table">
            <a:tbl>
              <a:tblPr/>
              <a:tblGrid>
                <a:gridCol w="2787480"/>
                <a:gridCol w="3994200"/>
              </a:tblGrid>
              <a:tr h="752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1160" indent="-281160">
                        <a:lnSpc>
                          <a:spcPct val="90000"/>
                        </a:lnSpc>
                        <a:spcAft>
                          <a:spcPts val="751"/>
                        </a:spcAft>
                        <a:buClr>
                          <a:srgbClr val="ffd911"/>
                        </a:buClr>
                        <a:buSzPct val="9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41c43"/>
                          </a:solidFill>
                          <a:latin typeface="Arial"/>
                          <a:ea typeface="Times New Roman"/>
                        </a:rPr>
                        <a:t>Tip(s) incorrectly attached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lnSpc>
                          <a:spcPct val="90000"/>
                        </a:lnSpc>
                        <a:spcAft>
                          <a:spcPts val="751"/>
                        </a:spcAft>
                        <a:buClr>
                          <a:srgbClr val="ffd911"/>
                        </a:buClr>
                        <a:buSzPct val="9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41c43"/>
                          </a:solidFill>
                          <a:latin typeface="Arial"/>
                          <a:ea typeface="Times New Roman"/>
                        </a:rPr>
                        <a:t>Attach firmly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10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52440" indent="-352440">
                        <a:lnSpc>
                          <a:spcPct val="90000"/>
                        </a:lnSpc>
                        <a:spcAft>
                          <a:spcPts val="751"/>
                        </a:spcAft>
                        <a:buClr>
                          <a:srgbClr val="ffd911"/>
                        </a:buClr>
                        <a:buSzPct val="9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41c43"/>
                          </a:solidFill>
                          <a:latin typeface="Arial"/>
                          <a:ea typeface="Arial"/>
                        </a:rPr>
                        <a:t>Foreign articles between the tip and cone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  <a:p>
                      <a:pPr marL="352440" indent="-352440">
                        <a:lnSpc>
                          <a:spcPct val="90000"/>
                        </a:lnSpc>
                        <a:spcAft>
                          <a:spcPts val="312"/>
                        </a:spcAft>
                        <a:buClr>
                          <a:srgbClr val="ffd911"/>
                        </a:buClr>
                        <a:buSzPct val="9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  <a:p>
                      <a:pPr marL="352440" indent="-352440">
                        <a:lnSpc>
                          <a:spcPct val="90000"/>
                        </a:lnSpc>
                        <a:spcAft>
                          <a:spcPts val="751"/>
                        </a:spcAft>
                        <a:buClr>
                          <a:srgbClr val="ffd911"/>
                        </a:buClr>
                        <a:buSzPct val="9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41c43"/>
                          </a:solidFill>
                          <a:latin typeface="Arial"/>
                          <a:ea typeface="Arial"/>
                        </a:rPr>
                        <a:t>O-ring</a:t>
                      </a:r>
                      <a:r>
                        <a:rPr b="0" lang="en-US" sz="2400" spc="-1" strike="noStrike">
                          <a:solidFill>
                            <a:srgbClr val="041c43"/>
                          </a:solidFill>
                          <a:latin typeface="Arial"/>
                        </a:rPr>
                        <a:t> damaged</a:t>
                      </a:r>
                      <a:r>
                        <a:rPr b="0" lang="en-US" sz="2400" spc="-1" strike="noStrike">
                          <a:solidFill>
                            <a:srgbClr val="041c43"/>
                          </a:solidFill>
                          <a:latin typeface="Arial"/>
                        </a:rPr>
                        <a:t>	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1160" indent="-281160">
                        <a:lnSpc>
                          <a:spcPct val="90000"/>
                        </a:lnSpc>
                        <a:spcAft>
                          <a:spcPts val="751"/>
                        </a:spcAft>
                        <a:buClr>
                          <a:srgbClr val="ffd911"/>
                        </a:buClr>
                        <a:buSzPct val="9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41c43"/>
                          </a:solidFill>
                          <a:latin typeface="Arial"/>
                        </a:rPr>
                        <a:t>Clean tip cones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  <a:p>
                      <a:pPr marL="281160" indent="-281160">
                        <a:lnSpc>
                          <a:spcPct val="90000"/>
                        </a:lnSpc>
                        <a:spcAft>
                          <a:spcPts val="751"/>
                        </a:spcAft>
                        <a:buClr>
                          <a:srgbClr val="ffd911"/>
                        </a:buClr>
                        <a:buSzPct val="9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  <a:p>
                      <a:pPr marL="281160" indent="-281160">
                        <a:lnSpc>
                          <a:spcPct val="90000"/>
                        </a:lnSpc>
                        <a:spcAft>
                          <a:spcPts val="751"/>
                        </a:spcAft>
                        <a:buClr>
                          <a:srgbClr val="ffd911"/>
                        </a:buClr>
                        <a:buSzPct val="9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  <a:p>
                      <a:pPr marL="281160" indent="-281160">
                        <a:lnSpc>
                          <a:spcPct val="90000"/>
                        </a:lnSpc>
                        <a:spcAft>
                          <a:spcPts val="751"/>
                        </a:spcAft>
                        <a:buClr>
                          <a:srgbClr val="ffd911"/>
                        </a:buClr>
                        <a:buSzPct val="9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41c43"/>
                          </a:solidFill>
                          <a:latin typeface="Arial"/>
                        </a:rPr>
                        <a:t>Change the O-ring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05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52440" indent="-352440">
                        <a:lnSpc>
                          <a:spcPct val="90000"/>
                        </a:lnSpc>
                        <a:spcAft>
                          <a:spcPts val="751"/>
                        </a:spcAft>
                        <a:buClr>
                          <a:srgbClr val="ffd911"/>
                        </a:buClr>
                        <a:buSzPct val="9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41c43"/>
                          </a:solidFill>
                          <a:latin typeface="Arial"/>
                          <a:ea typeface="Arial"/>
                        </a:rPr>
                        <a:t>Incorrect operation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  <a:p>
                      <a:pPr marL="352440" indent="-352440">
                        <a:lnSpc>
                          <a:spcPct val="90000"/>
                        </a:lnSpc>
                        <a:spcAft>
                          <a:spcPts val="751"/>
                        </a:spcAft>
                        <a:buClr>
                          <a:srgbClr val="ffd911"/>
                        </a:buClr>
                        <a:buSzPct val="9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41c43"/>
                          </a:solidFill>
                          <a:latin typeface="Arial"/>
                          <a:ea typeface="Arial"/>
                        </a:rPr>
                        <a:t>Tip incorrectly attached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52440" indent="-352440">
                        <a:lnSpc>
                          <a:spcPct val="90000"/>
                        </a:lnSpc>
                        <a:spcAft>
                          <a:spcPts val="751"/>
                        </a:spcAft>
                        <a:buClr>
                          <a:srgbClr val="ffd911"/>
                        </a:buClr>
                        <a:buSzPct val="9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41c43"/>
                          </a:solidFill>
                          <a:latin typeface="Arial"/>
                        </a:rPr>
                        <a:t>Follow manufacturer’s instructions carefully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  <a:p>
                      <a:pPr marL="352440" indent="-352440">
                        <a:lnSpc>
                          <a:spcPct val="90000"/>
                        </a:lnSpc>
                        <a:spcAft>
                          <a:spcPts val="751"/>
                        </a:spcAft>
                        <a:buClr>
                          <a:srgbClr val="ffd911"/>
                        </a:buClr>
                        <a:buSzPct val="9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41c43"/>
                          </a:solidFill>
                          <a:latin typeface="Arial"/>
                        </a:rPr>
                        <a:t>Firmly attach tip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22400" indent="-122400">
                        <a:lnSpc>
                          <a:spcPct val="90000"/>
                        </a:lnSpc>
                        <a:spcAft>
                          <a:spcPts val="751"/>
                        </a:spcAft>
                        <a:buClr>
                          <a:srgbClr val="ffd911"/>
                        </a:buClr>
                        <a:buSzPct val="9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22400" indent="-122400">
                        <a:lnSpc>
                          <a:spcPct val="90000"/>
                        </a:lnSpc>
                        <a:spcAft>
                          <a:spcPts val="751"/>
                        </a:spcAft>
                        <a:buClr>
                          <a:srgbClr val="ffd911"/>
                        </a:buClr>
                        <a:buSzPct val="9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22400" indent="-122400">
                        <a:lnSpc>
                          <a:spcPct val="90000"/>
                        </a:lnSpc>
                        <a:spcAft>
                          <a:spcPts val="751"/>
                        </a:spcAft>
                        <a:buClr>
                          <a:srgbClr val="ffd911"/>
                        </a:buClr>
                        <a:buSzPct val="9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22400" indent="-122400">
                        <a:lnSpc>
                          <a:spcPct val="90000"/>
                        </a:lnSpc>
                        <a:spcAft>
                          <a:spcPts val="751"/>
                        </a:spcAft>
                        <a:buClr>
                          <a:srgbClr val="ffd911"/>
                        </a:buClr>
                        <a:buSzPct val="9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Rectangle 3"/>
          <p:cNvSpPr/>
          <p:nvPr/>
        </p:nvSpPr>
        <p:spPr>
          <a:xfrm>
            <a:off x="479520" y="2041560"/>
            <a:ext cx="1828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1c43"/>
                </a:solidFill>
                <a:latin typeface="Arial"/>
                <a:ea typeface="Arial"/>
              </a:rPr>
              <a:t>Leakage</a:t>
            </a:r>
            <a:r>
              <a:rPr b="1" lang="en-US" sz="2400" spc="-1" strike="noStrike">
                <a:solidFill>
                  <a:srgbClr val="041c43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2" name="Text Box 4"/>
          <p:cNvSpPr/>
          <p:nvPr/>
        </p:nvSpPr>
        <p:spPr>
          <a:xfrm>
            <a:off x="633600" y="1523880"/>
            <a:ext cx="1180440" cy="45972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1c43"/>
                </a:solidFill>
                <a:latin typeface="Arial Narrow"/>
              </a:rPr>
              <a:t>Problem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3" name="Text Box 5"/>
          <p:cNvSpPr/>
          <p:nvPr/>
        </p:nvSpPr>
        <p:spPr>
          <a:xfrm>
            <a:off x="2209680" y="1523880"/>
            <a:ext cx="2362320" cy="459720"/>
          </a:xfrm>
          <a:prstGeom prst="rect">
            <a:avLst/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1c43"/>
                </a:solidFill>
                <a:latin typeface="Arial Narrow"/>
              </a:rPr>
              <a:t>Potential Cause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4" name="Text Box 6"/>
          <p:cNvSpPr/>
          <p:nvPr/>
        </p:nvSpPr>
        <p:spPr>
          <a:xfrm>
            <a:off x="5029200" y="1523880"/>
            <a:ext cx="3610080" cy="4597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1c43"/>
                </a:solidFill>
                <a:latin typeface="Arial Narrow"/>
              </a:rPr>
              <a:t>Action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5" name="Text Box 55"/>
          <p:cNvSpPr/>
          <p:nvPr/>
        </p:nvSpPr>
        <p:spPr>
          <a:xfrm>
            <a:off x="457200" y="4579920"/>
            <a:ext cx="1882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1c43"/>
                </a:solidFill>
                <a:latin typeface="Arial"/>
                <a:ea typeface="Arial"/>
              </a:rPr>
              <a:t>Inaccurate dispensing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82520" y="380520"/>
            <a:ext cx="827568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entrifuge:  Use and Ca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434520" y="1231920"/>
            <a:ext cx="8277480" cy="34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Always operate with the lid closed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Balance contents before turning on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Check for vibration 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Do not open the lid until the rotor has come to a complete stop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Keep lids on tubes when spinning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348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38FB6-DAF1-4A12-889E-829DB0E9A1FD}" type="slidenum">
              <a:rPr b="1" lang="en-US" sz="18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4920" y="334440"/>
            <a:ext cx="8229600" cy="42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entrifuges: Function Check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37720" y="1752120"/>
            <a:ext cx="3886200" cy="40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Proper balance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Lubrication 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Rotor function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pic>
        <p:nvPicPr>
          <p:cNvPr id="351" name="Picture 4" descr="centrifuge6 smithkline"/>
          <p:cNvPicPr/>
          <p:nvPr/>
        </p:nvPicPr>
        <p:blipFill>
          <a:blip r:embed="rId1"/>
          <a:stretch/>
        </p:blipFill>
        <p:spPr>
          <a:xfrm>
            <a:off x="4495680" y="1828800"/>
            <a:ext cx="4114800" cy="3086280"/>
          </a:xfrm>
          <a:prstGeom prst="rect">
            <a:avLst/>
          </a:prstGeom>
          <a:ln w="0">
            <a:noFill/>
          </a:ln>
        </p:spPr>
      </p:pic>
      <p:sp>
        <p:nvSpPr>
          <p:cNvPr id="352" name="Slide Number Placeholder 4"/>
          <p:cNvSpPr/>
          <p:nvPr/>
        </p:nvSpPr>
        <p:spPr>
          <a:xfrm>
            <a:off x="65530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E61E3-DAAA-4376-BF2D-6CD5B1F4E746}" type="slidenum">
              <a:rPr b="1" lang="en-US" sz="18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28600" y="275760"/>
            <a:ext cx="86472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entrifuge: Routine Maintenanc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304560" y="1371240"/>
            <a:ext cx="8381880" cy="49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Clean interior, condenser coils, fan, and screens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Investigate unusual noises or vibrations 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Inspect for evidence of wear, cracks in fitting, corrosion, uneven wear, or signs of fatigue: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lvl="1" marL="214200" indent="-212760"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Head, shaft head and coupling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lvl="1" marL="214200" indent="-212760"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Rotor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lvl="1" marL="214200" indent="-212760"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Brushes and bearings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lvl="1" marL="214200" indent="-212760"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Power supply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lvl="1" marL="214200" indent="-212760"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Motor and lubricant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lvl="1" marL="214200" indent="-212760"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Gaskets, seals, mounts and lubricants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Calibrate speed by accredited centre/purchase tachometer and caliberator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(The service engineer performs all the above mentioned checks)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355" name="Slide Number Placeholder 4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00861-64AB-48BB-BDC4-21EF3A58D5CF}" type="slidenum">
              <a:rPr b="1" lang="en-US" sz="18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6" name="Rectangle 5"/>
          <p:cNvSpPr/>
          <p:nvPr/>
        </p:nvSpPr>
        <p:spPr>
          <a:xfrm>
            <a:off x="533520" y="1371600"/>
            <a:ext cx="795636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5000"/>
              </a:lnSpc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82520" y="483840"/>
            <a:ext cx="827568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earning Objectiv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6840" y="1752480"/>
            <a:ext cx="8458200" cy="34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At the end of this module, you will: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>
              <a:spcBef>
                <a:spcPts val="2500"/>
              </a:spcBef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Know your responsibilities related to equipment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>
              <a:spcBef>
                <a:spcPts val="2500"/>
              </a:spcBef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Routinely monitor the temperatures of refrigerators and freezers 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>
              <a:spcBef>
                <a:spcPts val="2500"/>
              </a:spcBef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Confirm that auto pipettes deliver specified volumes accurately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>
              <a:spcBef>
                <a:spcPts val="2500"/>
              </a:spcBef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Properly use and maintain centrifuges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C47FB-55FB-42B1-BA7D-0D2F70D59BE4}" type="slidenum">
              <a:rPr b="1" lang="en-US" sz="18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28600" y="19044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entrifuge Safet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15720" y="1320480"/>
            <a:ext cx="8142120" cy="366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80000"/>
              </a:lnSpc>
              <a:spcBef>
                <a:spcPts val="2500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Increase the speed slowly until optimal speed is reached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500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Disconnect the centrifuge from the electrical source before preventive maintenance, cleaning or inspection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500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Take caution when removing spills and broken specimen tubes after a run  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500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If tubes are broken, keep the door closed and allow to sit undisturbed for 30 minutes before attempting to clean  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500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Use tweezers to remove broken glass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359" name="Slide Number Placeholder 4"/>
          <p:cNvSpPr/>
          <p:nvPr/>
        </p:nvSpPr>
        <p:spPr>
          <a:xfrm>
            <a:off x="65530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F067A-A05C-4223-AB4C-24EEAD914AF1}" type="slidenum">
              <a:rPr b="1" lang="en-US" sz="18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Picture 6" descr="Generic Maintenance Sheet"/>
          <p:cNvPicPr/>
          <p:nvPr/>
        </p:nvPicPr>
        <p:blipFill>
          <a:blip r:embed="rId1"/>
          <a:stretch/>
        </p:blipFill>
        <p:spPr>
          <a:xfrm>
            <a:off x="152280" y="1249200"/>
            <a:ext cx="6572520" cy="5075280"/>
          </a:xfrm>
          <a:prstGeom prst="rect">
            <a:avLst/>
          </a:prstGeom>
          <a:ln w="0">
            <a:noFill/>
          </a:ln>
        </p:spPr>
      </p:pic>
      <p:sp>
        <p:nvSpPr>
          <p:cNvPr id="361" name="Slide Number Placeholder 2"/>
          <p:cNvSpPr/>
          <p:nvPr/>
        </p:nvSpPr>
        <p:spPr>
          <a:xfrm>
            <a:off x="65530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66A64-0982-4E90-8449-A82627AA2CC8}" type="slidenum">
              <a:rPr b="1" lang="en-US" sz="18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2" name="Rectangle 8"/>
          <p:cNvSpPr/>
          <p:nvPr/>
        </p:nvSpPr>
        <p:spPr>
          <a:xfrm>
            <a:off x="304920" y="0"/>
            <a:ext cx="7772400" cy="923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41c4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Keep a Log for All Maintenance Activitie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22960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mon equipment used at ICTC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Slide Number Placeholder 5"/>
          <p:cNvSpPr/>
          <p:nvPr/>
        </p:nvSpPr>
        <p:spPr>
          <a:xfrm>
            <a:off x="6553080" y="58482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DF43F-94D2-4EEB-9F6D-141A114B2C9E}" type="slidenum">
              <a:rPr b="1" lang="en-US" sz="18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1" name="Rectangle 22"/>
          <p:cNvSpPr/>
          <p:nvPr/>
        </p:nvSpPr>
        <p:spPr>
          <a:xfrm>
            <a:off x="3276720" y="1523880"/>
            <a:ext cx="2590560" cy="4114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41c43"/>
            </a:solidFill>
            <a:miter/>
          </a:ln>
          <a:effectLst>
            <a:outerShdw dist="107932" dir="2700000" blurRad="0" rotWithShape="0">
              <a:srgbClr val="7f8fa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2" name="Rectangle 21"/>
          <p:cNvSpPr/>
          <p:nvPr/>
        </p:nvSpPr>
        <p:spPr>
          <a:xfrm>
            <a:off x="6172200" y="1600200"/>
            <a:ext cx="2590920" cy="41148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41c43"/>
            </a:solidFill>
            <a:miter/>
          </a:ln>
          <a:effectLst>
            <a:outerShdw dist="107932" dir="2700000" blurRad="0" rotWithShape="0">
              <a:srgbClr val="7f8fa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3" name="Rectangle 19"/>
          <p:cNvSpPr/>
          <p:nvPr/>
        </p:nvSpPr>
        <p:spPr>
          <a:xfrm>
            <a:off x="533520" y="1523880"/>
            <a:ext cx="2590560" cy="41148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41c43"/>
            </a:solidFill>
            <a:miter/>
          </a:ln>
          <a:effectLst>
            <a:outerShdw dist="107932" dir="2700000" blurRad="0" rotWithShape="0">
              <a:srgbClr val="7f8fa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4" name="Oval 7"/>
          <p:cNvSpPr/>
          <p:nvPr/>
        </p:nvSpPr>
        <p:spPr>
          <a:xfrm>
            <a:off x="6248520" y="1143000"/>
            <a:ext cx="2286000" cy="106668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41c43"/>
            </a:solidFill>
            <a:miter/>
          </a:ln>
          <a:effectLst>
            <a:outerShdw dist="107932" dir="2700000" blurRad="0" rotWithShape="0">
              <a:srgbClr val="7f8fa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Arial Narrow"/>
              </a:rPr>
              <a:t>Centrifuge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5" name="Oval 9"/>
          <p:cNvSpPr/>
          <p:nvPr/>
        </p:nvSpPr>
        <p:spPr>
          <a:xfrm>
            <a:off x="533520" y="1143000"/>
            <a:ext cx="2438280" cy="106668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41c43"/>
            </a:solidFill>
            <a:miter/>
          </a:ln>
          <a:effectLst>
            <a:outerShdw dist="107932" dir="2700000" blurRad="0" rotWithShape="0">
              <a:srgbClr val="7f8fa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Arial Narrow"/>
              </a:rPr>
              <a:t>Refrigerator 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Arial Narrow"/>
              </a:rPr>
              <a:t>&amp; freezer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6" name="Rectangle 10"/>
          <p:cNvSpPr/>
          <p:nvPr/>
        </p:nvSpPr>
        <p:spPr>
          <a:xfrm>
            <a:off x="6172200" y="2362320"/>
            <a:ext cx="2666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1c43"/>
                </a:solidFill>
                <a:latin typeface="Arial Narrow"/>
              </a:rPr>
              <a:t>Separates cells from serum/ plasma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7" name="Oval 13"/>
          <p:cNvSpPr/>
          <p:nvPr/>
        </p:nvSpPr>
        <p:spPr>
          <a:xfrm>
            <a:off x="3429000" y="1143000"/>
            <a:ext cx="2286000" cy="106668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41c43"/>
            </a:solidFill>
            <a:miter/>
          </a:ln>
          <a:effectLst>
            <a:outerShdw dist="107932" dir="2700000" blurRad="0" rotWithShape="0">
              <a:srgbClr val="7f8fa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Arial Narrow"/>
              </a:rPr>
              <a:t>Pipette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278" name="Group 18"/>
          <p:cNvGrpSpPr/>
          <p:nvPr/>
        </p:nvGrpSpPr>
        <p:grpSpPr>
          <a:xfrm>
            <a:off x="3898800" y="3336840"/>
            <a:ext cx="1358640" cy="2301840"/>
            <a:chOff x="3898800" y="3336840"/>
            <a:chExt cx="1358640" cy="2301840"/>
          </a:xfrm>
        </p:grpSpPr>
        <p:pic>
          <p:nvPicPr>
            <p:cNvPr id="279" name="Picture 15" descr="transfer pipette"/>
            <p:cNvPicPr/>
            <p:nvPr/>
          </p:nvPicPr>
          <p:blipFill>
            <a:blip r:embed="rId7"/>
            <a:stretch/>
          </p:blipFill>
          <p:spPr>
            <a:xfrm rot="16200000">
              <a:off x="3799800" y="4180680"/>
              <a:ext cx="2289600" cy="62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0" name="Picture 16" descr="ranin pipette"/>
            <p:cNvPicPr/>
            <p:nvPr/>
          </p:nvPicPr>
          <p:blipFill>
            <a:blip r:embed="rId8"/>
            <a:srcRect l="0" t="16655" r="0" b="9236"/>
            <a:stretch/>
          </p:blipFill>
          <p:spPr>
            <a:xfrm rot="16200000">
              <a:off x="3067200" y="4168440"/>
              <a:ext cx="2301840" cy="638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1" name="Text Box 23"/>
          <p:cNvSpPr/>
          <p:nvPr/>
        </p:nvSpPr>
        <p:spPr>
          <a:xfrm>
            <a:off x="4022640" y="23209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2" name="Rectangle 25"/>
          <p:cNvSpPr/>
          <p:nvPr/>
        </p:nvSpPr>
        <p:spPr>
          <a:xfrm>
            <a:off x="3352680" y="2338560"/>
            <a:ext cx="25146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1c43"/>
                </a:solidFill>
                <a:latin typeface="Arial Narrow"/>
              </a:rPr>
              <a:t>Collects or transfers specimen to test device 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83" name="Picture 11" descr="centrifuge6 smithkline"/>
          <p:cNvPicPr/>
          <p:nvPr/>
        </p:nvPicPr>
        <p:blipFill>
          <a:blip r:embed="rId9"/>
          <a:stretch/>
        </p:blipFill>
        <p:spPr>
          <a:xfrm>
            <a:off x="6172200" y="3276720"/>
            <a:ext cx="2590920" cy="194292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26" descr="DSC00230"/>
          <p:cNvPicPr/>
          <p:nvPr/>
        </p:nvPicPr>
        <p:blipFill>
          <a:blip r:embed="rId10"/>
          <a:srcRect l="0" t="-3478" r="55585" b="0"/>
          <a:stretch/>
        </p:blipFill>
        <p:spPr>
          <a:xfrm>
            <a:off x="838080" y="2286000"/>
            <a:ext cx="187488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83944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unctioning Equipment is Vital to Quality Servic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F5508-2BA1-4640-8C1B-592839DD2ED1}" type="slidenum">
              <a:rPr b="1" lang="en-US" sz="18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7" name="AutoShape 4"/>
          <p:cNvSpPr/>
          <p:nvPr/>
        </p:nvSpPr>
        <p:spPr>
          <a:xfrm>
            <a:off x="3276720" y="1779480"/>
            <a:ext cx="1825560" cy="10400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41c43"/>
            </a:solidFill>
            <a:miter/>
          </a:ln>
          <a:effectLst>
            <a:outerShdw dist="107932" dir="2700000" blurRad="0" rotWithShape="0">
              <a:srgbClr val="7f8fa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1c43"/>
                </a:solidFill>
                <a:latin typeface="Arial Narrow"/>
              </a:rPr>
              <a:t>Produces 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1c43"/>
                </a:solidFill>
                <a:latin typeface="Arial Narrow"/>
              </a:rPr>
              <a:t>reliable 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1c43"/>
                </a:solidFill>
                <a:latin typeface="Arial Narrow"/>
              </a:rPr>
              <a:t>test results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8" name="AutoShape 6"/>
          <p:cNvSpPr/>
          <p:nvPr/>
        </p:nvSpPr>
        <p:spPr>
          <a:xfrm>
            <a:off x="3276720" y="2895480"/>
            <a:ext cx="1828800" cy="104004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41c43"/>
            </a:solidFill>
            <a:miter/>
          </a:ln>
          <a:effectLst>
            <a:outerShdw dist="107932" dir="2700000" blurRad="0" rotWithShape="0">
              <a:srgbClr val="7f8fa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1c43"/>
                </a:solidFill>
                <a:latin typeface="Arial Narrow"/>
              </a:rPr>
              <a:t>Lowers 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1c43"/>
                </a:solidFill>
                <a:latin typeface="Arial Narrow"/>
              </a:rPr>
              <a:t>repair costs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9" name="AutoShape 7"/>
          <p:cNvSpPr/>
          <p:nvPr/>
        </p:nvSpPr>
        <p:spPr>
          <a:xfrm>
            <a:off x="3276720" y="3989520"/>
            <a:ext cx="1825560" cy="103968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41c43"/>
            </a:solidFill>
            <a:miter/>
          </a:ln>
          <a:effectLst>
            <a:outerShdw dist="107932" dir="2700000" blurRad="0" rotWithShape="0">
              <a:srgbClr val="7f8fa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1c43"/>
                </a:solidFill>
                <a:latin typeface="Arial Narrow"/>
              </a:rPr>
              <a:t>Prevents 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1c43"/>
                </a:solidFill>
                <a:latin typeface="Arial Narrow"/>
              </a:rPr>
              <a:t>delays in 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1c43"/>
                </a:solidFill>
                <a:latin typeface="Arial Narrow"/>
              </a:rPr>
              <a:t>testing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0" name="AutoShape 8"/>
          <p:cNvSpPr/>
          <p:nvPr/>
        </p:nvSpPr>
        <p:spPr>
          <a:xfrm>
            <a:off x="3276720" y="5105520"/>
            <a:ext cx="1828800" cy="103968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41c43"/>
            </a:solidFill>
            <a:miter/>
          </a:ln>
          <a:effectLst>
            <a:outerShdw dist="107932" dir="2700000" blurRad="0" rotWithShape="0">
              <a:srgbClr val="7f8fa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1c43"/>
                </a:solidFill>
                <a:latin typeface="Arial Narrow"/>
              </a:rPr>
              <a:t>Maintains 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8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1c43"/>
                </a:solidFill>
                <a:latin typeface="Arial Narrow"/>
              </a:rPr>
              <a:t>productivity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1" name="AutoShape 11"/>
          <p:cNvSpPr/>
          <p:nvPr/>
        </p:nvSpPr>
        <p:spPr>
          <a:xfrm>
            <a:off x="5334120" y="3276720"/>
            <a:ext cx="914400" cy="1295280"/>
          </a:xfrm>
          <a:prstGeom prst="pie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41c43"/>
            </a:solidFill>
            <a:miter/>
          </a:ln>
          <a:effectLst>
            <a:outerShdw dist="107932" dir="2700000" blurRad="0" rotWithShape="0">
              <a:srgbClr val="7f8fa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2" name="AutoShape 12"/>
          <p:cNvSpPr/>
          <p:nvPr/>
        </p:nvSpPr>
        <p:spPr>
          <a:xfrm>
            <a:off x="6248520" y="2590920"/>
            <a:ext cx="2743200" cy="2590560"/>
          </a:xfrm>
          <a:prstGeom prst="pie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7f8fa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1c43"/>
                </a:solidFill>
                <a:latin typeface="Arial Narrow"/>
              </a:rPr>
              <a:t>Total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1c43"/>
                </a:solidFill>
                <a:latin typeface="Arial Narrow"/>
              </a:rPr>
              <a:t>Quality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3" name="AutoShape 16"/>
          <p:cNvSpPr/>
          <p:nvPr/>
        </p:nvSpPr>
        <p:spPr>
          <a:xfrm>
            <a:off x="2209680" y="3276720"/>
            <a:ext cx="914400" cy="1295280"/>
          </a:xfrm>
          <a:prstGeom prst="pie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041c43"/>
            </a:solidFill>
            <a:miter/>
          </a:ln>
          <a:effectLst>
            <a:outerShdw dist="107932" dir="2700000" blurRad="0" rotWithShape="0">
              <a:srgbClr val="7f8fa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4" name="Text Box 18"/>
          <p:cNvSpPr/>
          <p:nvPr/>
        </p:nvSpPr>
        <p:spPr>
          <a:xfrm>
            <a:off x="284040" y="3429000"/>
            <a:ext cx="1849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1c43"/>
                </a:solidFill>
                <a:latin typeface="Arial Narrow"/>
              </a:rPr>
              <a:t>Functioning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1c43"/>
                </a:solidFill>
                <a:latin typeface="Arial Narrow"/>
              </a:rPr>
              <a:t>Equipment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52280" y="456840"/>
            <a:ext cx="827568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nagement Responsibilities (Hospital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75960" y="1088640"/>
            <a:ext cx="8839080" cy="50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Before equipment use: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Update laboratory equipment inventory record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Ensure that manufacturers’ manuals/instructions for all equipment to be available at user site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Establish maintenance program (AMC) including routine function checks  (Calibration and temperature logs) and trouble-shooting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Copy of contracts to be available at user sites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Establish maintenance log (Details of breakdowns and repair, time lines action taken)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Develop and implement written protocols for operating procedures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Provide training for all operators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4EDBB-7AB3-467C-A047-7E25F3188D54}" type="slidenum">
              <a:rPr b="1" lang="en-US" sz="18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82520" y="407520"/>
            <a:ext cx="827568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sponsibilities: Lab Superviso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34520" y="1231920"/>
            <a:ext cx="8277480" cy="279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Follow written operational procedures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Conduct routine maintenance, including function checks 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Take corrective actions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Keep records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AE3AC-23F4-45E4-A3BA-24D659A758AC}" type="slidenum">
              <a:rPr b="1" lang="en-US" sz="18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1" name="AutoShape 4"/>
          <p:cNvSpPr/>
          <p:nvPr/>
        </p:nvSpPr>
        <p:spPr>
          <a:xfrm>
            <a:off x="4267080" y="3505320"/>
            <a:ext cx="4191120" cy="3047760"/>
          </a:xfrm>
          <a:prstGeom prst="irregularSeal1">
            <a:avLst/>
          </a:prstGeom>
          <a:gradFill rotWithShape="0">
            <a:gsLst>
              <a:gs pos="0">
                <a:srgbClr val="cc0066"/>
              </a:gs>
              <a:gs pos="100000">
                <a:srgbClr val="d21d77"/>
              </a:gs>
            </a:gsLst>
            <a:lin ang="5400000"/>
          </a:gradFill>
          <a:ln w="9360">
            <a:solidFill>
              <a:srgbClr val="041c43"/>
            </a:solidFill>
            <a:miter/>
          </a:ln>
          <a:effectLst>
            <a:outerShdw dist="107932" dir="2700000" blurRad="0" rotWithShape="0">
              <a:srgbClr val="7f8fa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Do not use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malfunctioning 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equipment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82160" y="179280"/>
            <a:ext cx="8961480" cy="86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uncti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ecks to Verify that Equipment is Working Properl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57200" y="1951200"/>
            <a:ext cx="8229600" cy="38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Performed routinely as directed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lvl="1" marL="212040" indent="-210600">
              <a:spcBef>
                <a:spcPts val="1250"/>
              </a:spcBef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Daily, weekly, monthly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lvl="1" marL="212040" indent="-210600">
              <a:spcBef>
                <a:spcPts val="1250"/>
              </a:spcBef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After adjustment or repair 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Example: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lvl="1" marL="212040" indent="-210600">
              <a:spcBef>
                <a:spcPts val="1250"/>
              </a:spcBef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Monitoring refrigerator temperatures-daily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lvl="1" marL="212040" indent="-210600">
              <a:spcBef>
                <a:spcPts val="1250"/>
              </a:spcBef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Verifying pipette accuracy-quarterly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lvl="1" marL="212040" indent="-210600">
              <a:spcBef>
                <a:spcPts val="1250"/>
              </a:spcBef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Checking centrifuge speed-quarterly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CC188-B485-4808-80DA-C0F0CFD221DF}" type="slidenum">
              <a:rPr b="1" lang="en-US" sz="18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82520" y="331560"/>
            <a:ext cx="827568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rigerator and Freezer:  Use and Ca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304920" y="1295280"/>
            <a:ext cx="8229600" cy="43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Keep organized (storing samples and kits)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Periodically clean inside and outside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Ensure door is completely sealed when closing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Ensure that area is well ventilated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Ensure that area is free of rodents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CAUTION! – DO NOT store food items or beverages in laboratory refrigerator or freezer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307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E788A-50DC-4F48-B831-81BC93E415E6}" type="slidenum">
              <a:rPr b="1" lang="en-US" sz="18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rigerator &amp; Freezer: Temperature Check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30556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Monitor daily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Refrigerator:  2</a:t>
            </a:r>
            <a:r>
              <a:rPr b="0" lang="en-US" sz="2000" spc="-1" strike="noStrike" baseline="40000">
                <a:solidFill>
                  <a:srgbClr val="041c43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C to 8</a:t>
            </a:r>
            <a:r>
              <a:rPr b="0" lang="en-US" sz="2000" spc="-1" strike="noStrike" baseline="40000">
                <a:solidFill>
                  <a:srgbClr val="041c43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C 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Freezer:  -20</a:t>
            </a:r>
            <a:r>
              <a:rPr b="0" lang="en-US" sz="2000" spc="-1" strike="noStrike" baseline="40000">
                <a:solidFill>
                  <a:srgbClr val="041c43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C, -40</a:t>
            </a:r>
            <a:r>
              <a:rPr b="0" lang="en-US" sz="2000" spc="-1" strike="noStrike" baseline="40000">
                <a:solidFill>
                  <a:srgbClr val="041c43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C, or -80</a:t>
            </a:r>
            <a:r>
              <a:rPr b="0" lang="en-US" sz="2000" spc="-1" strike="noStrike" baseline="40000">
                <a:solidFill>
                  <a:srgbClr val="041c43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C as the case may be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pic>
        <p:nvPicPr>
          <p:cNvPr id="310" name="Picture 8" descr="105_0522"/>
          <p:cNvPicPr/>
          <p:nvPr/>
        </p:nvPicPr>
        <p:blipFill>
          <a:blip r:embed="rId1"/>
          <a:stretch/>
        </p:blipFill>
        <p:spPr>
          <a:xfrm>
            <a:off x="2743200" y="3352680"/>
            <a:ext cx="3819600" cy="3006720"/>
          </a:xfrm>
          <a:prstGeom prst="rect">
            <a:avLst/>
          </a:prstGeom>
          <a:ln w="0">
            <a:noFill/>
          </a:ln>
        </p:spPr>
      </p:pic>
      <p:sp>
        <p:nvSpPr>
          <p:cNvPr id="311" name="Slide Number Placeholder 4"/>
          <p:cNvSpPr/>
          <p:nvPr/>
        </p:nvSpPr>
        <p:spPr>
          <a:xfrm>
            <a:off x="65530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FF393-01A5-457B-A62C-F6CADE136A25}" type="slidenum">
              <a:rPr b="1" lang="en-US" sz="18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17:20:49Z</dcterms:created>
  <dc:creator>exw2</dc:creator>
  <dc:description/>
  <dc:language>en-US</dc:language>
  <cp:lastModifiedBy>Dr Saurabh Agarwal</cp:lastModifiedBy>
  <dcterms:modified xsi:type="dcterms:W3CDTF">2009-01-06T07:12:32Z</dcterms:modified>
  <cp:revision>303</cp:revision>
  <dc:subject/>
  <dc:title>Slide 1</dc:title>
</cp:coreProperties>
</file>