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723-556E-49D4-BE2B-7239DB8F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C52-728C-4AF6-A53B-4849F23E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ABC-0692-42A7-BDAD-F67E0E11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881-84F6-47C2-AAB9-E66BFA6D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A5A-04E2-4027-8B48-D05556AA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3156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55E-FBC6-4EDF-A62A-BA048D4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366-EC54-4502-96DF-218BDD49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0A5-E4E6-4621-AE5B-3049C24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143-4233-4884-A416-A9055D1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C98-120B-4B32-AA1B-C5365BE8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FD7-9513-47AE-94B4-1B72B8B2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1800" y="12319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3452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1800" y="334224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54B-871E-40ED-A7EE-F944875F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31560"/>
            <a:ext cx="827568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34224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52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319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520" y="3342240"/>
            <a:ext cx="82774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81D9EA9F-2441-4E8A-A9AD-08AE1FD2A77D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8455320" y="6504120"/>
            <a:ext cx="53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41c43"/>
                </a:solidFill>
                <a:latin typeface="Arial"/>
              </a:rPr>
              <a:t>P</a:t>
            </a:r>
            <a:fld id="{B19BF504-66B0-445F-9130-F6F0B3781CB2}" type="slidenum">
              <a:rPr b="0" lang="en-US" sz="800" spc="-1" strike="noStrike">
                <a:solidFill>
                  <a:srgbClr val="041c4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156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41c4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1c4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41c4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D3D3-C6D6-44E4-8842-CC5BE253C8CB}" type="slidenum">
              <a:rPr b="0" lang="en-US" sz="2400" spc="-1" strike="noStrike">
                <a:solidFill>
                  <a:srgbClr val="041c4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53341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Performance of EL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ISA plate after completion of t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C:\Documents and Settings\Administrator\Desktop\LT Training Modules\images[9].jpg"/>
          <p:cNvPicPr/>
          <p:nvPr/>
        </p:nvPicPr>
        <p:blipFill>
          <a:blip r:embed="rId1"/>
          <a:stretch/>
        </p:blipFill>
        <p:spPr>
          <a:xfrm>
            <a:off x="853920" y="1981080"/>
            <a:ext cx="6507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075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ELI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34520" y="1231920"/>
            <a:ext cx="8277480" cy="389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zyme linked immuno sorbant assay-synonymous with EIA  (enzyme immuno assay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n the basis of principle of test ELISA can be: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direct ELISA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irect ELISA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ntigen/antibody capture (sandwich) ELISA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mpetitive ELISA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ELI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C:\Documents and Settings\Administrator\Desktop\LT Training Modules\art-w45.fig1[1].jpg"/>
          <p:cNvPicPr/>
          <p:nvPr/>
        </p:nvPicPr>
        <p:blipFill>
          <a:blip r:embed="rId1"/>
          <a:stretch/>
        </p:blipFill>
        <p:spPr>
          <a:xfrm>
            <a:off x="1125360" y="2514600"/>
            <a:ext cx="6621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 ELISA prepa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4520" y="1231560"/>
            <a:ext cx="827748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udy kit insert and prepare 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llect sampl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eparate serum and record/log sample as per guidelin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tore  in refrigerator (middle shelf and not in the freezer portion)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that external quality control sample with known acceptable range is availabl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Ensure Levey Jenning chart is available 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 ELISA 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4520" y="1231920"/>
            <a:ext cx="827748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ear lab coat and glov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ay down adsorbent sheet with one side plastic on the working bench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pare 1% sodium hypochlorite in discards ja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lace materials required (single and multichannel pipettes, disposable 5-50 µl and 50-200 µl tips, SOP of test, ELISA reader washer, Powder less disposable gloves, wash bottles and discards jar, etc.) on the work st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ELISA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4520" y="1231920"/>
            <a:ext cx="82774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ake out ELISA kit and samples to be tested including external control from the refrigerator and bring to room temperatur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Open kit, check expiry date of each component and lay components on work sta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pare and record details of kit and samples including EQC sample on daily work shee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Follow the kit instructions and perform all steps of ELISA as per the SOP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ELISA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4520" y="1231560"/>
            <a:ext cx="827748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d samples to ELISA plate wells according to schema on the work shee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over the plate and incubate 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Prepare wash solu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et up ELISA Wash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oad the wash solution in the wash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ake out the plate from incubator after recommended time and load onto the ELISA plate wash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ELISA 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34520" y="1231920"/>
            <a:ext cx="82774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Dry the plate after washing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d conjugate with multichannel pipet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cubate for the recommended tim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Wash and dry the pla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d substrate using multichannel pipett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Add stopping solution after the recommended tim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hake the plate to mix solution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55240"/>
            <a:ext cx="8275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OF ELISA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520" y="1231920"/>
            <a:ext cx="82774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Load the plate onto the ELISA Reader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Set the plate reading parameters as per kit inser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ake the print out of OD values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Calculate the cut off value as per the kit inser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Interpret the positive and negative result taking into consideration the cut off value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1c43"/>
                </a:solidFill>
                <a:latin typeface="Arial"/>
              </a:rPr>
              <a:t>The value of external quality control (EQC sample) should be within range when plotted on Levy Jenning chart for the test run to be valid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5:43:17Z</dcterms:created>
  <dc:creator>CaitMcQ</dc:creator>
  <dc:description/>
  <dc:language>en-US</dc:language>
  <cp:lastModifiedBy>Caitlin McQui;lling</cp:lastModifiedBy>
  <dcterms:modified xsi:type="dcterms:W3CDTF">2008-12-26T08:36:09Z</dcterms:modified>
  <cp:revision>15</cp:revision>
  <dc:subject/>
  <dc:title>PERFORMANCE OF ELISA</dc:title>
</cp:coreProperties>
</file>