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48C-3C66-4EB2-BFEC-031B8289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E5EC-3ACE-4FD6-863A-1990B2029D82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331C-C2F8-4E3C-9652-0BB1B42DB5A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4E1-0F4F-4897-8A14-3781179B1201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D4BC-9A2D-4357-B43D-3F4FC1C9EEAF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ht tell what you need, but not where to get it, Ex QC mater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to lab policy – frequency of running Q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9F19-61B5-4AB9-B797-D44A2AC211CD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7DC2-2B19-4630-9275-9FFE8C717F20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975-549C-4F96-BC2E-EB1AF9E8D45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E8A2-40E7-408E-BC01-A960005D1979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674-8DC4-4F59-869C-AAFEE111070E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1E7F-FF79-4A7C-8E49-0C4EE2F23A9A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6E8-E61A-46BE-80B6-0A27A7DC499D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C73-B9A3-4130-86A6-3D2D8DA554D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647E-93EE-4D23-BDC9-51590630BD2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DF9-9066-4272-A367-460C12E536B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B27E-25E7-47A3-916B-9B166B4913CB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11D-2B20-4811-89DF-CD45A80C271D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A091-6036-42D9-92E6-6D601BBEC2D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DF1-4202-4F19-9D34-C0EA7B3344CA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1c43"/>
                </a:solidFill>
                <a:latin typeface="Arial"/>
              </a:rPr>
              <a:t>Module 15. Documents and Records</a:t>
            </a:r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16BE-2E49-4B3D-939A-C1515C99B4B2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D34-CD74-4893-9E41-45B57D60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18A-F264-467C-A894-5751EC6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00D-EF32-42C6-8B05-C1BFFB2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71F-6BF9-4FF9-88A2-B9B51CB5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0B4-53FA-45A2-B760-847A4EC4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2E5-13BF-42FB-B3AC-A3E02CC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0E3-7947-4152-851B-CFA973B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752-91E2-482B-883C-5B79C99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365-726D-4B6A-8C77-40AB981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165-413E-4FFE-B722-C62F84C8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DE4-3F52-488E-8884-478A3073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7EE-AEB3-4157-9EAB-F42B44B8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55EF2-2465-48D5-97D2-18A8674EE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8C1A4-3599-43E3-99ED-17F1131D54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A8BB-C2E1-4CE1-A4DE-57781004D1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807D-907F-4A9D-B87C-00B8F2B254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F2957-725F-41C3-8CC9-75C41BA72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37969-A6B5-4063-BD3B-E1228C898B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A168C-1810-4725-9BEC-B07EBBAF76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BE88-A58B-433E-A742-DE3D525E8C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4B9A0-74AF-4B01-9DE0-520381571E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8D288-CAB0-4E33-B57A-005C5A1CFB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D46C7-1E6D-4A3E-913C-9FB745CDCC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9EBFE-83CB-47AC-99A9-535098B958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D6FA9-A2A0-4541-84DC-62F55FF522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EB4F6-AEEF-46AC-B7FA-7BE3964BB1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C9457-D43E-4616-8A72-F783FFC29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426AA-B0EE-47AF-82AA-C2B52CD20D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3571C-97A8-40ED-B383-478BA7C92E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9343-0596-4DA5-BBE5-0F90B489D7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70F18-F321-4BDD-9704-C73D6E5F0E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07E8-DD7D-4D36-8376-004A7E4E3D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92B4-2CE1-4FA8-B9DC-4776F04410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41DD1-D799-447B-8751-8843BDEB03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2CBF0-A31D-46C1-B811-27173F97EE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9FDB4-1820-46B0-B7E0-16C95ED61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E2A50FA3-4B1A-4CB2-97BB-D093BBB81D93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441DB3F1-FB09-468D-ADDC-E6CCDE2BDC01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627B-F4F1-452C-9672-2643D4DEA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4C87C2E7-F6D4-4AB8-B437-0B30A222324F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9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90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1808-1875-4D17-B149-14D04B691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A6FCBA30-CCBE-447F-942A-4C934AA88B28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32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133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5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41c4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C49-6ABA-4E24-A370-63F812D55135}" type="slidenum">
              <a:rPr b="0" lang="en-US" sz="24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5970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  <a:ea typeface="Arial"/>
              </a:rPr>
              <a:t>Document Control and Various Document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789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SOPs Should You Keep at Test Site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112400"/>
            <a:ext cx="457200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aily routine schedu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NACO Guidelin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afety manual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8550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afety Precaution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8550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reparation of 1 % and 10% bleach solu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8550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ost-HIV exposure prophylaxis management and treatment guidelin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Blood collection: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8550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ngerprick, venipuncture,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952880" y="1143000"/>
            <a:ext cx="373392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est procedur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EQA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458640" indent="-45720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ubmission of EQA specimens to reference lab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458640" indent="-45720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nternal assess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Reordering of supplies and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Equipment use and maintenanc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Ps Must Be Followed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Why is it important to follow SOP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What are the consequences if you don’t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208" name="Picture 4" descr="MCj02378310000[1]"/>
          <p:cNvPicPr/>
          <p:nvPr/>
        </p:nvPicPr>
        <p:blipFill>
          <a:blip r:embed="rId1"/>
          <a:stretch/>
        </p:blipFill>
        <p:spPr>
          <a:xfrm>
            <a:off x="5475240" y="2784600"/>
            <a:ext cx="2384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8390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Rely Solely on Manufacturer Product Insert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12400"/>
            <a:ext cx="6553080" cy="276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anufacturer product inserts do not provide specific information for test sit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Examples includ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aterials required, but not in ki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pecific safety require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quence of tests in NACO guidelines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External quality control require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211" name="Picture 4" descr="MCj02378310000[1]"/>
          <p:cNvPicPr/>
          <p:nvPr/>
        </p:nvPicPr>
        <p:blipFill>
          <a:blip r:embed="rId1"/>
          <a:stretch/>
        </p:blipFill>
        <p:spPr>
          <a:xfrm>
            <a:off x="5475240" y="2784600"/>
            <a:ext cx="2384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81480"/>
            <a:ext cx="818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41c43"/>
                </a:solidFill>
                <a:latin typeface="Arial"/>
                <a:ea typeface="Arial"/>
              </a:rPr>
              <a:t>Proper Record-Keeping Makes Quality Management Possibl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218960"/>
            <a:ext cx="769608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-keeping allows a test site to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mmunicate accurately and effective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inimize erro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onitor quality system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ssist monitoring and evaluating program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47320" y="22860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rd Keeping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Records Should You Keep at a Test Site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pecimen transfer log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IV request / client test result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ab / Test register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emperature log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quipment maintenance log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ventory reco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5715000" y="1905120"/>
            <a:ext cx="2361960" cy="2285640"/>
            <a:chOff x="5715000" y="1905120"/>
            <a:chExt cx="2361960" cy="2285640"/>
          </a:xfrm>
        </p:grpSpPr>
        <p:sp>
          <p:nvSpPr>
            <p:cNvPr id="218" name="AutoShape 5"/>
            <p:cNvSpPr/>
            <p:nvPr/>
          </p:nvSpPr>
          <p:spPr>
            <a:xfrm>
              <a:off x="5715000" y="1905120"/>
              <a:ext cx="2361960" cy="22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5715000" y="1905120"/>
              <a:ext cx="1812600" cy="228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5778360" y="1958040"/>
              <a:ext cx="1685880" cy="217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6009480" y="246708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6761880" y="246708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6009480" y="260388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6761880" y="260388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5" name="Rectangle 12"/>
            <p:cNvSpPr/>
            <p:nvPr/>
          </p:nvSpPr>
          <p:spPr>
            <a:xfrm>
              <a:off x="6009480" y="274284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6761880" y="274284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6009480" y="287820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6761880" y="287820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6009480" y="301536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6761880" y="301536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6009480" y="315468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6761880" y="315468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6009480" y="3287520"/>
              <a:ext cx="545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6761880" y="3287520"/>
              <a:ext cx="545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6009480" y="3426840"/>
              <a:ext cx="54540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6761880" y="3426840"/>
              <a:ext cx="54540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6009480" y="356400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6761880" y="356400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5929200" y="3708720"/>
              <a:ext cx="625680" cy="30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6690960" y="3723840"/>
              <a:ext cx="6624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7383960" y="2106720"/>
              <a:ext cx="693000" cy="172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7925400" y="2228760"/>
              <a:ext cx="66960" cy="178560"/>
            </a:xfrm>
            <a:prstGeom prst="pie">
              <a:avLst/>
            </a:pr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7447320" y="3070800"/>
              <a:ext cx="365400" cy="706680"/>
            </a:xfrm>
            <a:prstGeom prst="pie">
              <a:avLst/>
            </a:pr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7692120" y="2428920"/>
              <a:ext cx="260280" cy="618840"/>
            </a:xfrm>
            <a:prstGeom prst="pie">
              <a:avLst/>
            </a:pr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45" name="Text Box 32"/>
            <p:cNvSpPr/>
            <p:nvPr/>
          </p:nvSpPr>
          <p:spPr>
            <a:xfrm>
              <a:off x="5979960" y="195804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1c43"/>
                  </a:solidFill>
                  <a:latin typeface="Georgia"/>
                </a:rPr>
                <a:t>RECORDS</a:t>
              </a:r>
              <a:endParaRPr b="0" lang="en-US" sz="1600" spc="-1" strike="noStrike">
                <a:solidFill>
                  <a:srgbClr val="041c4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83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ps for Good Record Keeping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5238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nderstand the information to be collect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 the information every tim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 all the inform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 the information in the same way every tim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6781680" y="2057400"/>
            <a:ext cx="2361960" cy="2285640"/>
            <a:chOff x="6781680" y="2057400"/>
            <a:chExt cx="2361960" cy="2285640"/>
          </a:xfrm>
        </p:grpSpPr>
        <p:sp>
          <p:nvSpPr>
            <p:cNvPr id="249" name="AutoShape 6"/>
            <p:cNvSpPr/>
            <p:nvPr/>
          </p:nvSpPr>
          <p:spPr>
            <a:xfrm>
              <a:off x="6781680" y="2057400"/>
              <a:ext cx="2361960" cy="22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0" name="Rectangle 7"/>
            <p:cNvSpPr/>
            <p:nvPr/>
          </p:nvSpPr>
          <p:spPr>
            <a:xfrm>
              <a:off x="6781680" y="2057400"/>
              <a:ext cx="1812600" cy="228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6845040" y="2110320"/>
              <a:ext cx="1685880" cy="217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7076160" y="26193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7828560" y="26193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7076160" y="27561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5" name="Rectangle 12"/>
            <p:cNvSpPr/>
            <p:nvPr/>
          </p:nvSpPr>
          <p:spPr>
            <a:xfrm>
              <a:off x="7828560" y="27561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6" name="Rectangle 13"/>
            <p:cNvSpPr/>
            <p:nvPr/>
          </p:nvSpPr>
          <p:spPr>
            <a:xfrm>
              <a:off x="7076160" y="289512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7828560" y="289512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7076160" y="303048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7828560" y="303048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0" name="Rectangle 17"/>
            <p:cNvSpPr/>
            <p:nvPr/>
          </p:nvSpPr>
          <p:spPr>
            <a:xfrm>
              <a:off x="7076160" y="316764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1" name="Rectangle 18"/>
            <p:cNvSpPr/>
            <p:nvPr/>
          </p:nvSpPr>
          <p:spPr>
            <a:xfrm>
              <a:off x="7828560" y="316764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7076160" y="330696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3" name="Rectangle 20"/>
            <p:cNvSpPr/>
            <p:nvPr/>
          </p:nvSpPr>
          <p:spPr>
            <a:xfrm>
              <a:off x="7828560" y="330696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4" name="Rectangle 21"/>
            <p:cNvSpPr/>
            <p:nvPr/>
          </p:nvSpPr>
          <p:spPr>
            <a:xfrm>
              <a:off x="7076160" y="3439800"/>
              <a:ext cx="545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5" name="Rectangle 22"/>
            <p:cNvSpPr/>
            <p:nvPr/>
          </p:nvSpPr>
          <p:spPr>
            <a:xfrm>
              <a:off x="7828560" y="3439800"/>
              <a:ext cx="545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6" name="Rectangle 23"/>
            <p:cNvSpPr/>
            <p:nvPr/>
          </p:nvSpPr>
          <p:spPr>
            <a:xfrm>
              <a:off x="7076160" y="3579120"/>
              <a:ext cx="54540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7" name="Rectangle 24"/>
            <p:cNvSpPr/>
            <p:nvPr/>
          </p:nvSpPr>
          <p:spPr>
            <a:xfrm>
              <a:off x="7828560" y="3579120"/>
              <a:ext cx="54540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7076160" y="371628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69" name="Rectangle 26"/>
            <p:cNvSpPr/>
            <p:nvPr/>
          </p:nvSpPr>
          <p:spPr>
            <a:xfrm>
              <a:off x="7828560" y="371628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6995880" y="3861000"/>
              <a:ext cx="625680" cy="30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7757640" y="3876120"/>
              <a:ext cx="6624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450640" y="2259000"/>
              <a:ext cx="693000" cy="172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992080" y="2381040"/>
              <a:ext cx="66960" cy="178560"/>
            </a:xfrm>
            <a:prstGeom prst="pie">
              <a:avLst/>
            </a:pr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514000" y="3223080"/>
              <a:ext cx="365400" cy="706680"/>
            </a:xfrm>
            <a:prstGeom prst="pie">
              <a:avLst/>
            </a:pr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758800" y="2581200"/>
              <a:ext cx="260280" cy="618840"/>
            </a:xfrm>
            <a:prstGeom prst="pie">
              <a:avLst/>
            </a:pr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7046640" y="211032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1c43"/>
                  </a:solidFill>
                  <a:latin typeface="Georgia"/>
                </a:rPr>
                <a:t>RECORDS</a:t>
              </a:r>
              <a:endParaRPr b="0" lang="en-US" sz="1600" spc="-1" strike="noStrike">
                <a:solidFill>
                  <a:srgbClr val="041c4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Test Record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467840" cy="21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ll completely and accurate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Write legib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gn &amp; date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(Technician and supervisor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6324480" y="1371600"/>
            <a:ext cx="2361960" cy="2285640"/>
            <a:chOff x="6324480" y="1371600"/>
            <a:chExt cx="2361960" cy="2285640"/>
          </a:xfrm>
        </p:grpSpPr>
        <p:sp>
          <p:nvSpPr>
            <p:cNvPr id="280" name="AutoShape 7"/>
            <p:cNvSpPr/>
            <p:nvPr/>
          </p:nvSpPr>
          <p:spPr>
            <a:xfrm>
              <a:off x="6324480" y="1371600"/>
              <a:ext cx="2361960" cy="22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>
              <a:off x="6324480" y="1371600"/>
              <a:ext cx="1812600" cy="228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>
              <a:off x="6387840" y="1424520"/>
              <a:ext cx="1685880" cy="217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6618960" y="19335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>
              <a:off x="7371360" y="19335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6618960" y="20703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>
              <a:off x="7371360" y="207036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>
              <a:off x="6618960" y="220932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7371360" y="2209320"/>
              <a:ext cx="54540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>
              <a:off x="6618960" y="234468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7371360" y="234468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6618960" y="248184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>
              <a:off x="7371360" y="248184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>
              <a:off x="6618960" y="262116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>
              <a:off x="7371360" y="2621160"/>
              <a:ext cx="545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>
              <a:off x="6618960" y="2754000"/>
              <a:ext cx="545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>
              <a:off x="7371360" y="2754000"/>
              <a:ext cx="545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>
              <a:off x="6618960" y="2893320"/>
              <a:ext cx="54540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>
              <a:off x="7371360" y="2893320"/>
              <a:ext cx="545400" cy="5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>
              <a:off x="6618960" y="303048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>
              <a:off x="7371360" y="3030480"/>
              <a:ext cx="5454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6538680" y="3175200"/>
              <a:ext cx="625680" cy="30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2" name="Freeform 29"/>
            <p:cNvSpPr/>
            <p:nvPr/>
          </p:nvSpPr>
          <p:spPr>
            <a:xfrm>
              <a:off x="7300440" y="3190320"/>
              <a:ext cx="6624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7993440" y="1573200"/>
              <a:ext cx="693000" cy="172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8534880" y="1695240"/>
              <a:ext cx="66960" cy="178560"/>
            </a:xfrm>
            <a:prstGeom prst="pie">
              <a:avLst/>
            </a:pr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5" name="Freeform 32"/>
            <p:cNvSpPr/>
            <p:nvPr/>
          </p:nvSpPr>
          <p:spPr>
            <a:xfrm>
              <a:off x="8056800" y="2537280"/>
              <a:ext cx="365400" cy="706680"/>
            </a:xfrm>
            <a:prstGeom prst="pie">
              <a:avLst/>
            </a:pr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8301600" y="1895400"/>
              <a:ext cx="260280" cy="618840"/>
            </a:xfrm>
            <a:prstGeom prst="pie">
              <a:avLst/>
            </a:pr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1c43"/>
                </a:solidFill>
                <a:latin typeface="Arial"/>
              </a:endParaRPr>
            </a:p>
          </p:txBody>
        </p:sp>
        <p:sp>
          <p:nvSpPr>
            <p:cNvPr id="307" name="Text Box 34"/>
            <p:cNvSpPr/>
            <p:nvPr/>
          </p:nvSpPr>
          <p:spPr>
            <a:xfrm>
              <a:off x="6589440" y="142452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1c43"/>
                  </a:solidFill>
                  <a:latin typeface="Georgia"/>
                </a:rPr>
                <a:t>RECORDS</a:t>
              </a:r>
              <a:endParaRPr b="0" lang="en-US" sz="1600" spc="-1" strike="noStrike">
                <a:solidFill>
                  <a:srgbClr val="041c43"/>
                </a:solidFill>
                <a:latin typeface="Arial"/>
              </a:endParaRPr>
            </a:p>
          </p:txBody>
        </p:sp>
      </p:grpSp>
      <p:sp>
        <p:nvSpPr>
          <p:cNvPr id="308" name="WordArt 35"/>
          <p:cNvSpPr txBox="1"/>
          <p:nvPr/>
        </p:nvSpPr>
        <p:spPr>
          <a:xfrm>
            <a:off x="762120" y="2743200"/>
            <a:ext cx="38908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Long Should You Retain Client Test Records?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41c43"/>
                </a:solidFill>
                <a:latin typeface="Arial"/>
              </a:rPr>
              <a:t>It depends on several factors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41c43"/>
                </a:solidFill>
                <a:latin typeface="Arial"/>
              </a:rPr>
              <a:t>National policy (5 years)/state polic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41c43"/>
                </a:solidFill>
                <a:latin typeface="Arial"/>
              </a:rPr>
              <a:t>Secure storage space available at test si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ords Should be Permanent, Secure, Traceabl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03360"/>
            <a:ext cx="44956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ermanent: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Keep books bound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Number pag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Use permanent ink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ontrol storag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ecur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aintain confidentialit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Limit acces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rotect from environmental haza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8320" y="1599840"/>
            <a:ext cx="3930480" cy="16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raceabl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gn and date every recor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41c43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Technician and supervisor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183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y Messag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159984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ritten policies and procedures are the backbone of the quality system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mplete quality assurance records make quality management possib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Keeping records facilitates meeting program reporting require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arning Objectiv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34520" y="1231920"/>
            <a:ext cx="8277480" cy="38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are documents and record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y are they important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documents should you keep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y is it important to follow SOP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is the proper way to keep and maintain document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y are they important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records should you keep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lnSpc>
                <a:spcPct val="7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is the proper way to keep and maintain record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178920"/>
            <a:ext cx="8915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re Documents and Records? An exercis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4520" y="1231920"/>
            <a:ext cx="8277480" cy="29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ritten policies, (Text books, Journals, ISO standards, etc.) process descriptions, procedures, and blank form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sed to communicate information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formation captured on worksheets, forms, and chart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ontent Placeholder 2"/>
          <p:cNvSpPr/>
          <p:nvPr/>
        </p:nvSpPr>
        <p:spPr>
          <a:xfrm>
            <a:off x="228600" y="2287440"/>
            <a:ext cx="868680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85000"/>
              </a:lnSpc>
              <a:spcBef>
                <a:spcPts val="2500"/>
              </a:spcBef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ACO guidelin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500"/>
              </a:spcBef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lient test result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500"/>
              </a:spcBef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andard operation procedures (SOPs) for an approved HIV rapid test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500"/>
              </a:spcBef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nufacturer test kit inser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500"/>
              </a:spcBef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ummary of findings form on-site evaluation visit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255240"/>
            <a:ext cx="8915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re Documents and Records? An exercis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304920" y="1142280"/>
            <a:ext cx="7086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ercise: Differentiate between documents and records in list below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0880" y="2098800"/>
            <a:ext cx="716292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port of corrective action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emperature log (blank form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Quality control record (blank form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aily maintenance log (completed)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ock cards and stock book (completed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Aft>
                <a:spcPts val="499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QA specimen transfer log (completed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0866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Exercise: Differentiate between documents and records in list below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152280" y="255600"/>
            <a:ext cx="891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documents and records? An exercise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960" y="258840"/>
            <a:ext cx="89154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s Are the Backbone of the Quality System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6705360" cy="21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Verbal instructions often ar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7524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Not hear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7524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Misunderstood</a:t>
            </a: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7524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Quickly forgotte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752400" indent="-45252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Ignor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193" name="Picture 4" descr="MCj02378310000[1]"/>
          <p:cNvPicPr/>
          <p:nvPr/>
        </p:nvPicPr>
        <p:blipFill>
          <a:blip r:embed="rId1"/>
          <a:stretch/>
        </p:blipFill>
        <p:spPr>
          <a:xfrm>
            <a:off x="5475240" y="1600200"/>
            <a:ext cx="2384640" cy="2462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228600" y="38862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olicies, standards, processes, and procedures must be written down, approved, and communicated to all concerned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60840"/>
            <a:ext cx="86868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Operating Procedures (SOPs) are Documents that…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6477120" cy="32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escribe how to perform various operations in a testing si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rovide step-by-step instruction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Assur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Accurac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197" name="Picture 7" descr="MCj02378310000[1]"/>
          <p:cNvPicPr/>
          <p:nvPr/>
        </p:nvPicPr>
        <p:blipFill>
          <a:blip r:embed="rId1"/>
          <a:stretch/>
        </p:blipFill>
        <p:spPr>
          <a:xfrm>
            <a:off x="5475240" y="2784600"/>
            <a:ext cx="2384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olled document: Defini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cuments with limited access and limited distribution meant for authorized use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ntrolled documents are prepared/revised by authorized person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ntrolled documents are countersigned by authorized designated persons (e.g. lab in-charge, HOD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ll controlled documents are either in current use or archived as an earlier vers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5848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Ps Are Controlled Document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ust be approved for use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ust have document control featur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ust be kept up-to-da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ounter-signed by HOD/in-charg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2" name="WordArt 20"/>
          <p:cNvSpPr txBox="1"/>
          <p:nvPr/>
        </p:nvSpPr>
        <p:spPr>
          <a:xfrm>
            <a:off x="528480" y="2687760"/>
            <a:ext cx="389124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7:15:37Z</dcterms:created>
  <dc:creator>CaitMcQ</dc:creator>
  <dc:description/>
  <dc:language>en-US</dc:language>
  <cp:lastModifiedBy>Dr Saurabh Agarwal</cp:lastModifiedBy>
  <dcterms:modified xsi:type="dcterms:W3CDTF">2009-01-09T05:44:10Z</dcterms:modified>
  <cp:revision>16</cp:revision>
  <dc:subject/>
  <dc:title>DOCUMENT CONTROL AND VARIOUS DOCUMENTS</dc:title>
</cp:coreProperties>
</file>