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45B2-ADFC-459F-9232-BECD8FDFD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8DFC-6566-4014-BBD1-B83DF5222FE9}" type="slidenum">
              <a:rPr b="0" lang="en-US" sz="1200" spc="-1" strike="noStrike">
                <a:solidFill>
                  <a:srgbClr val="041c4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F791-4764-40ED-BB0C-CCB80C108BC0}" type="slidenum">
              <a:rPr b="0" lang="en-US" sz="1200" spc="-1" strike="noStrike">
                <a:solidFill>
                  <a:srgbClr val="041c4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7A15-CE50-4BC3-9D8B-5C71233D9319}" type="slidenum">
              <a:rPr b="0" lang="en-US" sz="1200" spc="-1" strike="noStrike">
                <a:solidFill>
                  <a:srgbClr val="041c4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 family physician usually knows the behaviors of individuals in the community.  It is very important to ascertain the sexual history/practices particularly of adults and adolescents to decide who are at risk and who need test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6761-9E02-42B3-8580-663F192B8EB3}" type="slidenum">
              <a:rPr b="0" lang="en-US" sz="1200" spc="-1" strike="noStrike">
                <a:solidFill>
                  <a:srgbClr val="041c4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2711-2108-46B4-B624-41B8C0F827A4}" type="slidenum">
              <a:rPr b="0" lang="en-US" sz="1200" spc="-1" strike="noStrike">
                <a:solidFill>
                  <a:srgbClr val="041c4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8989-4BCA-4ABD-8658-B5431637E1B0}" type="slidenum">
              <a:rPr b="0" lang="en-US" sz="1200" spc="-1" strike="noStrike">
                <a:solidFill>
                  <a:srgbClr val="041c4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F330-636D-4BD3-BA91-F9B1691E1932}" type="slidenum">
              <a:rPr b="0" lang="en-US" sz="1200" spc="-1" strike="noStrike">
                <a:solidFill>
                  <a:srgbClr val="041c4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520" y="151920"/>
            <a:ext cx="827568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26"/>
          <p:cNvSpPr/>
          <p:nvPr/>
        </p:nvSpPr>
        <p:spPr>
          <a:xfrm>
            <a:off x="8455320" y="6504120"/>
            <a:ext cx="53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41c43"/>
                </a:solidFill>
                <a:latin typeface="Arial"/>
              </a:rPr>
              <a:t>P</a:t>
            </a:r>
            <a:fld id="{858AAA21-83A4-41D7-91A4-8CA41CDA3454}" type="slidenum">
              <a:rPr b="0" lang="en-US" sz="8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Rectangle 80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5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7920" y="2860200"/>
            <a:ext cx="640080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1c43"/>
                </a:solidFill>
                <a:latin typeface="Arial"/>
              </a:rPr>
              <a:t>Process and Flow of Client at ICTC</a:t>
            </a:r>
            <a:endParaRPr b="0" lang="en-US" sz="3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520" y="228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lients accessing ICTC may b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990360"/>
            <a:ext cx="8275680" cy="55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dividuals with high risk profession (immigrant workers, truck drivers, CSW etc.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regnant wome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dividuals with STI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dolescents and young adults staying away from home and practicing high risk behavio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ultiply transfused cas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ymptomatic cases not responding to the usual treatmen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VD user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ape cas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artners and family members of HIV positive person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520" y="228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 Flow for HIV Tes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1920" y="1142640"/>
            <a:ext cx="861084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lient accessing ICTC servic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gister clien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retest counsel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formed consent where provider initiated testing is not offer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llect blood sampl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erform HIV test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ad and interpret the final resul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form the client with post test counsel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aintain confidentialit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fer HIV positive clients to the designated ART site for assessment of clinical and immune status by clinical work-up and CD4 cell count.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Follow up counsel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78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ent F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3505320" y="1066680"/>
            <a:ext cx="2895480" cy="533520"/>
          </a:xfrm>
          <a:prstGeom prst="roundRect">
            <a:avLst>
              <a:gd name="adj" fmla="val 16667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Pre-test counseling.</a:t>
            </a:r>
            <a:endParaRPr b="0" lang="en-US" sz="15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3200400" y="2286000"/>
            <a:ext cx="3352680" cy="457200"/>
          </a:xfrm>
          <a:prstGeom prst="roundRect">
            <a:avLst>
              <a:gd name="adj" fmla="val 16667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Informed Consent (where provider initiated testing is not offered </a:t>
            </a:r>
            <a:endParaRPr b="0" lang="en-US" sz="15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3657600" y="350532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Collect Blood Samples</a:t>
            </a:r>
            <a:endParaRPr b="0" lang="en-US" sz="15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3581280" y="4724280"/>
            <a:ext cx="2667240" cy="457200"/>
          </a:xfrm>
          <a:prstGeom prst="roundRect">
            <a:avLst>
              <a:gd name="adj" fmla="val 16667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Perform HIV Testing</a:t>
            </a:r>
            <a:endParaRPr b="0" lang="en-US" sz="15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3657600" y="5943600"/>
            <a:ext cx="2514600" cy="457200"/>
          </a:xfrm>
          <a:prstGeom prst="roundRect">
            <a:avLst>
              <a:gd name="adj" fmla="val 16667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Read &amp; Interpret Final Result</a:t>
            </a:r>
            <a:endParaRPr b="0" lang="en-US" sz="15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0" name="Down Arrow 11"/>
          <p:cNvSpPr/>
          <p:nvPr/>
        </p:nvSpPr>
        <p:spPr>
          <a:xfrm>
            <a:off x="4648320" y="4191120"/>
            <a:ext cx="407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1" name="Rounded Rectangle 13"/>
          <p:cNvSpPr/>
          <p:nvPr/>
        </p:nvSpPr>
        <p:spPr>
          <a:xfrm>
            <a:off x="152280" y="106668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Client accessing ICTC </a:t>
            </a:r>
            <a:endParaRPr b="0" lang="en-US" sz="15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2" name="Down Arrow 14"/>
          <p:cNvSpPr/>
          <p:nvPr/>
        </p:nvSpPr>
        <p:spPr>
          <a:xfrm rot="16200000">
            <a:off x="2691360" y="1090800"/>
            <a:ext cx="484200" cy="5335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3" name="Down Arrow 15"/>
          <p:cNvSpPr/>
          <p:nvPr/>
        </p:nvSpPr>
        <p:spPr>
          <a:xfrm>
            <a:off x="4648320" y="2971800"/>
            <a:ext cx="407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4" name="Down Arrow 16"/>
          <p:cNvSpPr/>
          <p:nvPr/>
        </p:nvSpPr>
        <p:spPr>
          <a:xfrm>
            <a:off x="4648320" y="1752480"/>
            <a:ext cx="40788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5" name="Down Arrow 18"/>
          <p:cNvSpPr/>
          <p:nvPr/>
        </p:nvSpPr>
        <p:spPr>
          <a:xfrm>
            <a:off x="4621320" y="5410080"/>
            <a:ext cx="40788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6" name="Down Arrow 19"/>
          <p:cNvSpPr/>
          <p:nvPr/>
        </p:nvSpPr>
        <p:spPr>
          <a:xfrm>
            <a:off x="4621320" y="6477120"/>
            <a:ext cx="407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520" y="178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ent Flow Co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997360" y="1485720"/>
            <a:ext cx="2919960" cy="610200"/>
          </a:xfrm>
          <a:prstGeom prst="rect">
            <a:avLst/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txBody>
          <a:bodyPr lIns="0" rIns="0" tIns="0" bIns="0" anchor="ctr">
            <a:norm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 Client with post Test Counsel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9" name="Content Placeholder 3"/>
          <p:cNvSpPr/>
          <p:nvPr/>
        </p:nvSpPr>
        <p:spPr>
          <a:xfrm>
            <a:off x="228600" y="213372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IV Negativ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0" name="Content Placeholder 3"/>
          <p:cNvSpPr/>
          <p:nvPr/>
        </p:nvSpPr>
        <p:spPr>
          <a:xfrm>
            <a:off x="6324480" y="220968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IV Positiv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1" name="Content Placeholder 3"/>
          <p:cNvSpPr/>
          <p:nvPr/>
        </p:nvSpPr>
        <p:spPr>
          <a:xfrm>
            <a:off x="152280" y="3809880"/>
            <a:ext cx="2514600" cy="762120"/>
          </a:xfrm>
          <a:prstGeom prst="roundRect">
            <a:avLst>
              <a:gd name="adj" fmla="val 16667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Continuum of Counseling for Behavior Change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2" name="Content Placeholder 3"/>
          <p:cNvSpPr/>
          <p:nvPr/>
        </p:nvSpPr>
        <p:spPr>
          <a:xfrm>
            <a:off x="6248520" y="3809880"/>
            <a:ext cx="2895480" cy="838440"/>
          </a:xfrm>
          <a:prstGeom prst="roundRect">
            <a:avLst>
              <a:gd name="adj" fmla="val 16667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Refer to ART for Clinical &amp; Immunological Work-up and Pre-ART care.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3" name="Content Placeholder 3"/>
          <p:cNvSpPr/>
          <p:nvPr/>
        </p:nvSpPr>
        <p:spPr>
          <a:xfrm>
            <a:off x="3048120" y="3657600"/>
            <a:ext cx="2895480" cy="685800"/>
          </a:xfrm>
          <a:prstGeom prst="roundRect">
            <a:avLst>
              <a:gd name="adj" fmla="val 16667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aintain Confidentialit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4" name="Content Placeholder 3"/>
          <p:cNvSpPr/>
          <p:nvPr/>
        </p:nvSpPr>
        <p:spPr>
          <a:xfrm>
            <a:off x="3124080" y="5791320"/>
            <a:ext cx="2819520" cy="533160"/>
          </a:xfrm>
          <a:prstGeom prst="roundRect">
            <a:avLst>
              <a:gd name="adj" fmla="val 16667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ook Antiqua"/>
              </a:rPr>
              <a:t>Follow-up Counseling</a:t>
            </a: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5" name="Down Arrow 11"/>
          <p:cNvSpPr/>
          <p:nvPr/>
        </p:nvSpPr>
        <p:spPr>
          <a:xfrm>
            <a:off x="4240080" y="222264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6" name="Down Arrow 12"/>
          <p:cNvSpPr/>
          <p:nvPr/>
        </p:nvSpPr>
        <p:spPr>
          <a:xfrm>
            <a:off x="4240080" y="4419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7" name="Down Arrow 13"/>
          <p:cNvSpPr/>
          <p:nvPr/>
        </p:nvSpPr>
        <p:spPr>
          <a:xfrm>
            <a:off x="1192320" y="275580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8" name="Down Arrow 14"/>
          <p:cNvSpPr/>
          <p:nvPr/>
        </p:nvSpPr>
        <p:spPr>
          <a:xfrm>
            <a:off x="7315200" y="275580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9" name="Circular Arrow 15"/>
          <p:cNvSpPr/>
          <p:nvPr/>
        </p:nvSpPr>
        <p:spPr>
          <a:xfrm>
            <a:off x="5943600" y="1219320"/>
            <a:ext cx="1143000" cy="977760"/>
          </a:xfrm>
          <a:prstGeom prst="pie">
            <a:avLst/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0" name="Circular Arrow 16"/>
          <p:cNvSpPr/>
          <p:nvPr/>
        </p:nvSpPr>
        <p:spPr>
          <a:xfrm flipH="1">
            <a:off x="1904400" y="1219320"/>
            <a:ext cx="1066680" cy="977760"/>
          </a:xfrm>
          <a:prstGeom prst="pie">
            <a:avLst/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1" name="Down Arrow 17"/>
          <p:cNvSpPr/>
          <p:nvPr/>
        </p:nvSpPr>
        <p:spPr>
          <a:xfrm>
            <a:off x="4267080" y="990720"/>
            <a:ext cx="408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41c43"/>
          </a:solidFill>
          <a:ln w="2556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520" y="152280"/>
            <a:ext cx="827568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-test Couns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1195200"/>
            <a:ext cx="8275680" cy="43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Give knowledge about diseas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o not judge, do not criticiz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xplain the test, the fallacies i.e. false positive and false negativ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mphasize need for possible retest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Give hope, create positive feeling by explaining about AR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mpower the individuals to accept the result by creating hope and positive feel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xplain the safe behaviors and motivate for behavior chang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52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PT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0666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NC clinic-Group counseling of pregnant women. Inform in addition about the drug intervention through PPTCT. Counsel about breast feed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Offer HIV test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llection of blood and HIV test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IV positive woman-explain the possibility of HIV positive baby, describe the options (abortion, PPTCT, breast feeding options, etc.) to enable to make informed decision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5:09:30Z</dcterms:created>
  <dc:creator>as</dc:creator>
  <dc:description/>
  <dc:language>en-US</dc:language>
  <cp:lastModifiedBy>Dr Saurabh Agarwal</cp:lastModifiedBy>
  <dcterms:modified xsi:type="dcterms:W3CDTF">2009-01-09T09:51:04Z</dcterms:modified>
  <cp:revision>11</cp:revision>
  <dc:subject/>
  <dc:title>PROCESS AND FLOW OF CLIENT AT ICTC</dc:title>
</cp:coreProperties>
</file>