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2950E0E2-DBEE-4832-9EC8-99860C704669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331740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Performance of HIV rapid te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5520" y="1828800"/>
            <a:ext cx="860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520" y="1231920"/>
            <a:ext cx="827748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43000" y="1528920"/>
            <a:ext cx="72676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GOLD HI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2285640"/>
            <a:ext cx="78487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-Test line present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-Control line present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-Full red spot on sample port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657600" y="1803240"/>
            <a:ext cx="3662280" cy="3260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562720" y="39646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1c43"/>
                </a:solidFill>
                <a:latin typeface="Arial"/>
                <a:ea typeface="Times New Roman"/>
              </a:rPr>
              <a:t>-Control line present</a:t>
            </a:r>
            <a:endParaRPr b="0" lang="en-US" sz="14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1c43"/>
                </a:solidFill>
                <a:latin typeface="Arial"/>
                <a:ea typeface="Times New Roman"/>
              </a:rPr>
              <a:t>- No test line sen</a:t>
            </a:r>
            <a:endParaRPr b="0" lang="en-US" sz="14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1c43"/>
                </a:solidFill>
                <a:latin typeface="Arial"/>
                <a:ea typeface="Times New Roman"/>
              </a:rPr>
              <a:t>- Full red spot on    sample port</a:t>
            </a:r>
            <a:endParaRPr b="0" lang="en-US" sz="14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4520" y="1231920"/>
            <a:ext cx="827748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are HIV rapid test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ow to perform HIV rapid test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rapid t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34520" y="1231920"/>
            <a:ext cx="8277480" cy="246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apid tests to detect antibodies to HIV 1 and HIV 2 are in-vitro qualitative tes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an be performed on whole blood, plasma, serum and saliva. In India whole blood and serum are us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ost rapid test kits come with all materials required to perform the tes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rapid t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34520" y="1231920"/>
            <a:ext cx="8277480" cy="30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rapid tests can be based on one of the following principles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article agglutination (Latex, RBCs gelatin,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mmunoconcentration (flow through-vertical, mostly-dot blot assays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mmunochromatography (mostly-lateral flow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LISA based rapid tests-Immunocomb      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test preparations HIV rapid t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520" y="1231920"/>
            <a:ext cx="827748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udy kit insert and prepare 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llect sampl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eparate serum and record/log sample as per guidelines/finger prick for test on whole blo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ore  in refrigerator (middle shelf and not in the freezer portion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that external positive control (QC) sample  is availab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HIV rapid tests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4520" y="1231920"/>
            <a:ext cx="82774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ear lab coat and glov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ay down adsorbent sheet with one side plastic on the working bench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pare 1% sodium hypochlorite in discards ja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lace materials required (appropriate pipette,  Powder less disposable gloves, and discards jar, etc.) on the work st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HIV rapid tests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4520" y="1231920"/>
            <a:ext cx="82774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ake out the test kit and samples to be tested including external control from the refrigerator and bring to room temperatu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pen kit, check expiry date of each component and lay components on work st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pare and record details of kit and samples including QC sample on daily work shee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ollow the kit instructions and perform all steps of the test as per the 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rapid tests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14400"/>
            <a:ext cx="8275680" cy="530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Example Capillus agglutination test: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Take out kit, test samples and positive external control from refrigerator and bring to room temperature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Check the expiry date of all reagents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Organize device on the work bench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Mix the latex reagent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Dispense reagent into mixing well with dropper not touching the surface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Draw sample from vial and dispnse into the latex solution in the device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Allow regent mix to flow through the channel into the viewing window (3-7 minutes)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Read and record result (clumping-positive, no clumping-negative)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HIV rapid tests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4520" y="1231920"/>
            <a:ext cx="827748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lways put external positive control along side on another devic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QC should give positive resul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Kit controls should perform as per the kit inser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ll above conditions met indicates test performance and results are vali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9:02:20Z</dcterms:created>
  <dc:creator>CaitMcQ</dc:creator>
  <dc:description/>
  <dc:language>en-US</dc:language>
  <cp:lastModifiedBy>Caitlin McQui;lling</cp:lastModifiedBy>
  <dcterms:modified xsi:type="dcterms:W3CDTF">2008-12-26T08:53:12Z</dcterms:modified>
  <cp:revision>12</cp:revision>
  <dc:subject/>
  <dc:title>PERFORMANCE OF HIV RAPID TESTS</dc:title>
</cp:coreProperties>
</file>