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5D7A-82E0-4029-9515-387FFCE89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9A08-EB08-486E-886A-2C183C337F25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A4B0-822A-478E-8B8C-4DE52CB8D6A7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0B6C-53A5-418E-92FF-2FD99E4C15DE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C9BF-FA38-4C98-B1F0-E060C4852DFA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1B3C-F2BC-405D-8BFE-B233DC1EC4F7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AEC0-DB8E-4C5C-9B10-509309F9D61E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5404-DD32-49EC-950A-92FEA3F28733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6BAA-03D2-411C-A963-22AF4E633275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9090-CC6F-4B98-8725-601AAB25CD6F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90C1-EB3C-42A1-9CD2-21A8AEB6B596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F333-DA0E-4E76-A14F-59CDD038B414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F9F4-2CAE-431E-B0A1-5329A01F5A7D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B074-E681-4BBF-AD69-181D8B63813F}" type="slidenum">
              <a:rPr b="0" lang="en-US" sz="12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452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180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2040" y="493560"/>
            <a:ext cx="8275680" cy="15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Text Box 26"/>
          <p:cNvSpPr/>
          <p:nvPr/>
        </p:nvSpPr>
        <p:spPr>
          <a:xfrm>
            <a:off x="8455320" y="6504120"/>
            <a:ext cx="53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41c43"/>
                </a:solidFill>
                <a:latin typeface="Arial"/>
              </a:rPr>
              <a:t>P</a:t>
            </a:r>
            <a:fld id="{E0C2F4A7-1602-4C65-A7C7-F0C934861B9C}" type="slidenum">
              <a:rPr b="0" lang="en-US" sz="8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28760" indent="-21492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639720" indent="-20916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Rectangle 80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5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602080"/>
            <a:ext cx="7772400" cy="19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1c43"/>
                </a:solidFill>
                <a:latin typeface="Arial"/>
                <a:ea typeface="Arial"/>
              </a:rPr>
              <a:t>Common Errors</a:t>
            </a:r>
            <a:br>
              <a:rPr sz="3200"/>
            </a:br>
            <a:r>
              <a:rPr b="1" lang="en-US" sz="3200" spc="-1" strike="noStrike">
                <a:solidFill>
                  <a:srgbClr val="041c43"/>
                </a:solidFill>
                <a:latin typeface="Arial"/>
                <a:ea typeface="Arial"/>
              </a:rPr>
              <a:t>and </a:t>
            </a:r>
            <a:br>
              <a:rPr sz="3200"/>
            </a:br>
            <a:r>
              <a:rPr b="1" lang="en-US" sz="3200" spc="-1" strike="noStrike">
                <a:solidFill>
                  <a:srgbClr val="041c43"/>
                </a:solidFill>
                <a:latin typeface="Arial"/>
                <a:ea typeface="Arial"/>
              </a:rPr>
              <a:t>Troubleshooting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quipment based errors and preventive action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308240"/>
            <a:ext cx="289584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Use of inappropriate pipettes and pipette tip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emperature sensitive equipment not work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quipment not maintained properly and not calibrated as recommend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4724280" y="1219320"/>
            <a:ext cx="335304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Use correct volume pipettes and corresponding tip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Maintain daily temperature calibration logs for all such equipmen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Maintain and calibrate all equipment as recommended (ELISA Reader, washer, centrifuge, pipettes, etc.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2" name="Right Arrow 4"/>
          <p:cNvSpPr/>
          <p:nvPr/>
        </p:nvSpPr>
        <p:spPr>
          <a:xfrm>
            <a:off x="3898800" y="1371600"/>
            <a:ext cx="520920" cy="48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3" name="Right Arrow 5"/>
          <p:cNvSpPr/>
          <p:nvPr/>
        </p:nvSpPr>
        <p:spPr>
          <a:xfrm>
            <a:off x="3886200" y="259092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4" name="Right Arrow 6"/>
          <p:cNvSpPr/>
          <p:nvPr/>
        </p:nvSpPr>
        <p:spPr>
          <a:xfrm>
            <a:off x="3886200" y="373392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75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vironment dependent errors and preventive action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1231560"/>
            <a:ext cx="3603600" cy="30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xtremes of temperature and humidity affect enzyme reac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rying up of ELISA plat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4778280" y="1219320"/>
            <a:ext cx="36036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Control environment. Use A/C. Calibrate incubator &amp; water bath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Maintain humidity. Do not use fan to avoid drying of plates.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8" name="Right Arrow 4"/>
          <p:cNvSpPr/>
          <p:nvPr/>
        </p:nvSpPr>
        <p:spPr>
          <a:xfrm>
            <a:off x="4038480" y="1219320"/>
            <a:ext cx="520920" cy="48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9" name="Right Arrow 5"/>
          <p:cNvSpPr/>
          <p:nvPr/>
        </p:nvSpPr>
        <p:spPr>
          <a:xfrm>
            <a:off x="4051440" y="251460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75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uses of non-reproducible results and preventive action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109520"/>
            <a:ext cx="3809880" cy="48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islabeling of sampl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pecimen deteriora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Borderline reactor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arelessness/ignorance L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Use of obseleteSOP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4724280" y="1066680"/>
            <a:ext cx="381024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Collect another sample &amp; repeat tes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Take out another aliquot of sample/collect another sample and test in parallel to resolv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ollow up repeat testing to confirm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Vigilance/supervision and training of L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Use current, valid SOP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3" name="Right Arrow 4"/>
          <p:cNvSpPr/>
          <p:nvPr/>
        </p:nvSpPr>
        <p:spPr>
          <a:xfrm>
            <a:off x="3962520" y="121932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4" name="Right Arrow 5"/>
          <p:cNvSpPr/>
          <p:nvPr/>
        </p:nvSpPr>
        <p:spPr>
          <a:xfrm>
            <a:off x="3962520" y="228600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5" name="Right Arrow 6"/>
          <p:cNvSpPr/>
          <p:nvPr/>
        </p:nvSpPr>
        <p:spPr>
          <a:xfrm>
            <a:off x="3962520" y="327672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6" name="Right Arrow 7"/>
          <p:cNvSpPr/>
          <p:nvPr/>
        </p:nvSpPr>
        <p:spPr>
          <a:xfrm>
            <a:off x="3962520" y="411480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7" name="Right Arrow 8"/>
          <p:cNvSpPr/>
          <p:nvPr/>
        </p:nvSpPr>
        <p:spPr>
          <a:xfrm>
            <a:off x="3962520" y="495288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ord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1219320"/>
            <a:ext cx="822960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aintain records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Of each inaccurate resul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he cause of any error detect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he corrective actions taken to resolve the error and arrive at the correct resul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How the final correct result was obtain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o not report inaccurate resul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he preventive actions planned to prevent repetition of error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arning Objective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34520" y="1231920"/>
            <a:ext cx="8277480" cy="37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he LT will know the factors responsible for inaccurate resul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he LT will know the common error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he LT will know how to detect errors resulting in inaccurate resul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he LT will know what corrective and preventive actions need to be taken to correct and avoid occurrence of error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he LT will be able to investigate and trouble shoot the factors responsible for error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ctors responsible for some common error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4520" y="1231920"/>
            <a:ext cx="8277480" cy="30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he quality of blood/serum sampl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he quality of HIV test kits employed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he environmental conditions (temperature and humidity during storage of kits and performance of test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he quality status of equipment: maintenance, calibration, etc.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2520" indent="-45252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Quality of performance of test (human error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error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34520" y="1231920"/>
            <a:ext cx="8277480" cy="30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rror in transcription of results (clerical errors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Non reproducible results, particularly in borderline cases (gray zone cases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nter-laboratory variations in test resul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thods to identify common problem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4520" y="1231560"/>
            <a:ext cx="82774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view protocol/SOP of test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heck for all parameters which assure quality of HIV ki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Verify whether environmental conditions were me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heck parameters for quality of equipment us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heck for the quality of sampl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xamine for any clerical/transcription error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xamine for possibility of use of reagents from different ki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xamine for possibility of carryover of reagents between adjacent wells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men errors and preventive action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240" y="1219320"/>
            <a:ext cx="3298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2375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41c43"/>
                </a:solidFill>
                <a:latin typeface="Arial"/>
              </a:rPr>
              <a:t>Insufficient volume</a:t>
            </a:r>
            <a:endParaRPr b="0" lang="en-US" sz="19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375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41c43"/>
                </a:solidFill>
                <a:latin typeface="Arial"/>
              </a:rPr>
              <a:t>Hemolyzed</a:t>
            </a:r>
            <a:endParaRPr b="0" lang="en-US" sz="19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375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41c43"/>
                </a:solidFill>
                <a:latin typeface="Arial"/>
              </a:rPr>
              <a:t>Pipetting error due to thickening of serum</a:t>
            </a:r>
            <a:endParaRPr b="0" lang="en-US" sz="19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375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41c43"/>
                </a:solidFill>
                <a:latin typeface="Arial"/>
              </a:rPr>
              <a:t>Bacterial contamination in sample</a:t>
            </a:r>
            <a:endParaRPr b="0" lang="en-US" sz="19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375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41c43"/>
                </a:solidFill>
                <a:latin typeface="Arial"/>
              </a:rPr>
              <a:t>Aliquoting labeling error</a:t>
            </a:r>
            <a:endParaRPr b="0" lang="en-US" sz="19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375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41c43"/>
                </a:solidFill>
                <a:latin typeface="Arial"/>
              </a:rPr>
              <a:t>Repeated freeze thawing affects samples, particularly borderline positives</a:t>
            </a:r>
            <a:endParaRPr b="0" lang="en-US" sz="19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5029200" y="1219320"/>
            <a:ext cx="335268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3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Arial"/>
              </a:rPr>
              <a:t>Collect 3ml of blood</a:t>
            </a:r>
            <a:endParaRPr b="0" lang="en-US" sz="19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Arial"/>
              </a:rPr>
              <a:t>Collect a fresh sample and test.  If fresh sample is not possible, record sample hemolyzed in result</a:t>
            </a:r>
            <a:endParaRPr b="0" lang="en-US" sz="19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Arial"/>
              </a:rPr>
              <a:t>Record sample as thick in result.</a:t>
            </a:r>
            <a:endParaRPr b="0" lang="en-US" sz="19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Arial"/>
              </a:rPr>
              <a:t>Collect in sterile containier and refrigerate at 2-8º C (one week), -20º C for longer period.</a:t>
            </a:r>
            <a:endParaRPr b="0" lang="en-US" sz="19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Arial"/>
              </a:rPr>
              <a:t>Label carefully. Store properly</a:t>
            </a:r>
            <a:endParaRPr b="0" lang="en-US" sz="19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Arial"/>
              </a:rPr>
              <a:t>Do not freeze thaw repeatedly</a:t>
            </a:r>
            <a:endParaRPr b="0" lang="en-US" sz="19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1" name="Right Arrow 4"/>
          <p:cNvSpPr/>
          <p:nvPr/>
        </p:nvSpPr>
        <p:spPr>
          <a:xfrm>
            <a:off x="3594240" y="29718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2" name="Right Arrow 5"/>
          <p:cNvSpPr/>
          <p:nvPr/>
        </p:nvSpPr>
        <p:spPr>
          <a:xfrm>
            <a:off x="3594240" y="38862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3" name="Right Arrow 6"/>
          <p:cNvSpPr/>
          <p:nvPr/>
        </p:nvSpPr>
        <p:spPr>
          <a:xfrm>
            <a:off x="3594240" y="48006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4" name="Right Arrow 9"/>
          <p:cNvSpPr/>
          <p:nvPr/>
        </p:nvSpPr>
        <p:spPr>
          <a:xfrm>
            <a:off x="3581280" y="5535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5" name="Right Arrow 10"/>
          <p:cNvSpPr/>
          <p:nvPr/>
        </p:nvSpPr>
        <p:spPr>
          <a:xfrm>
            <a:off x="3594240" y="11430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6" name="Right Arrow 11"/>
          <p:cNvSpPr/>
          <p:nvPr/>
        </p:nvSpPr>
        <p:spPr>
          <a:xfrm>
            <a:off x="3581280" y="19051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erical errors and preventive action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480" y="1294920"/>
            <a:ext cx="335304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Labeling error, mixing of sample ID, wrong histor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n result printout the well number and sample number do not match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rror during translation of result from worksheet to report form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porting error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24280" y="1143000"/>
            <a:ext cx="312444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Set up log books/records properly. Collect second sample from same clien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Transcribe the results from the printout to work sheet carefully.  Repeat test in case of doubt. Please staple result printout to lab workshee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o supervisory review and check resul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Report to correct person in the correct way after post-test counsel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0" name="Right Arrow 4"/>
          <p:cNvSpPr/>
          <p:nvPr/>
        </p:nvSpPr>
        <p:spPr>
          <a:xfrm>
            <a:off x="4051440" y="129528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1" name="Right Arrow 5"/>
          <p:cNvSpPr/>
          <p:nvPr/>
        </p:nvSpPr>
        <p:spPr>
          <a:xfrm>
            <a:off x="4038480" y="2743200"/>
            <a:ext cx="520920" cy="48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2" name="Right Arrow 6"/>
          <p:cNvSpPr/>
          <p:nvPr/>
        </p:nvSpPr>
        <p:spPr>
          <a:xfrm>
            <a:off x="4114800" y="477360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3" name="Right Arrow 7"/>
          <p:cNvSpPr/>
          <p:nvPr/>
        </p:nvSpPr>
        <p:spPr>
          <a:xfrm>
            <a:off x="4114800" y="5840280"/>
            <a:ext cx="52056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st kit dependent errors and preventive action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3520" y="1231920"/>
            <a:ext cx="3070080" cy="55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Use of expired ki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Use of reagents from different ki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ensitivity &amp; specificity of kit not up to specified standard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eterioration/contamination of one componen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4648320" y="1219320"/>
            <a:ext cx="36795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Always check for expiration date of kit and its components before us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o not mix reagents from different ki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o not use kits which do not meet the laid down quality standard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o not use contaminated/expired reagen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7" name="Right Arrow 4"/>
          <p:cNvSpPr/>
          <p:nvPr/>
        </p:nvSpPr>
        <p:spPr>
          <a:xfrm>
            <a:off x="3809880" y="1219320"/>
            <a:ext cx="520920" cy="48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8" name="Right Arrow 5"/>
          <p:cNvSpPr/>
          <p:nvPr/>
        </p:nvSpPr>
        <p:spPr>
          <a:xfrm>
            <a:off x="3809880" y="2438280"/>
            <a:ext cx="520920" cy="48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9" name="Right Arrow 6"/>
          <p:cNvSpPr/>
          <p:nvPr/>
        </p:nvSpPr>
        <p:spPr>
          <a:xfrm>
            <a:off x="3809880" y="3630600"/>
            <a:ext cx="520920" cy="48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0" name="Right Arrow 7"/>
          <p:cNvSpPr/>
          <p:nvPr/>
        </p:nvSpPr>
        <p:spPr>
          <a:xfrm>
            <a:off x="3809880" y="4800600"/>
            <a:ext cx="520920" cy="48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ormance errors and preventive action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34880" y="1231560"/>
            <a:ext cx="314640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ilution erro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cratching off the antigen from the test well with pipette tip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nconsistent techniqu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ixing of sampl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OP not follow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3" name="Content Placeholder 2"/>
          <p:cNvSpPr/>
          <p:nvPr/>
        </p:nvSpPr>
        <p:spPr>
          <a:xfrm>
            <a:off x="4724280" y="1143000"/>
            <a:ext cx="31464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Calculate dilution carefully, accuratel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o not allow pipette tip to touch the well surfac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Test each sample including QC sample in the same wa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Prepare worksheets meticulously, and number wells/samples with car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ollow every step of SOP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4" name="Right Arrow 4"/>
          <p:cNvSpPr/>
          <p:nvPr/>
        </p:nvSpPr>
        <p:spPr>
          <a:xfrm>
            <a:off x="3809880" y="5410080"/>
            <a:ext cx="520920" cy="48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5" name="Right Arrow 5"/>
          <p:cNvSpPr/>
          <p:nvPr/>
        </p:nvSpPr>
        <p:spPr>
          <a:xfrm>
            <a:off x="3809880" y="4267080"/>
            <a:ext cx="520920" cy="48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6" name="Right Arrow 6"/>
          <p:cNvSpPr/>
          <p:nvPr/>
        </p:nvSpPr>
        <p:spPr>
          <a:xfrm>
            <a:off x="3809880" y="2971800"/>
            <a:ext cx="520920" cy="48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7" name="Right Arrow 7"/>
          <p:cNvSpPr/>
          <p:nvPr/>
        </p:nvSpPr>
        <p:spPr>
          <a:xfrm>
            <a:off x="3809880" y="2057400"/>
            <a:ext cx="520920" cy="48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8" name="Right Arrow 8"/>
          <p:cNvSpPr/>
          <p:nvPr/>
        </p:nvSpPr>
        <p:spPr>
          <a:xfrm>
            <a:off x="3809880" y="1143000"/>
            <a:ext cx="520920" cy="48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0a47ab"/>
          </a:solidFill>
          <a:ln w="9360">
            <a:solidFill>
              <a:srgbClr val="041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6:38:19Z</dcterms:created>
  <dc:creator>CaitMcQ</dc:creator>
  <dc:description/>
  <dc:language>en-US</dc:language>
  <cp:lastModifiedBy>Dr Saurabh Agarwal</cp:lastModifiedBy>
  <dcterms:modified xsi:type="dcterms:W3CDTF">2009-01-09T05:15:04Z</dcterms:modified>
  <cp:revision>50</cp:revision>
  <dc:subject/>
  <dc:title>COMMON ERRORS AND TROUBLESHOOTING</dc:title>
</cp:coreProperties>
</file>