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40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81000" y="685440"/>
            <a:ext cx="4896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2A2D-40ED-4A8D-9124-A3F69E3F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35F9-237B-482B-BC6B-297F7F8D4D87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AD0-E7EE-4E58-889A-791A308D6110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02A-E5BD-4B99-BE28-5F03E6E221F7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5C2A-035F-48CD-81B1-2A0883A3AF4E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BCFB-C54E-42D0-B5C3-1BA667E9AD02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A103-D182-47A5-9B74-2FAE92DBAAAD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CD6-F80B-4FD3-A0D6-4DC103BD884C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BA8-114E-47A0-A2FB-A33BD381A349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E9A-CE1B-4689-9461-F7BF800309C1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7436-F26C-4F16-A89C-19EBD065E6A6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D86-92BD-4361-AE98-AE76763C1554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FB1-4512-4A6E-AD14-5814EACB2891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D456-B01C-4D8F-8AC6-681800874D8D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70E1-2EEF-4A9D-9058-707F45944ABC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21A-CC37-442D-B094-06081EDF1410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44B-9F24-4B23-85C6-F8E2AEBDDF08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77E7-C530-462C-83E0-DA4D8EC7E370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5BE-B6C0-4661-96A4-3E78A565F0C0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132-1109-4670-8A18-A36000EC429E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5E6-6DDA-40B3-A71C-A9A7342E5258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A971-16A8-413B-B6A4-FE0482CF2AF2}" type="slidenum">
              <a:rPr b="0" lang="en-US" sz="12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261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9ED-06C7-4EB7-925D-D257CB07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3EA-B15C-444D-8E5F-0789621E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4BD-3608-46F9-A68A-E51DB11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213-2B52-404A-A23E-2B68CDC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EB9-B024-46FE-B509-CF0B7D1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520" y="14256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DD3-92C2-463C-8E11-FBD1372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48D-025B-4E30-9F03-66586FD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C83-D202-4B30-8631-7564D5E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3A6-7BB1-4920-902D-0EC178A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4520" y="3261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83C-FBCA-46DA-AA22-CE44CE38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D1E-C710-457C-937C-7EB6EE2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1800" y="1150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3452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1800" y="3261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C35-0D47-4977-BE4F-7F2A3D4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20" y="14256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261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50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261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12144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79080" y="6070680"/>
            <a:ext cx="48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Times New Roman"/>
              </a:rPr>
              <a:t>P</a:t>
            </a:r>
            <a:fld id="{06CDC042-770D-4B5A-BE59-D1AF95D11EE4}" type="slidenum">
              <a:rPr b="0" lang="en-US" sz="8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310360"/>
            <a:ext cx="2057400" cy="10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12144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79080" y="6070680"/>
            <a:ext cx="48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Times New Roman"/>
              </a:rPr>
              <a:t>P</a:t>
            </a:r>
            <a:fld id="{56D25DDB-458F-4FC8-A4A6-4496386C3C2D}" type="slidenum">
              <a:rPr b="0" lang="en-US" sz="8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310360"/>
            <a:ext cx="2057400" cy="109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20" y="142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150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712800" y="5892840"/>
            <a:ext cx="19051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51080" y="5892840"/>
            <a:ext cx="2895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80080" y="5892840"/>
            <a:ext cx="19051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41c4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5B5-2FFE-4BE6-B72A-A07C0ECF03C7}" type="slidenum">
              <a:rPr b="0" lang="en-US" sz="24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036520"/>
            <a:ext cx="6400800" cy="24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Prevention of blood borne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 and hospital acquired infections,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 including HIV/AIDS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 standard work precautions</a:t>
            </a:r>
            <a:endParaRPr b="0" lang="en-US" sz="3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 work precautions apply 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00320"/>
          <a:ext cx="7772400" cy="4186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loo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leural flui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emen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eritoneal flui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Vaginal secretions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ericardial flui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SF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mniotic flui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ynovial flui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Tissues &amp; organs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rest milk – bank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aliva – Dentistry as often mixed with blood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ll blood soiled articles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ll infectious waste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ll contaminated articles</a:t>
                      </a:r>
                      <a:endParaRPr b="0" lang="en-US" sz="20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 work precautions usually do not apply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4520" y="1150560"/>
            <a:ext cx="827748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Faeces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Tears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Nasal secretions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Sputum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Vomitus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Sweat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(Unless mixed with blood)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Dos and Don’ts of biosaf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295280"/>
          <a:ext cx="8396280" cy="4133880"/>
        </p:xfrm>
        <a:graphic>
          <a:graphicData uri="http://schemas.openxmlformats.org/drawingml/2006/table">
            <a:tbl>
              <a:tblPr/>
              <a:tblGrid>
                <a:gridCol w="4114800"/>
                <a:gridCol w="4281480"/>
              </a:tblGrid>
              <a:tr h="493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The essential biosafety measures are as follows: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Dos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Don’ts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Use gloves to prevent manual contact with blood/body fluids, mucous membranes, broken skin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Use masks, protective eye wears, face shield to prevent  droplet infections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Use gowns, aprons and foot covers to prevent splash of blood/body fluid before testing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lace all used instruments in disinfectant jar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Unnecessary risky procedures e.g.  mixing, grinding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harp objects use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llowing persons with broken skin, weeping skin lesions etc. to work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41c43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Recapping needles</a:t>
                      </a:r>
                      <a:endParaRPr b="0" lang="en-US" sz="16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onents of Standard Work Precau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eneral blood &amp; body fluid precautio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4520" y="1150560"/>
            <a:ext cx="8277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and wash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reful handling of shar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eriliz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sinfe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sposal of disposables/reusables as appropria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herence to correct hospital sterilization disinfection protocol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 of personal barrier precautions (Gloves, masks, gowns/aprons, protective eye wear, foot cover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BV immunization of HCW at risk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280" y="1092240"/>
            <a:ext cx="777240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sinfection of surfac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oiled instruments and surfaces soiled with blood or other body fluids should be disinfected immediately with a fresh 1% bleach solution or other  effective  disinfectant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sposal  of contaminated material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ontaminated materials should be placed in distinctively labeled sealed packaging  and then incinerat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boratory settings</a:t>
            </a:r>
            <a:r>
              <a:rPr b="0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e above precautions should take place systematically for all samples; samples should be transported  in hermetically sealed tubes or flasks, inside sealed packaging;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outh pipetting  is forbidden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401040" y="22860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fety Precautions</a:t>
            </a:r>
            <a:endParaRPr b="0" lang="en-US" sz="28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52280" y="1066320"/>
            <a:ext cx="883944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re when handling potentially infected shar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3344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Needles should never be bent back or put back in their original hold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3344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Needles should not be  removed by hand from syringes or vacutaine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3344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Needles and other sharps should be disposed off immediately in a special, puncture proof sealed container(sharps box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401040" y="22860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fety Precautions</a:t>
            </a:r>
            <a:endParaRPr b="0" lang="en-US" sz="28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tions of Standard Work Preca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510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 algn="just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success of Standard work precautions is limited.  Gloves  do not prevent needle  stick or penetrating sharp injuries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Gloves can tear  and the quality of disposable gloves can be variable.  Latex gloves  appear preferable to viny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andard work precautions are expensive  both for materials and the educational efforts requir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 algn="just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owever, prudent use and careful handling  of sharps, following SWP diligently minimizes the risk of acquiring  such infections, transmission of which to HCW is extremely low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ccupational exposure to HIV is very low; however it may hap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4520" y="1150560"/>
            <a:ext cx="82774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eedle stick injuri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uts from other shar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ntact of eye, nose, mouth or skin with blo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ST EXPOSURES DO NOT RESULT IN INFE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actors affecting transmission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mount of blood in the exposu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mount of virus in patient’s  blo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uration of contac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age of HIV-infe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ype of exposure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 algn="just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ether PEP taken or no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of virus transmission in work place HIV vs. HB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280" y="1177920"/>
            <a:ext cx="8275680" cy="43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-5281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ate of infection following needlestick exposur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282320" indent="-376920" algn="just">
              <a:lnSpc>
                <a:spcPct val="9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IV-0.2%-0.4% (WHO-0.332%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282320" indent="-376920" algn="just">
              <a:lnSpc>
                <a:spcPct val="9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BV – 6%-30%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282320" indent="-376920" algn="just">
              <a:lnSpc>
                <a:spcPct val="9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CV – up to 9%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 algn="just"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ximum concentration of virus in HIV compared to HBV in blood/body fluid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10 </a:t>
            </a:r>
            <a:r>
              <a:rPr b="1" lang="en-US" sz="2000" spc="-1" strike="noStrike" baseline="30000">
                <a:solidFill>
                  <a:srgbClr val="041c43"/>
                </a:solidFill>
                <a:latin typeface="Arial"/>
              </a:rPr>
              <a:t>13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HBV particles/ml of blo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905040" indent="-45252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041c43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HIV particles / ml of blo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is more sensitive in environmental conditions compared to HBV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3156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PEP needed for all types of exposures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341000"/>
            <a:ext cx="8275680" cy="30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ances of infection must be weighed with side effects of anti-retroviral drug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ow to decide which exposures are to be treated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ain of inf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4520" y="1604880"/>
            <a:ext cx="8277480" cy="34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servoi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lace of exi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ransmission meth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lace of entr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usceptible host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76320"/>
            <a:ext cx="89154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ment of accidental occupational exposure to blood and body fluids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96920" y="1066680"/>
            <a:ext cx="4984560" cy="5076360"/>
          </a:xfrm>
          <a:prstGeom prst="rect">
            <a:avLst/>
          </a:prstGeom>
          <a:noFill/>
          <a:ln w="19080">
            <a:solidFill>
              <a:srgbClr val="0a4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mmediate steps after exposure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Allow site to bleed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uts to be washed with plenty of soap and running water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plashes into nose, mouth, skin to be flushed with water. Irrigate eyes with clean water or saline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port the incidence to the designated officer in-charge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unseling and medical management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ake first dose of PEP within 2 hours if status of blood/body fluid is known to be positive or unknown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aintain proper report for SACS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vailability of free drugs for PEP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410080" y="1155600"/>
            <a:ext cx="3429000" cy="4254840"/>
          </a:xfrm>
          <a:prstGeom prst="rect">
            <a:avLst/>
          </a:prstGeom>
          <a:noFill/>
          <a:ln w="12600">
            <a:solidFill>
              <a:srgbClr val="0a4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DO NOT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nic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ut pricked finger in your mouth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queeze blood from wound, this causes trauma and inflammation –increases the risk of transmission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o not use bleach, alcohol, betadine or iodine, which may be caustic and cause trauma</a:t>
            </a: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3156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5320" y="1384200"/>
            <a:ext cx="8483400" cy="34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transmission to health care workers remains a minimum possibility.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option of standard precautions at work place-ICTCs/hospitals is essential to further minimize this risk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ery few  cases have been reported world over of medical staff being HIV positive due to needle stick injuries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sponsibility lies with the individual to practice SWP, protect himself from the dangers of this infection and continue caring for the patients without undue fear or apprehension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352320" y="1393920"/>
            <a:ext cx="251460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Bacterial spores 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Mycobacteria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Polio virus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Fungi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Other bacteria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Hepatitis B virus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HIV viruses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Descending order of resistance to germicidal chemicals </a:t>
            </a:r>
            <a:endParaRPr b="0" lang="en-US" sz="2700" spc="-1" strike="noStrike">
              <a:solidFill>
                <a:srgbClr val="041c43"/>
              </a:solidFill>
              <a:latin typeface="Times New Roman"/>
            </a:endParaRPr>
          </a:p>
        </p:txBody>
      </p:sp>
      <p:sp>
        <p:nvSpPr>
          <p:cNvPr id="99" name="Down Arrow 3"/>
          <p:cNvSpPr/>
          <p:nvPr/>
        </p:nvSpPr>
        <p:spPr>
          <a:xfrm>
            <a:off x="1828800" y="1371600"/>
            <a:ext cx="1295280" cy="4191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48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mportant infections associated with exposure to contaminated bloo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074600"/>
            <a:ext cx="82756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Viral hepatitis (HBV most common), HCV, HGV and Delta agent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HIV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HCV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1c43"/>
                </a:solidFill>
                <a:latin typeface="Arial"/>
              </a:rPr>
              <a:t>Syphillis</a:t>
            </a: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proced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75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ination of patients and  common OPD procedures (open wound, PV &amp; PR examination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vasive  diagnostic and  therapeutic procedure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suscitation (mouth to mouth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ound dress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peration theatre procedur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arious ward activiti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andling of blood/serum/body fluids and tissu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leaning of hospital/clinic and disposal of was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aulty steriliz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undry; C.S.S.D and kitchen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ost mortem/embalm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83908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odes of exposure to blood borne pathogens in the laborator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971640"/>
          <a:ext cx="6400800" cy="5276880"/>
        </p:xfrm>
        <a:graphic>
          <a:graphicData uri="http://schemas.openxmlformats.org/drawingml/2006/table">
            <a:tbl>
              <a:tblPr/>
              <a:tblGrid>
                <a:gridCol w="1295640"/>
                <a:gridCol w="1265040"/>
                <a:gridCol w="384012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rocedure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HCW at risk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ource/modes of transmissio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llection of blood/body fluids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Laboratory technicia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Needle stick injury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roken specimen  vial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lood contamination of hand with skin lesion/ breach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Transfer of specime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Laboratory technician and transport worker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minated  exterior of the container/ requisition slip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roken container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pill/splash of specime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rocessing of specime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Laboratory personnel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uncture of ski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mination  of skin/mucous membrane from contaminated work surface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pills/splash of specime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roken specimens container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Faulty techniques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erforated gloves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leaning/washing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Laboratory support staff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uncture of skin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mination of skin from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41c43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minated 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glassware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41c43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pills/splashes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41c43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minated work surface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Disposal of waste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Laboratory support staff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ontact with infectious waste specially sharps, broken containers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576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Specimen transport/mailing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Transport, postal staff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Broken/leaking container or packaging</a:t>
                      </a:r>
                      <a:endParaRPr b="0" lang="en-US" sz="11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576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isk factors for occupational HBV &amp; HIV infection in health care professional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066680"/>
            <a:ext cx="899172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requency of occupational exposure 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(Contact with blood or bloody body fluids, Accidental needle sticks/sharp instrument injuri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ccupational area in the hospital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Gyn &amp; Obst. Dept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emodialysi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atholog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urgery, surgical intensive ca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mergency room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Blood bank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nical laborator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Intravenous team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entistry; oral surger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orking with at risk population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Arial"/>
            </a:endParaRPr>
          </a:p>
          <a:p>
            <a:pPr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ource infectivit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bs Ag-positive, HIV-positive, HCV positiv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6632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and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360"/>
            <a:ext cx="8610480" cy="48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was recoverable by tissue culture techniques up to 3 days after drying in laboratory  studies (concentration of virus is 100,000 times greater than found in blood of HIV infected person)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DC, USA studies have shown that drying causes a 90-99% reduction in HIV concentration within several hours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 tissue culture fluid, cell free HIV could be recovered up to 15 days at room temperature, up to  11 days  at 37</a:t>
            </a:r>
            <a:r>
              <a:rPr b="1" lang="en-US" sz="2000" spc="-1" strike="noStrike" baseline="30000">
                <a:solidFill>
                  <a:srgbClr val="041c43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 and up to 1 day if HIV was cell associat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o one  so far has been  HIV infected as a result of  contact with  an environmental surface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cannot reproduce outside  the living  host except under laboratory  conditions and cannot spread or maintain infectiousness outside its host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3400"/>
            <a:ext cx="89917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 of blood borne viruses during the window peri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440000"/>
          <a:ext cx="7772400" cy="4179600"/>
        </p:xfrm>
        <a:graphic>
          <a:graphicData uri="http://schemas.openxmlformats.org/drawingml/2006/table">
            <a:tbl>
              <a:tblPr/>
              <a:tblGrid>
                <a:gridCol w="4191120"/>
                <a:gridCol w="1117440"/>
                <a:gridCol w="1219320"/>
                <a:gridCol w="124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indow period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Days to antibody detection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Expected reduction with NAT (days)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10-15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41-60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6-15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Viral doubling time (days)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P viral load/ml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41c4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1800" spc="-1" strike="noStrike" baseline="30000">
                          <a:solidFill>
                            <a:srgbClr val="041c43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41c4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1800" spc="-1" strike="noStrike" baseline="30000">
                          <a:solidFill>
                            <a:srgbClr val="041c43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576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41c4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-104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</a:tr>
              <a:tr h="699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NAT = Nucleic acid amplification test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P = Window period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(Genomic screening for blood borne viruses in transfusion  setting.  Clin Lab. Haem..  2000;22:1-10.  J.P. Allan Division of Transfusion  Medicine, Department of Haematology, University of Cambridge, Cambridge, UK).</a:t>
                      </a: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41c43"/>
                      </a:solidFill>
                    </a:lnL>
                    <a:lnR w="13680">
                      <a:solidFill>
                        <a:srgbClr val="041c43"/>
                      </a:solidFill>
                    </a:lnR>
                    <a:lnT w="13680">
                      <a:solidFill>
                        <a:srgbClr val="041c43"/>
                      </a:solidFill>
                    </a:lnT>
                    <a:lnB w="13680">
                      <a:solidFill>
                        <a:srgbClr val="041c4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41c4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55:46Z</dcterms:created>
  <dc:creator>Dr Usha K.Bavaja</dc:creator>
  <dc:description/>
  <dc:language>en-US</dc:language>
  <cp:lastModifiedBy>owner</cp:lastModifiedBy>
  <dcterms:modified xsi:type="dcterms:W3CDTF">2009-02-14T04:35:11Z</dcterms:modified>
  <cp:revision>44</cp:revision>
  <dc:subject/>
  <dc:title>THE CHAIN OF INFECTION</dc:title>
</cp:coreProperties>
</file>