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3398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139E-17F4-4FC3-95DE-2A33CA9150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F0E-DE51-4B8C-A93A-B471CEA427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745D-8C74-4876-B05C-64D3951D7E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693B-6021-45CE-90BB-43AE7B8D4A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B95B-8D6A-4C63-9795-659AD827B4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A623-F649-4AF6-A056-5D74447897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4E53-9E99-496F-8833-BEF67ED3C6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8026-ACAB-44A3-B989-D82B3F267E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03240" y="731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94C-1D14-439D-8DE5-A9AAC415DF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730C-CEBA-4EEA-A8AC-F93EBC198A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BE91-6629-4374-890F-526C4B4509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C52-3F6B-470C-9EEA-E61285A698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A4A8-7A77-4DC0-AF9F-7267BDC1FB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DC4D-2F62-449D-B440-A7FFC889DF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BC7-6E4C-4138-8712-F4B2EC7BA7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CE6-61D7-4D9D-934F-F6608BDE01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36A1-6443-43C7-8665-CE61FE699B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58DB-04CB-4C74-8FA8-C81F8F362A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966C-C6AE-45F9-A0CA-2128A412D1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74BD-7982-4816-A4E6-F76E3F99B2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CDEA-A0D9-42FF-852D-DDAE09100B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responsibilities here may be carried out by different individuals within the Ministry of Health;  Supervisor/Managers, Quality Assurance Committee, or Site Qualit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46A4-7C79-4E87-B1B0-F91EFB35D0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9428040"/>
            <a:ext cx="3398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3: External Quality Assessment (EQA)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DE22-98C4-429A-9938-6FACD22FD6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2812680"/>
            <a:ext cx="82774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281268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281268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281268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EA1-6BFD-4101-A65D-338522D6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6A7-9D22-4D17-A986-47D413A5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1BA-B543-4D95-B98F-515650A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18B-743A-4B1D-B810-B75E1C77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8FA-CA46-4D14-ADF8-4BD9444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48C-2DFA-4A32-95CC-E8E6763B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452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A2B-DAB9-4DAD-9705-6991216A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BBC-BF1D-4FC8-8AD1-32A1F94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4520" y="2812680"/>
            <a:ext cx="82774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27A-99F8-4FCE-A6CE-654B2835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4520" y="2812680"/>
            <a:ext cx="82774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348-D1EF-44B7-A603-CDA8190A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52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504-C1FE-406F-BFD6-936F3A7E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34520" y="281268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281268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1800" y="2812680"/>
            <a:ext cx="26650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516-A460-48CF-B03A-2FE4AF37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281268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2812680"/>
            <a:ext cx="827748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BF315A02-AAEB-4381-8BE2-4A760B3DDBE9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1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2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3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4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5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6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B9FCC2D4-F38E-446A-BA8C-5B0BD2B4A1CA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Click to edit the outline text format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1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Second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2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Third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3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Four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4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Fif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5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Six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  <a:p>
            <a:pPr lvl="6" marL="343080" indent="-343080">
              <a:spcBef>
                <a:spcPts val="1874"/>
              </a:spcBef>
              <a:buClr>
                <a:srgbClr val="041c43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41c43"/>
                </a:solidFill>
                <a:latin typeface="Book Antiqua"/>
              </a:rPr>
              <a:t>Seventh Outline Level</a:t>
            </a:r>
            <a:endParaRPr b="0" lang="en-US" sz="15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35EB-4A35-441A-AFA1-E297E78EF3B4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 AIDS Contro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0EC1-9EBD-4F51-A73B-3080FE4DC0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2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2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4.jpeg"/><Relationship Id="rId30" Type="http://schemas.openxmlformats.org/officeDocument/2006/relationships/image" Target="../media/image2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508120"/>
            <a:ext cx="70866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1c43"/>
                </a:solidFill>
                <a:latin typeface="Book Antiqu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41c43"/>
                </a:solidFill>
                <a:latin typeface="Arial"/>
                <a:ea typeface="Arial"/>
              </a:rPr>
              <a:t>External Quality Assessment (EQA) Proficiency Testing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is Proficiency Testing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00400" y="2103480"/>
            <a:ext cx="54864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anels of specimens are sent to multiple test sites by reference laboratory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est sites perform tests and report result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Results indicate quality of personnel performance and test site operation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Results are often compared across several testing site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A3F3-DBE6-47A0-958E-42383A511BE4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228600" y="1752480"/>
            <a:ext cx="2514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Proficiency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is On-site Evaluation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00400" y="2438280"/>
            <a:ext cx="54864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eriodic site visits to undertake systematic assessment of lab practice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4200" indent="-212760">
              <a:lnSpc>
                <a:spcPct val="10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Focuses on how the lab monitors its operations and ensures testing quality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4200" indent="-212760">
              <a:lnSpc>
                <a:spcPct val="10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rovides information for internal process improvement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A02D-A161-400A-A0A1-9634C16712F0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228600" y="3048120"/>
            <a:ext cx="2514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On-si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is On-site Evaluation?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Cont’d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00400" y="1447560"/>
            <a:ext cx="54864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lso referred to as audits, assessments, or supervisory visit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Learn “where we are”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art of every lab quality system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Measures gaps or deficiency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ollect information for: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Planning &amp; implementation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Monitoring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Continuous improvement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56C0-0BDB-4813-8DDA-300C76851FD0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228600" y="3048120"/>
            <a:ext cx="2514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On-si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is Re-testing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0400" y="2286000"/>
            <a:ext cx="54864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rocess by which a specified percentage   of specimens collected in a defined period of time from the routine workload at the test site and sent to the SRL/NRL for crosschecking of results.  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Used to detect errors  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99E7-EDA7-4237-8A1E-2E22E55584BF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228600" y="2590920"/>
            <a:ext cx="2514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Re-checking/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Re-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-15480"/>
            <a:ext cx="89154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A/Assessments should lead to corrective  Action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4CDA-B583-4AB7-B3A0-E57CBEFC9646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76320" y="2362320"/>
            <a:ext cx="1981080" cy="1371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EQA/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Assessme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2209680" y="236232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553080" y="2514600"/>
            <a:ext cx="198144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Take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Corrective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A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762120" y="4178160"/>
            <a:ext cx="81532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AU" sz="2400" spc="-1" strike="noStrike">
                <a:solidFill>
                  <a:srgbClr val="ffffff"/>
                </a:solidFill>
                <a:latin typeface="Arial"/>
              </a:rPr>
              <a:t>Corrective Action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n action taken to correct a problem or deficiency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62120" y="509436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65120" indent="-349200">
              <a:lnSpc>
                <a:spcPct val="9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Production of an incorrect resul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65120" indent="-349200">
              <a:lnSpc>
                <a:spcPct val="9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41c43"/>
                </a:solidFill>
                <a:latin typeface="Arial"/>
              </a:rPr>
              <a:t>Not following procedur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3200400" y="251460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Identify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Problem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5334120" y="2362320"/>
            <a:ext cx="914400" cy="129528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2560"/>
            <a:ext cx="8275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Problems may occur throughout the testing proces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946680" y="2238480"/>
            <a:ext cx="474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7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41c43"/>
                </a:solidFill>
                <a:latin typeface="Arial"/>
              </a:rPr>
              <a:t>Specimen compromised during preparation, transport, or after receipt by improper storage or handl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4068720" y="3666960"/>
            <a:ext cx="4028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41c43"/>
                </a:solidFill>
                <a:latin typeface="Arial"/>
              </a:rPr>
              <a:t>Reagents, test methods, QC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41c43"/>
                </a:solidFill>
                <a:latin typeface="Arial"/>
              </a:rPr>
              <a:t>Competency of staff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048920" y="4809960"/>
            <a:ext cx="204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41c43"/>
                </a:solidFill>
                <a:latin typeface="Arial"/>
              </a:rPr>
              <a:t>Report form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41c43"/>
                </a:solidFill>
                <a:latin typeface="Arial"/>
              </a:rPr>
              <a:t>Interpre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AutoShape 27"/>
          <p:cNvSpPr/>
          <p:nvPr/>
        </p:nvSpPr>
        <p:spPr>
          <a:xfrm>
            <a:off x="1066680" y="2286000"/>
            <a:ext cx="236232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7819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Pre-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AutoShape 29"/>
          <p:cNvSpPr/>
          <p:nvPr/>
        </p:nvSpPr>
        <p:spPr>
          <a:xfrm>
            <a:off x="1066680" y="3505320"/>
            <a:ext cx="236232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7819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1066680" y="4724280"/>
            <a:ext cx="236232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7819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Post-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ke Corrective Action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520" y="1294920"/>
            <a:ext cx="8153640" cy="30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9440" indent="-559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Use problem-solving team: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9554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Investigate root cause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9554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Develop appropriate corrective action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559440" indent="-559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Implement corrective action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559440" indent="-559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Examine effectiveness of corrective action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559440" indent="-559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Record all actions and finding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3245-6A8E-4A1C-93AE-AE34BC713823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ple of Corrective Action Form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6" name="Picture 10" descr="CORRECTIVE ACTION FORM"/>
          <p:cNvPicPr/>
          <p:nvPr/>
        </p:nvPicPr>
        <p:blipFill>
          <a:blip r:embed="rId1"/>
          <a:srcRect l="8620" t="6735" r="8620" b="31045"/>
          <a:stretch/>
        </p:blipFill>
        <p:spPr>
          <a:xfrm>
            <a:off x="1600200" y="1143000"/>
            <a:ext cx="4876920" cy="4743360"/>
          </a:xfrm>
          <a:prstGeom prst="rect">
            <a:avLst/>
          </a:prstGeom>
          <a:ln w="0">
            <a:noFill/>
          </a:ln>
        </p:spPr>
      </p:pic>
      <p:sp>
        <p:nvSpPr>
          <p:cNvPr id="22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B30-77F7-4307-955E-EF23EC9CF910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75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To Implement Quality Assurance as per the National Program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CCB7-AADF-4FA4-A771-536DA6A675F5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3276720" y="2590920"/>
            <a:ext cx="2514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Re-checking/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Re-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1752480" y="2514600"/>
            <a:ext cx="1219320" cy="129528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sues to Consider for Re-testing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95280"/>
            <a:ext cx="8229600" cy="40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What is the purpose of re-testing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an turnaround of re-testing be accomplished in a timely manner allowing for immediate corrective actions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How should EQA specimens be labeled and recorded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When should specimens be shipped/transported to reference laboratory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he laboratory that should re-test specimens submitted by test sites? 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DD40-30CB-4C64-A079-CDD6B43FFF76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arning Objectiv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752480"/>
            <a:ext cx="8381880" cy="37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t the end of this module, you will be able to: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ssess operations at  test site (participating lab) to determine if quality requirements are met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ake corrective actions following External Quality Assessment (EQA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Keep appropriate records related to EQA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void common problems associated with EQA specimen management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-testing (Cross-checking) Proces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34520" y="1231920"/>
            <a:ext cx="827748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9000" indent="-45900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pecimen type –serum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9000" indent="-45900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ampling plan once every quarter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9000" indent="-45900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repare specimens, store specimens until transport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9000" indent="-45900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ackage and transport specimens along with paperwork to designated SRL/NRL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9000" indent="-45900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ompare re-test results with site result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9000" indent="-45900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Feed back and  take Corrective Actions, if needed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482-690B-4A87-AE70-1247FBE5DB2A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ing sites’ Responsibilities: Re-testing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Follow written policies and procedure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ollect appropriate specimen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Record keeping is essential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ake necessary precautions to avoid transcription error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ackage and transport EQA specimens to designated reference laboratory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ake necessary corrective actions after feedback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C200-887C-46C0-8584-9C1F7E6265FD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men Requirement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4520" y="1231560"/>
            <a:ext cx="8277480" cy="169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erum or Plasma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0.5 ml aliquot in labeled cryo-vial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Store at 2-8</a:t>
            </a:r>
            <a:r>
              <a:rPr b="1" lang="en-US" sz="2000" spc="-1" strike="noStrike">
                <a:solidFill>
                  <a:srgbClr val="041c43"/>
                </a:solidFill>
                <a:latin typeface="Book Antiqua"/>
                <a:ea typeface="Arial"/>
              </a:rPr>
              <a:t>ºC</a:t>
            </a: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 for up to 1 week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Store at -20</a:t>
            </a:r>
            <a:r>
              <a:rPr b="1" lang="en-US" sz="2000" spc="-1" strike="noStrike">
                <a:solidFill>
                  <a:srgbClr val="041c43"/>
                </a:solidFill>
                <a:latin typeface="Book Antiqua"/>
                <a:ea typeface="Arial"/>
              </a:rPr>
              <a:t>ºC</a:t>
            </a: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 or below if longer than 1 week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1EE4-44E9-4384-8827-5E593F9D1F79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men Management : Common Problem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34520" y="1231560"/>
            <a:ext cx="827748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ranscription error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4200" indent="-212760">
              <a:lnSpc>
                <a:spcPct val="10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Mislabeling cryo-vial 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4200" indent="-212760">
              <a:lnSpc>
                <a:spcPct val="10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From Lab register to specimen transfer log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4200" indent="-212760">
              <a:lnSpc>
                <a:spcPct val="10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From reference lab to testing site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Inadequate specimen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2" marL="1252440" indent="-338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810B-B8E1-486B-8D8E-4A11142E1BE5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34520" y="1231560"/>
            <a:ext cx="8277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Describe your responsibilities in quality assessment for the National Program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What is proficiency testing? On-site evaluation? Re-testing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Explain the process for on-site evaluation.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What are some issues to consider prior to implementing a re-testing program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Explain the process for re-testing.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What are some common problems associated with specimen management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E02C-10C9-469D-A4FE-7B1C98F89B04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Overview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4520" y="1231920"/>
            <a:ext cx="827748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What is EQA and why is it important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EQA Responsibilitie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EQA Method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Proficiency Testing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Book Antiqua"/>
              </a:rPr>
              <a:t>On-Site Evaluation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2040" indent="-210600">
              <a:spcBef>
                <a:spcPts val="1250"/>
              </a:spcBef>
              <a:buClr>
                <a:srgbClr val="c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Book Antiqua"/>
              </a:rPr>
              <a:t>Re-testing?????????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How to implement EQA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D90B-927A-4FC6-984E-D3F7087887CA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8840" y="228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rnal quality assessment: Defini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066320"/>
            <a:ext cx="8686800" cy="31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 programme in which a laboratory participates and receives a blinded, composite panel of samples from another laboratory conducting the EQA.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he laboratory processes the samples ju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ike the routine test sample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nd returns the result to the organizing laboratory for analysis within the specified time on the designated format.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he conducting laboratory analyzes data received, provides feed back to the participating laboratories and does the troubleshooting in case of default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y EQA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93640"/>
            <a:ext cx="8229600" cy="34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llows comparison of performance and results among different test site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rovides early warning for systematic</a:t>
            </a:r>
            <a:r>
              <a:rPr b="1" lang="en-AU" sz="2000" spc="-1" strike="noStrike">
                <a:solidFill>
                  <a:srgbClr val="041c43"/>
                </a:solidFill>
                <a:latin typeface="Arial"/>
                <a:ea typeface="Arial"/>
              </a:rPr>
              <a:t> problems associated with kits or operation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rovides objective evidence of testing quality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Indicates areas that need improvement 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Identifies training need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789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A: Conducted at All Levels of Testing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1738-60BD-4196-8EC9-0D56FFC3802F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Text Box 76"/>
          <p:cNvSpPr/>
          <p:nvPr/>
        </p:nvSpPr>
        <p:spPr>
          <a:xfrm>
            <a:off x="6019920" y="121932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 Narrow"/>
              </a:rPr>
              <a:t>NRL = National Reference Lab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 Narrow"/>
              </a:rPr>
              <a:t>SRL = state Reference lab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 Narrow"/>
              </a:rPr>
              <a:t>TS = Test Site (ICTCs, PPTCTCs)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7" name="Group 88"/>
          <p:cNvGrpSpPr/>
          <p:nvPr/>
        </p:nvGrpSpPr>
        <p:grpSpPr>
          <a:xfrm>
            <a:off x="801000" y="1295280"/>
            <a:ext cx="5540760" cy="5105520"/>
            <a:chOff x="801000" y="1295280"/>
            <a:chExt cx="5540760" cy="5105520"/>
          </a:xfrm>
        </p:grpSpPr>
        <p:sp>
          <p:nvSpPr>
            <p:cNvPr id="108" name="Line 23"/>
            <p:cNvSpPr/>
            <p:nvPr/>
          </p:nvSpPr>
          <p:spPr>
            <a:xfrm>
              <a:off x="4756320" y="1700280"/>
              <a:ext cx="1440" cy="2253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>
              <a:off x="4756320" y="2541600"/>
              <a:ext cx="1440" cy="2253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rot="21380400">
              <a:off x="1977840" y="2684520"/>
              <a:ext cx="360" cy="2253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 rot="226800">
              <a:off x="1673280" y="5021280"/>
              <a:ext cx="1440" cy="21600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Line 70"/>
            <p:cNvSpPr/>
            <p:nvPr/>
          </p:nvSpPr>
          <p:spPr>
            <a:xfrm>
              <a:off x="3341520" y="4464000"/>
              <a:ext cx="200160" cy="704880"/>
            </a:xfrm>
            <a:prstGeom prst="line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Line 49"/>
            <p:cNvSpPr/>
            <p:nvPr/>
          </p:nvSpPr>
          <p:spPr>
            <a:xfrm>
              <a:off x="3664080" y="4929120"/>
              <a:ext cx="1440" cy="2253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Line 62"/>
            <p:cNvSpPr/>
            <p:nvPr/>
          </p:nvSpPr>
          <p:spPr>
            <a:xfrm rot="21430800">
              <a:off x="5440320" y="3723840"/>
              <a:ext cx="1800" cy="2253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" name="Line 66"/>
            <p:cNvSpPr/>
            <p:nvPr/>
          </p:nvSpPr>
          <p:spPr>
            <a:xfrm rot="21430800">
              <a:off x="5481720" y="4562280"/>
              <a:ext cx="1440" cy="2253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 flipH="1" rot="227400">
              <a:off x="1845360" y="3841560"/>
              <a:ext cx="1098360" cy="720720"/>
            </a:xfrm>
            <a:prstGeom prst="line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Line 68"/>
            <p:cNvSpPr/>
            <p:nvPr/>
          </p:nvSpPr>
          <p:spPr>
            <a:xfrm flipH="1" flipV="1" rot="21380400">
              <a:off x="2176920" y="2570760"/>
              <a:ext cx="849240" cy="1095120"/>
            </a:xfrm>
            <a:prstGeom prst="line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H="1" rot="21381000">
              <a:off x="2205720" y="2104920"/>
              <a:ext cx="252360" cy="1508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H="1" rot="21381000">
              <a:off x="1503000" y="2513160"/>
              <a:ext cx="223920" cy="1947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" name="Oval 3"/>
            <p:cNvSpPr/>
            <p:nvPr/>
          </p:nvSpPr>
          <p:spPr>
            <a:xfrm rot="21380400">
              <a:off x="1680840" y="2085840"/>
              <a:ext cx="554040" cy="5698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1c43"/>
                  </a:solidFill>
                  <a:latin typeface="Arial Narrow"/>
                </a:rPr>
                <a:t>SRL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" name="Oval 4"/>
            <p:cNvSpPr/>
            <p:nvPr/>
          </p:nvSpPr>
          <p:spPr>
            <a:xfrm rot="21380400">
              <a:off x="2433240" y="1773000"/>
              <a:ext cx="371520" cy="3902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 rot="21380400">
              <a:off x="2464920" y="2506320"/>
              <a:ext cx="373320" cy="3906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 rot="21380400">
              <a:off x="1739520" y="1439640"/>
              <a:ext cx="371520" cy="3902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 rot="21380400">
              <a:off x="1835280" y="2923920"/>
              <a:ext cx="371520" cy="3888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 rot="21380400">
              <a:off x="1157040" y="2634840"/>
              <a:ext cx="372960" cy="3906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 rot="21380400">
              <a:off x="1106280" y="1827000"/>
              <a:ext cx="372960" cy="3902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rot="21380400">
              <a:off x="1923840" y="1846440"/>
              <a:ext cx="360" cy="22356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rot="21380400">
              <a:off x="1461960" y="2109960"/>
              <a:ext cx="206640" cy="16488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 flipH="1" flipV="1" rot="21380400">
              <a:off x="2229480" y="2481120"/>
              <a:ext cx="252360" cy="11952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Line 71"/>
            <p:cNvSpPr/>
            <p:nvPr/>
          </p:nvSpPr>
          <p:spPr>
            <a:xfrm flipV="1">
              <a:off x="3648240" y="2480400"/>
              <a:ext cx="942840" cy="1157400"/>
            </a:xfrm>
            <a:prstGeom prst="line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Line 24"/>
            <p:cNvSpPr/>
            <p:nvPr/>
          </p:nvSpPr>
          <p:spPr>
            <a:xfrm flipH="1">
              <a:off x="5025960" y="1986120"/>
              <a:ext cx="254160" cy="15048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Line 26"/>
            <p:cNvSpPr/>
            <p:nvPr/>
          </p:nvSpPr>
          <p:spPr>
            <a:xfrm flipH="1">
              <a:off x="4292640" y="2346480"/>
              <a:ext cx="223920" cy="19512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4486320" y="1955880"/>
              <a:ext cx="554040" cy="5713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1c43"/>
                  </a:solidFill>
                  <a:latin typeface="Arial Narrow"/>
                </a:rPr>
                <a:t>SRL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5264280" y="1670040"/>
              <a:ext cx="374400" cy="3906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Oval 18"/>
            <p:cNvSpPr/>
            <p:nvPr/>
          </p:nvSpPr>
          <p:spPr>
            <a:xfrm>
              <a:off x="5251320" y="2406600"/>
              <a:ext cx="371520" cy="3906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4591080" y="1295280"/>
              <a:ext cx="374760" cy="3906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Oval 20"/>
            <p:cNvSpPr/>
            <p:nvPr/>
          </p:nvSpPr>
          <p:spPr>
            <a:xfrm>
              <a:off x="4591080" y="2781360"/>
              <a:ext cx="374760" cy="3906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3933720" y="2451240"/>
              <a:ext cx="374760" cy="39024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Oval 22"/>
            <p:cNvSpPr/>
            <p:nvPr/>
          </p:nvSpPr>
          <p:spPr>
            <a:xfrm>
              <a:off x="3933720" y="1641600"/>
              <a:ext cx="374760" cy="38880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>
              <a:off x="4278240" y="1941480"/>
              <a:ext cx="208080" cy="1652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H="1" flipV="1">
              <a:off x="5025960" y="2362320"/>
              <a:ext cx="254160" cy="11880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Line 50"/>
            <p:cNvSpPr/>
            <p:nvPr/>
          </p:nvSpPr>
          <p:spPr>
            <a:xfrm flipH="1">
              <a:off x="3940200" y="5214960"/>
              <a:ext cx="262080" cy="1490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Line 52"/>
            <p:cNvSpPr/>
            <p:nvPr/>
          </p:nvSpPr>
          <p:spPr>
            <a:xfrm flipH="1">
              <a:off x="3187080" y="5575320"/>
              <a:ext cx="230040" cy="19512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Oval 42"/>
            <p:cNvSpPr/>
            <p:nvPr/>
          </p:nvSpPr>
          <p:spPr>
            <a:xfrm>
              <a:off x="3389400" y="5184720"/>
              <a:ext cx="566640" cy="56988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1c43"/>
                  </a:solidFill>
                  <a:latin typeface="Arial Narrow"/>
                </a:rPr>
                <a:t>SRL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Oval 43"/>
            <p:cNvSpPr/>
            <p:nvPr/>
          </p:nvSpPr>
          <p:spPr>
            <a:xfrm>
              <a:off x="4186080" y="4898880"/>
              <a:ext cx="384480" cy="3906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Oval 44"/>
            <p:cNvSpPr/>
            <p:nvPr/>
          </p:nvSpPr>
          <p:spPr>
            <a:xfrm>
              <a:off x="4170240" y="5635800"/>
              <a:ext cx="384120" cy="39024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Oval 45"/>
            <p:cNvSpPr/>
            <p:nvPr/>
          </p:nvSpPr>
          <p:spPr>
            <a:xfrm>
              <a:off x="3497400" y="4524480"/>
              <a:ext cx="382320" cy="39060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Oval 46"/>
            <p:cNvSpPr/>
            <p:nvPr/>
          </p:nvSpPr>
          <p:spPr>
            <a:xfrm>
              <a:off x="3497400" y="6010200"/>
              <a:ext cx="382320" cy="39060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Oval 47"/>
            <p:cNvSpPr/>
            <p:nvPr/>
          </p:nvSpPr>
          <p:spPr>
            <a:xfrm>
              <a:off x="2819520" y="5680080"/>
              <a:ext cx="384120" cy="39060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Oval 48"/>
            <p:cNvSpPr/>
            <p:nvPr/>
          </p:nvSpPr>
          <p:spPr>
            <a:xfrm>
              <a:off x="2819520" y="4869000"/>
              <a:ext cx="384120" cy="3902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Line 51"/>
            <p:cNvSpPr/>
            <p:nvPr/>
          </p:nvSpPr>
          <p:spPr>
            <a:xfrm>
              <a:off x="3173400" y="5168880"/>
              <a:ext cx="216000" cy="1652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3664080" y="5770440"/>
              <a:ext cx="1440" cy="22572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Line 54"/>
            <p:cNvSpPr/>
            <p:nvPr/>
          </p:nvSpPr>
          <p:spPr>
            <a:xfrm flipH="1" flipV="1">
              <a:off x="3940200" y="5589000"/>
              <a:ext cx="262080" cy="12060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Oval 59"/>
            <p:cNvSpPr/>
            <p:nvPr/>
          </p:nvSpPr>
          <p:spPr>
            <a:xfrm>
              <a:off x="5289480" y="4724280"/>
              <a:ext cx="349200" cy="39060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Line 72"/>
            <p:cNvSpPr/>
            <p:nvPr/>
          </p:nvSpPr>
          <p:spPr>
            <a:xfrm rot="21430800">
              <a:off x="3807000" y="4132440"/>
              <a:ext cx="1339560" cy="164880"/>
            </a:xfrm>
            <a:prstGeom prst="line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 rot="21431400">
              <a:off x="5718240" y="3989160"/>
              <a:ext cx="250920" cy="1490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Line 65"/>
            <p:cNvSpPr/>
            <p:nvPr/>
          </p:nvSpPr>
          <p:spPr>
            <a:xfrm flipH="1" rot="21431400">
              <a:off x="5014080" y="4385880"/>
              <a:ext cx="222480" cy="1940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Oval 55"/>
            <p:cNvSpPr/>
            <p:nvPr/>
          </p:nvSpPr>
          <p:spPr>
            <a:xfrm rot="21430800">
              <a:off x="5195880" y="3978000"/>
              <a:ext cx="546120" cy="56988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1c43"/>
                  </a:solidFill>
                  <a:latin typeface="Arial Narrow"/>
                </a:rPr>
                <a:t>SRL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Oval 56"/>
            <p:cNvSpPr/>
            <p:nvPr/>
          </p:nvSpPr>
          <p:spPr>
            <a:xfrm rot="21430800">
              <a:off x="5943600" y="3659040"/>
              <a:ext cx="368280" cy="39060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Oval 57"/>
            <p:cNvSpPr/>
            <p:nvPr/>
          </p:nvSpPr>
          <p:spPr>
            <a:xfrm rot="21430800">
              <a:off x="5964120" y="4394160"/>
              <a:ext cx="368280" cy="39060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" name="Oval 58"/>
            <p:cNvSpPr/>
            <p:nvPr/>
          </p:nvSpPr>
          <p:spPr>
            <a:xfrm rot="21430800">
              <a:off x="5261040" y="3316320"/>
              <a:ext cx="369720" cy="3906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Oval 60"/>
            <p:cNvSpPr/>
            <p:nvPr/>
          </p:nvSpPr>
          <p:spPr>
            <a:xfrm rot="21430800">
              <a:off x="4672080" y="4503600"/>
              <a:ext cx="368280" cy="3906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Oval 61"/>
            <p:cNvSpPr/>
            <p:nvPr/>
          </p:nvSpPr>
          <p:spPr>
            <a:xfrm rot="21430800">
              <a:off x="4630680" y="3693960"/>
              <a:ext cx="368280" cy="3906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Line 64"/>
            <p:cNvSpPr/>
            <p:nvPr/>
          </p:nvSpPr>
          <p:spPr>
            <a:xfrm rot="21430800">
              <a:off x="4979520" y="3981240"/>
              <a:ext cx="204840" cy="16488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Line 67"/>
            <p:cNvSpPr/>
            <p:nvPr/>
          </p:nvSpPr>
          <p:spPr>
            <a:xfrm flipH="1" flipV="1" rot="21430800">
              <a:off x="5735160" y="4363560"/>
              <a:ext cx="250920" cy="1202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Oval 73"/>
            <p:cNvSpPr/>
            <p:nvPr/>
          </p:nvSpPr>
          <p:spPr>
            <a:xfrm>
              <a:off x="2881440" y="3548160"/>
              <a:ext cx="906480" cy="91584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41c43"/>
                  </a:solidFill>
                  <a:latin typeface="Arial Narrow"/>
                </a:rPr>
                <a:t>NRL</a:t>
              </a:r>
              <a:endParaRPr b="1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Line 37"/>
            <p:cNvSpPr/>
            <p:nvPr/>
          </p:nvSpPr>
          <p:spPr>
            <a:xfrm flipH="1" rot="227400">
              <a:off x="1991880" y="4516560"/>
              <a:ext cx="265320" cy="14580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 flipH="1" rot="227400">
              <a:off x="1200240" y="4809600"/>
              <a:ext cx="236520" cy="18720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Oval 29"/>
            <p:cNvSpPr/>
            <p:nvPr/>
          </p:nvSpPr>
          <p:spPr>
            <a:xfrm rot="226800">
              <a:off x="1417320" y="4460760"/>
              <a:ext cx="579240" cy="54936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1c43"/>
                  </a:solidFill>
                  <a:latin typeface="Arial Narrow"/>
                </a:rPr>
                <a:t>SRL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Oval 30"/>
            <p:cNvSpPr/>
            <p:nvPr/>
          </p:nvSpPr>
          <p:spPr>
            <a:xfrm rot="226800">
              <a:off x="2253960" y="4235040"/>
              <a:ext cx="392040" cy="37476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Oval 31"/>
            <p:cNvSpPr/>
            <p:nvPr/>
          </p:nvSpPr>
          <p:spPr>
            <a:xfrm rot="226800">
              <a:off x="2192040" y="4938480"/>
              <a:ext cx="390600" cy="37440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 rot="226800">
              <a:off x="1480680" y="5250960"/>
              <a:ext cx="392040" cy="37476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Oval 34"/>
            <p:cNvSpPr/>
            <p:nvPr/>
          </p:nvSpPr>
          <p:spPr>
            <a:xfrm rot="226800">
              <a:off x="812520" y="4890600"/>
              <a:ext cx="392040" cy="3733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Oval 35"/>
            <p:cNvSpPr/>
            <p:nvPr/>
          </p:nvSpPr>
          <p:spPr>
            <a:xfrm rot="226800">
              <a:off x="863280" y="4113000"/>
              <a:ext cx="392040" cy="37440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rot="226800">
              <a:off x="1755720" y="4232160"/>
              <a:ext cx="1800" cy="21744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 rot="226800">
              <a:off x="1211040" y="4420800"/>
              <a:ext cx="220680" cy="15732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" name="Line 41"/>
            <p:cNvSpPr/>
            <p:nvPr/>
          </p:nvSpPr>
          <p:spPr>
            <a:xfrm flipH="1" flipV="1" rot="226800">
              <a:off x="1969560" y="4876200"/>
              <a:ext cx="265320" cy="114120"/>
            </a:xfrm>
            <a:prstGeom prst="line">
              <a:avLst/>
            </a:prstGeom>
            <a:noFill/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" name="Oval 80"/>
            <p:cNvSpPr/>
            <p:nvPr/>
          </p:nvSpPr>
          <p:spPr>
            <a:xfrm rot="226800">
              <a:off x="1568160" y="3855600"/>
              <a:ext cx="392040" cy="37476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Arial Narrow"/>
                </a:rPr>
                <a:t>TS</a:t>
              </a:r>
              <a:endParaRPr b="1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ment Responsibilities:  Overview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91404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Determines policies for EQA (NACO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ssign responsibility (Apex (NARI, Pune), NRLS and SRLs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Establish and maintain a system for assessment visit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4200" indent="-212760">
              <a:lnSpc>
                <a:spcPct val="8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chedule visits (NACO and NRLs/SRLs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lvl="1" marL="214200" indent="-212760">
              <a:lnSpc>
                <a:spcPct val="80000"/>
              </a:lnSpc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onduct evaluations (Twice a year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Receive EQA results and support corrective action measures (NRLs and NACO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Monitor and maintain records(NRLSs and NACO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Investigate deficiencies (NRLS and NACO supervisory visits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Manage corrective action efforts (Site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ommunicate outcomes (Site to SRL to NRL to Apex to NACO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2DB6-91E0-4501-ABF8-4DD7B61E8F15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ing  Site (ICTC/PPTCT) Responsibilities:      Overview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752480"/>
            <a:ext cx="8229600" cy="217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articipate in the EQA program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ake corrective action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Maintain EQA records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Communicate outcomes to supervisors (SRL/NRL/SACS/Apex)</a:t>
            </a:r>
            <a:endParaRPr b="0" lang="en-US" sz="2000" spc="-1" strike="noStrike">
              <a:solidFill>
                <a:srgbClr val="041c43"/>
              </a:solidFill>
              <a:latin typeface="Book Antiqu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68C-148C-47EF-A5B4-7E44407BA460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lity assessment methods used in the National Program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58F2-0CC0-4001-8710-7B47A518F58C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3276720" y="1752480"/>
            <a:ext cx="2514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Proficiency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3276720" y="3048120"/>
            <a:ext cx="2514600" cy="1143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On-si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3276720" y="4419720"/>
            <a:ext cx="2514600" cy="1143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Re-checking/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6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Re-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Caitlin McQui;lling</cp:lastModifiedBy>
  <dcterms:modified xsi:type="dcterms:W3CDTF">2008-12-24T10:57:31Z</dcterms:modified>
  <cp:revision>385</cp:revision>
  <dc:subject/>
  <dc:title>Slide 1</dc:title>
</cp:coreProperties>
</file>