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BB5B-9161-47D0-84B6-39C3B61D12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F499-165D-4C12-80D8-F02CD62D85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2315-94B8-4D65-8131-8DE23EA59E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439A-5FF3-47E7-B389-DF0AE3C739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F586-9D70-465D-96D1-E31664A53F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7D55-7A8D-4AA4-ACE1-6B01EB389D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E59E-E4AD-47C7-9F0D-4CAE07AE18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D50E-F2A4-435B-9CE6-34788BA6D8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3862-1E82-4521-B18D-DB7BA80901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87B2-2B4D-4BF4-B2A0-83A596F4CD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5DE8-60DC-496C-ADC3-282DD865C9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2227-C77E-4514-8454-1E8E7F5D33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FBAA-7817-46F8-9E95-FE35EB6B2C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2A5-ABC4-42D0-AE8A-9EFB2A21DC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1FE9-2355-435A-B10C-898C992629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F806-E3FC-4191-B99F-0A070CD357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0: Inventory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8DAE-7F41-4E8B-8441-54E3C8F1BB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896616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00" y="3342240"/>
            <a:ext cx="896616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160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628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3160" y="123192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4720" y="123192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600" y="334224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3160" y="334224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4720" y="334224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F9E-2837-40A6-BF73-D5A06325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71600" y="1231920"/>
            <a:ext cx="896616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CC8-5438-451E-B1B8-9E473706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896616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FBC-D0DB-4352-8EE8-5DB6584C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170-90B9-4DF2-8BEF-CE846358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3C5-C323-4173-8575-7C8CC2E4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96616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055-5101-4146-B1B9-8DD9EC5C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60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845-A603-4985-B1B9-FB39007D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1600" y="1231920"/>
            <a:ext cx="896616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A6B-55D6-4341-B2B0-1A73064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600" y="3342240"/>
            <a:ext cx="896616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773-159C-44FC-82F8-2BC315FA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896616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00" y="3342240"/>
            <a:ext cx="896616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E35-B589-40AA-A8F1-A6D8CE3F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160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212-BED0-4F63-9091-101AC1C1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3160" y="123192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34720" y="123192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600" y="334224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3160" y="334224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34720" y="334224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411-9EBA-4C06-B1CE-8900ED4F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2E2DF-9749-4837-9A2C-8F51BE575E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71600" y="1231920"/>
            <a:ext cx="896616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1BBD9-1370-4BCE-8B70-8B4093443C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896616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27514-ADA6-49E1-B412-E365B96616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A5418-3C01-43E9-ACFF-5989DE86D2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30A9B-1D08-4E3D-AE74-249264A14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896616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96616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146AC-053E-4BA3-A9B1-616C71CA2D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60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2FBAB-73DA-4C65-AC1F-CF5870EDEF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6628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56C94-5455-4421-A4B4-BBB3CED4B0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1600" y="3342240"/>
            <a:ext cx="896616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688EE-D236-46C0-9A7E-ED2F73F71E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896616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600" y="3342240"/>
            <a:ext cx="896616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A7D03-5A8F-4478-976B-0376CA5B85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160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628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A9923-5824-4FA7-A442-78DBCFA6D7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3160" y="123192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34720" y="123192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600" y="334224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03160" y="334224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34720" y="3342240"/>
            <a:ext cx="28868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C0A84-8D88-4CCB-847E-9D712A807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96616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60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6280" y="334224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160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280" y="1231920"/>
            <a:ext cx="437544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600" y="3342240"/>
            <a:ext cx="896616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5"/>
          <p:cNvSpPr/>
          <p:nvPr/>
        </p:nvSpPr>
        <p:spPr>
          <a:xfrm>
            <a:off x="477720" y="6559560"/>
            <a:ext cx="880452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26"/>
          <p:cNvSpPr/>
          <p:nvPr/>
        </p:nvSpPr>
        <p:spPr>
          <a:xfrm>
            <a:off x="92080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6DDE2523-471D-450F-80BA-C9C3FFF2F8A0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1600" y="1231920"/>
            <a:ext cx="896616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Rectangle 80"/>
          <p:cNvSpPr/>
          <p:nvPr/>
        </p:nvSpPr>
        <p:spPr>
          <a:xfrm>
            <a:off x="0" y="0"/>
            <a:ext cx="990612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" name="Picture 2" descr="Naco"/>
          <p:cNvPicPr/>
          <p:nvPr/>
        </p:nvPicPr>
        <p:blipFill>
          <a:blip r:embed="rId2"/>
          <a:stretch/>
        </p:blipFill>
        <p:spPr>
          <a:xfrm>
            <a:off x="7677000" y="5689440"/>
            <a:ext cx="222912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5"/>
          <p:cNvSpPr/>
          <p:nvPr/>
        </p:nvSpPr>
        <p:spPr>
          <a:xfrm>
            <a:off x="477720" y="6559560"/>
            <a:ext cx="880452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92080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4AE99E69-E2A2-44B4-9E92-63BE1B5C6D0A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Rectangle 80"/>
          <p:cNvSpPr/>
          <p:nvPr/>
        </p:nvSpPr>
        <p:spPr>
          <a:xfrm>
            <a:off x="0" y="0"/>
            <a:ext cx="990612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5" name="Picture 2" descr="Naco"/>
          <p:cNvPicPr/>
          <p:nvPr/>
        </p:nvPicPr>
        <p:blipFill>
          <a:blip r:embed="rId2"/>
          <a:stretch/>
        </p:blipFill>
        <p:spPr>
          <a:xfrm>
            <a:off x="7677000" y="5689440"/>
            <a:ext cx="2229120" cy="116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71600" y="1231920"/>
            <a:ext cx="896616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404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6017-1B0D-476E-B37E-390910008D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75"/>
          <p:cNvSpPr/>
          <p:nvPr/>
        </p:nvSpPr>
        <p:spPr>
          <a:xfrm>
            <a:off x="477720" y="6559560"/>
            <a:ext cx="880452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92080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4E53D0C9-2733-445D-8358-D6636BAA3487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Rectangle 80"/>
          <p:cNvSpPr/>
          <p:nvPr/>
        </p:nvSpPr>
        <p:spPr>
          <a:xfrm>
            <a:off x="0" y="0"/>
            <a:ext cx="990612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0" name="Picture 2" descr="Naco"/>
          <p:cNvPicPr/>
          <p:nvPr/>
        </p:nvPicPr>
        <p:blipFill>
          <a:blip r:embed="rId2"/>
          <a:stretch/>
        </p:blipFill>
        <p:spPr>
          <a:xfrm>
            <a:off x="7677000" y="5689440"/>
            <a:ext cx="2229120" cy="1168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71600" y="1231920"/>
            <a:ext cx="896616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4"/>
          </p:nvPr>
        </p:nvSpPr>
        <p:spPr>
          <a:xfrm>
            <a:off x="7098840" y="6381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0987-FA8D-4A2C-88FE-A0D6B05E5950}" type="slidenum">
              <a:rPr b="1" lang="en-US" sz="2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2680" y="1294920"/>
            <a:ext cx="84200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/Stock 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33360" y="3165120"/>
            <a:ext cx="57531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Inventory/Stock Management</a:t>
            </a:r>
            <a:endParaRPr b="0" lang="en-US" sz="3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7680" y="25524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When to Re-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410920"/>
            <a:ext cx="84200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41c43"/>
                </a:solidFill>
                <a:uFillTx/>
                <a:latin typeface="Arial"/>
              </a:rPr>
              <a:t>Terminolog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inimum stock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-  Amount of stock required to support testing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operations until additional supplies are receiv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Lead time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– Time between placing an order and receiving i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aximum usage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– number of test kits used in a given time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63720" y="1295280"/>
            <a:ext cx="55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Re-order when stock reaches minimum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7680" y="15192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ing Minimum Stock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42680" y="3047760"/>
            <a:ext cx="8420040" cy="46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ffd91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Maximum lead time = 12 weeks</a:t>
            </a: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Maximum usage/wk = 3 kits </a:t>
            </a: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41c43"/>
                </a:solidFill>
                <a:latin typeface="Arial"/>
              </a:rPr>
              <a:t>Minimum stock level =  12 x 3 = 36 kits</a:t>
            </a:r>
            <a:r>
              <a:rPr b="1" lang="en-US" sz="2800" spc="-1" strike="noStrike">
                <a:solidFill>
                  <a:srgbClr val="ffd9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hen only 36 kits are left, place an order</a:t>
            </a: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577800" y="2046240"/>
            <a:ext cx="8254800" cy="980280"/>
            <a:chOff x="577800" y="2046240"/>
            <a:chExt cx="8254800" cy="980280"/>
          </a:xfrm>
        </p:grpSpPr>
        <p:sp>
          <p:nvSpPr>
            <p:cNvPr id="167" name="Text Box 10"/>
            <p:cNvSpPr/>
            <p:nvPr/>
          </p:nvSpPr>
          <p:spPr>
            <a:xfrm>
              <a:off x="3049560" y="21060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=</a:t>
              </a:r>
              <a:endParaRPr b="1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3560400" y="2186280"/>
              <a:ext cx="263592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1c43"/>
                  </a:solidFill>
                  <a:latin typeface="Arial Narrow"/>
                </a:rPr>
                <a:t>Maximum lead time in weeks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6427440" y="2171880"/>
              <a:ext cx="45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 Narrow"/>
                </a:rPr>
                <a:t>X</a:t>
              </a:r>
              <a:endParaRPr b="1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7020720" y="2186280"/>
              <a:ext cx="18118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1c43"/>
                  </a:solidFill>
                  <a:latin typeface="Arial Narrow"/>
                </a:rPr>
                <a:t>Maximum Usage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Text Box 14"/>
            <p:cNvGrpSpPr/>
            <p:nvPr/>
          </p:nvGrpSpPr>
          <p:grpSpPr>
            <a:xfrm>
              <a:off x="577800" y="2046240"/>
              <a:ext cx="2488320" cy="980280"/>
              <a:chOff x="577800" y="2046240"/>
              <a:chExt cx="2488320" cy="980280"/>
            </a:xfrm>
          </p:grpSpPr>
          <p:pic>
            <p:nvPicPr>
              <p:cNvPr id="172" name="Text Box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77800" y="2046240"/>
                <a:ext cx="2488320" cy="9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94720" y="2201040"/>
                <a:ext cx="2306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1c43"/>
                    </a:solidFill>
                    <a:latin typeface="Arial Narrow"/>
                  </a:rPr>
                  <a:t>Minimum Stock Level</a:t>
                </a: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7680" y="15192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How Much to Re-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72800" y="3276360"/>
            <a:ext cx="77598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Never order more than your storage space can hold</a:t>
            </a:r>
            <a:endParaRPr b="0" lang="en-US" sz="24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Never order more supplies than you can use before they are expired</a:t>
            </a:r>
            <a:endParaRPr b="0" lang="en-US" sz="24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Consider maximum usage plus minimum stock level and cost of shipping</a:t>
            </a:r>
            <a:endParaRPr b="0" lang="en-US" sz="24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20840" y="1828800"/>
            <a:ext cx="709920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1c43"/>
                </a:solidFill>
                <a:latin typeface="Arial Narrow"/>
              </a:rPr>
              <a:t>Establish proper full stock level.  Re-order to reach that level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750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Full Stock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240" y="2895120"/>
            <a:ext cx="4419720" cy="3279960"/>
          </a:xfrm>
          <a:prstGeom prst="rect">
            <a:avLst/>
          </a:prstGeom>
          <a:noFill/>
          <a:ln w="28440">
            <a:solidFill>
              <a:srgbClr val="041c43"/>
            </a:solidFill>
            <a:miter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aximum usage /wk =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tes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# tests / month =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0 x 4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80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tests used per month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1c43"/>
                </a:solidFill>
                <a:latin typeface="Arial"/>
              </a:rPr>
              <a:t>Assuming 20 tests per kit, how many kits are used per month?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80 / 20 = 14</a:t>
            </a: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403280" y="1447920"/>
            <a:ext cx="685188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 Narrow"/>
              </a:rPr>
              <a:t>Maintain stocks that cover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 Narrow"/>
              </a:rPr>
              <a:t>maximum usage plus minimum stock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Rectangle 23"/>
          <p:cNvSpPr/>
          <p:nvPr/>
        </p:nvSpPr>
        <p:spPr>
          <a:xfrm>
            <a:off x="5029200" y="3068640"/>
            <a:ext cx="4292640" cy="2658960"/>
          </a:xfrm>
          <a:prstGeom prst="rect">
            <a:avLst/>
          </a:prstGeom>
          <a:noFill/>
          <a:ln w="28440">
            <a:solidFill>
              <a:srgbClr val="041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Lead time = 12 weeks or 3 month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Minimum stock level = 14 kits x 3 months = 42 kit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Full stock = 42+14 = 56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You must always have 56 kits in stock at the beginning of each reorder cycl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7680" y="25524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ce Orders Properl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71600" y="1231920"/>
            <a:ext cx="8966160" cy="10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Follow the system used locally in state/ hospital to place order for supplies (Indent or some other system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aintain the record of the order (What, How much, When, To whom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7680" y="15192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pect Delivery of New Order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71600" y="1231560"/>
            <a:ext cx="896616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Upon receipt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Verify and tally the contents of order received with requisi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heck integrity of received supplie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ate each item receiv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Note expiration da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tore new shipment behind existing shipmen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reate or update record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06200"/>
            <a:ext cx="8750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ine Lot Number &amp; Expiry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lot05"/>
          <p:cNvPicPr/>
          <p:nvPr/>
        </p:nvPicPr>
        <p:blipFill>
          <a:blip r:embed="rId1"/>
          <a:stretch/>
        </p:blipFill>
        <p:spPr>
          <a:xfrm>
            <a:off x="471600" y="1231920"/>
            <a:ext cx="8966160" cy="1954080"/>
          </a:xfrm>
          <a:prstGeom prst="rect">
            <a:avLst/>
          </a:prstGeom>
          <a:ln w="0">
            <a:noFill/>
          </a:ln>
        </p:spPr>
      </p:pic>
      <p:sp>
        <p:nvSpPr>
          <p:cNvPr id="187" name="Oval 4"/>
          <p:cNvSpPr/>
          <p:nvPr/>
        </p:nvSpPr>
        <p:spPr>
          <a:xfrm>
            <a:off x="762120" y="2057400"/>
            <a:ext cx="2806560" cy="76032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5715000" y="1676520"/>
            <a:ext cx="2394000" cy="89856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6677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sure Proper Storage of Inven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04920" y="1219320"/>
            <a:ext cx="838188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Keep in a clean, organized, and locked storeroom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Store according to manufacturer’s instructions (in case of kits, appropriate temperature of storage is essential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Place in a well ventilated room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Store away from direct sunligh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Organize existing and new shipments by expiration da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41c43"/>
                </a:solidFill>
                <a:latin typeface="Wingdings"/>
                <a:ea typeface="Wingdings"/>
              </a:rPr>
              <a:t></a:t>
            </a:r>
            <a:r>
              <a:rPr b="1" lang="en-US" sz="2500" spc="-1" strike="noStrike">
                <a:solidFill>
                  <a:srgbClr val="041c43"/>
                </a:solidFill>
                <a:latin typeface="Arial"/>
                <a:ea typeface="Arial"/>
              </a:rPr>
              <a:t>First expiry, first out</a:t>
            </a:r>
            <a:endParaRPr b="1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The kits that are expiring at an earlier date must be used firs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7680" y="25524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-home Mess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71600" y="1231920"/>
            <a:ext cx="8966160" cy="34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8600" indent="-6786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aintain an adequate inventory at all times to ensure uninterrupted service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678600" indent="-6786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on’t let any item run out before re-order.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678600" indent="-6786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Never order more than your storage space can hold. Never order more supplies than you can use before they are expired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678600" indent="-6786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ll items in the inventory must be accounted for and recorded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678600" indent="-6786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lways inspect new shipment before accepting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7680" y="22824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52280" y="1219320"/>
            <a:ext cx="9601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"/>
                <a:ea typeface="Arial"/>
              </a:rPr>
              <a:t>Inventory</a:t>
            </a:r>
            <a:r>
              <a:rPr b="0" lang="en-US" sz="2800" spc="-1" strike="noStrike">
                <a:solidFill>
                  <a:srgbClr val="041c43"/>
                </a:solidFill>
                <a:latin typeface="Arial"/>
                <a:ea typeface="Arial"/>
              </a:rPr>
              <a:t> is the listing of items which are available and used in the ICTC lab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"/>
                <a:ea typeface="Arial"/>
              </a:rPr>
              <a:t>Stock</a:t>
            </a:r>
            <a:r>
              <a:rPr b="0" lang="en-US" sz="2800" spc="-1" strike="noStrike">
                <a:solidFill>
                  <a:srgbClr val="041c43"/>
                </a:solidFill>
                <a:latin typeface="Arial"/>
                <a:ea typeface="Arial"/>
              </a:rPr>
              <a:t> is the record of quantity of items procured and their statu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"/>
                <a:ea typeface="Arial"/>
              </a:rPr>
              <a:t>Inventory/stock management </a:t>
            </a:r>
            <a:r>
              <a:rPr b="0" lang="en-US" sz="2800" spc="-1" strike="noStrike">
                <a:solidFill>
                  <a:srgbClr val="041c43"/>
                </a:solidFill>
                <a:latin typeface="Arial"/>
                <a:ea typeface="Arial"/>
              </a:rPr>
              <a:t>is to properly maintain adequate supplies to ensure uninterrupted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7680" y="25524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3440" y="1142640"/>
            <a:ext cx="9437760" cy="48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o know what is Inventory/stock management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o know record keeping of items being used at the site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o know when to re-order, and how much to reorder (levels)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o know how to receive (what all to record and how to physically examine) consumables  and kits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o know how to store consumables, kits and reagents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400" y="0"/>
            <a:ext cx="96580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/Stock Management Leads to High Quality Testing, minimizes was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000" y="1874520"/>
            <a:ext cx="8915400" cy="15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sures availability of materials and kits, when need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voids the use of expired ki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inimizes wastag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55240"/>
            <a:ext cx="8420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/Stock Management Involves…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1219320"/>
            <a:ext cx="842004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28120" indent="-5281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erforming a “stock count”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528120" indent="-5281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aintaining proper inventory record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528120" indent="-5281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etermining when to re-orde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528120" indent="-5281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etermining how much to re-orde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528120" indent="-5281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lacing orders proper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528120" indent="-5281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specting delivery of new orde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528120" indent="-5281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suring proper storage of stock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2004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 a “Stock Coun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19040" y="1378080"/>
          <a:ext cx="8420040" cy="3274920"/>
        </p:xfrm>
        <a:graphic>
          <a:graphicData uri="http://schemas.openxmlformats.org/drawingml/2006/table">
            <a:tbl>
              <a:tblPr/>
              <a:tblGrid>
                <a:gridCol w="2971800"/>
                <a:gridCol w="54482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What is it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Physically counting each item in the stock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When is it done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24"/>
                        </a:spcAft>
                        <a:buClr>
                          <a:srgbClr val="041c4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Each time a new kit is issued – record status of utiliz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624"/>
                        </a:spcAft>
                        <a:buClr>
                          <a:srgbClr val="041c4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624"/>
                        </a:spcAft>
                        <a:buClr>
                          <a:srgbClr val="041c4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At the beginning of each mont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Who does it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A  designated pers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5"/>
          <p:cNvSpPr/>
          <p:nvPr/>
        </p:nvSpPr>
        <p:spPr>
          <a:xfrm>
            <a:off x="380880" y="52578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  <a:ea typeface="Arial"/>
              </a:rPr>
              <a:t>All items must be accounted for.  Everything that comes in and goes out must be recorded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7505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tain Proper Inventory Rec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676160"/>
            <a:ext cx="801396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41c43"/>
                </a:solidFill>
                <a:uFillTx/>
                <a:latin typeface="Arial"/>
              </a:rPr>
              <a:t>Stock Book/Register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ontains listing of all items in the stor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Update monthly after physical coun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Use information from stock card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Also called registe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420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ck Book/Register: A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4" descr=""/>
          <p:cNvPicPr/>
          <p:nvPr/>
        </p:nvPicPr>
        <p:blipFill>
          <a:blip r:embed="rId1"/>
          <a:stretch/>
        </p:blipFill>
        <p:spPr>
          <a:xfrm>
            <a:off x="76320" y="919080"/>
            <a:ext cx="8345520" cy="5862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5" descr=""/>
          <p:cNvPicPr/>
          <p:nvPr/>
        </p:nvPicPr>
        <p:blipFill>
          <a:blip r:embed="rId2"/>
          <a:stretch/>
        </p:blipFill>
        <p:spPr>
          <a:xfrm>
            <a:off x="8326440" y="4114800"/>
            <a:ext cx="1579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7680" y="151920"/>
            <a:ext cx="896616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ciling Stock with Rec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5635440"/>
            <a:ext cx="81532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hat should be done to minimize wastage?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152280" y="2286000"/>
            <a:ext cx="2057400" cy="914400"/>
          </a:xfrm>
          <a:prstGeom prst="ellipse">
            <a:avLst/>
          </a:prstGeom>
          <a:solidFill>
            <a:srgbClr val="0a47ab"/>
          </a:solidFill>
          <a:ln w="9360">
            <a:solidFill>
              <a:srgbClr val="041c43"/>
            </a:solidFill>
            <a:miter/>
          </a:ln>
          <a:effectLst>
            <a:outerShdw dist="17819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Ide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28600" y="3657600"/>
            <a:ext cx="2057400" cy="9144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41c4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Re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362320" y="2362320"/>
            <a:ext cx="7162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# Tests Performed + Controls = Stock Deple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14600" y="3809880"/>
            <a:ext cx="7391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# Test Performed + controls + wastage = Stock 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   Deple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Caitlin McQui;lling</cp:lastModifiedBy>
  <dcterms:modified xsi:type="dcterms:W3CDTF">2008-12-26T08:42:09Z</dcterms:modified>
  <cp:revision>344</cp:revision>
  <dc:subject/>
  <dc:title>Slide 1</dc:title>
</cp:coreProperties>
</file>